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  <p:sldId id="302" r:id="rId62"/>
    <p:sldId id="303" r:id="rId63"/>
    <p:sldId id="304" r:id="rId64"/>
    <p:sldId id="305" r:id="rId65"/>
    <p:sldId id="306" r:id="rId66"/>
    <p:sldId id="307" r:id="rId67"/>
    <p:sldId id="308" r:id="rId68"/>
    <p:sldId id="309" r:id="rId69"/>
    <p:sldId id="310" r:id="rId70"/>
    <p:sldId id="311" r:id="rId71"/>
    <p:sldId id="312" r:id="rId72"/>
    <p:sldId id="313" r:id="rId73"/>
    <p:sldId id="314" r:id="rId74"/>
    <p:sldId id="315" r:id="rId75"/>
    <p:sldId id="316" r:id="rId76"/>
    <p:sldId id="317" r:id="rId77"/>
    <p:sldId id="318" r:id="rId78"/>
    <p:sldId id="319" r:id="rId79"/>
    <p:sldId id="320" r:id="rId80"/>
    <p:sldId id="321" r:id="rId81"/>
    <p:sldId id="322" r:id="rId82"/>
    <p:sldId id="323" r:id="rId83"/>
    <p:sldId id="324" r:id="rId84"/>
    <p:sldId id="325" r:id="rId85"/>
    <p:sldId id="326" r:id="rId86"/>
    <p:sldId id="327" r:id="rId87"/>
    <p:sldId id="328" r:id="rId88"/>
    <p:sldId id="329" r:id="rId89"/>
    <p:sldId id="330" r:id="rId90"/>
    <p:sldId id="331" r:id="rId91"/>
    <p:sldId id="332" r:id="rId92"/>
    <p:sldId id="333" r:id="rId93"/>
    <p:sldId id="334" r:id="rId94"/>
    <p:sldId id="335" r:id="rId95"/>
    <p:sldId id="336" r:id="rId96"/>
    <p:sldId id="337" r:id="rId97"/>
    <p:sldId id="338" r:id="rId98"/>
    <p:sldId id="339" r:id="rId99"/>
    <p:sldId id="340" r:id="rId100"/>
    <p:sldId id="341" r:id="rId101"/>
    <p:sldId id="342" r:id="rId102"/>
    <p:sldId id="343" r:id="rId103"/>
    <p:sldId id="344" r:id="rId104"/>
    <p:sldId id="345" r:id="rId105"/>
    <p:sldId id="346" r:id="rId106"/>
    <p:sldId id="347" r:id="rId107"/>
    <p:sldId id="348" r:id="rId108"/>
    <p:sldId id="349" r:id="rId109"/>
    <p:sldId id="350" r:id="rId110"/>
    <p:sldId id="351" r:id="rId111"/>
    <p:sldId id="352" r:id="rId112"/>
    <p:sldId id="353" r:id="rId113"/>
    <p:sldId id="354" r:id="rId114"/>
    <p:sldId id="355" r:id="rId115"/>
    <p:sldId id="356" r:id="rId116"/>
    <p:sldId id="357" r:id="rId117"/>
    <p:sldId id="358" r:id="rId118"/>
    <p:sldId id="359" r:id="rId119"/>
    <p:sldId id="360" r:id="rId120"/>
    <p:sldId id="361" r:id="rId121"/>
    <p:sldId id="362" r:id="rId122"/>
    <p:sldId id="363" r:id="rId123"/>
    <p:sldId id="364" r:id="rId124"/>
    <p:sldId id="365" r:id="rId125"/>
    <p:sldId id="366" r:id="rId126"/>
    <p:sldId id="367" r:id="rId1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slide" Target="slides/slide47.xml"/><Relationship Id="rId63" Type="http://schemas.openxmlformats.org/officeDocument/2006/relationships/slide" Target="slides/slide48.xml"/><Relationship Id="rId64" Type="http://schemas.openxmlformats.org/officeDocument/2006/relationships/slide" Target="slides/slide49.xml"/><Relationship Id="rId65" Type="http://schemas.openxmlformats.org/officeDocument/2006/relationships/slide" Target="slides/slide50.xml"/><Relationship Id="rId66" Type="http://schemas.openxmlformats.org/officeDocument/2006/relationships/slide" Target="slides/slide51.xml"/><Relationship Id="rId67" Type="http://schemas.openxmlformats.org/officeDocument/2006/relationships/slide" Target="slides/slide52.xml"/><Relationship Id="rId68" Type="http://schemas.openxmlformats.org/officeDocument/2006/relationships/slide" Target="slides/slide53.xml"/><Relationship Id="rId69" Type="http://schemas.openxmlformats.org/officeDocument/2006/relationships/slide" Target="slides/slide54.xml"/><Relationship Id="rId70" Type="http://schemas.openxmlformats.org/officeDocument/2006/relationships/slide" Target="slides/slide55.xml"/><Relationship Id="rId71" Type="http://schemas.openxmlformats.org/officeDocument/2006/relationships/slide" Target="slides/slide56.xml"/><Relationship Id="rId72" Type="http://schemas.openxmlformats.org/officeDocument/2006/relationships/slide" Target="slides/slide57.xml"/><Relationship Id="rId73" Type="http://schemas.openxmlformats.org/officeDocument/2006/relationships/slide" Target="slides/slide58.xml"/><Relationship Id="rId74" Type="http://schemas.openxmlformats.org/officeDocument/2006/relationships/slide" Target="slides/slide59.xml"/><Relationship Id="rId75" Type="http://schemas.openxmlformats.org/officeDocument/2006/relationships/slide" Target="slides/slide60.xml"/><Relationship Id="rId76" Type="http://schemas.openxmlformats.org/officeDocument/2006/relationships/slide" Target="slides/slide61.xml"/><Relationship Id="rId77" Type="http://schemas.openxmlformats.org/officeDocument/2006/relationships/slide" Target="slides/slide62.xml"/><Relationship Id="rId78" Type="http://schemas.openxmlformats.org/officeDocument/2006/relationships/slide" Target="slides/slide63.xml"/><Relationship Id="rId79" Type="http://schemas.openxmlformats.org/officeDocument/2006/relationships/slide" Target="slides/slide64.xml"/><Relationship Id="rId80" Type="http://schemas.openxmlformats.org/officeDocument/2006/relationships/slide" Target="slides/slide65.xml"/><Relationship Id="rId81" Type="http://schemas.openxmlformats.org/officeDocument/2006/relationships/slide" Target="slides/slide66.xml"/><Relationship Id="rId82" Type="http://schemas.openxmlformats.org/officeDocument/2006/relationships/slide" Target="slides/slide67.xml"/><Relationship Id="rId83" Type="http://schemas.openxmlformats.org/officeDocument/2006/relationships/slide" Target="slides/slide68.xml"/><Relationship Id="rId84" Type="http://schemas.openxmlformats.org/officeDocument/2006/relationships/slide" Target="slides/slide69.xml"/><Relationship Id="rId85" Type="http://schemas.openxmlformats.org/officeDocument/2006/relationships/slide" Target="slides/slide70.xml"/><Relationship Id="rId86" Type="http://schemas.openxmlformats.org/officeDocument/2006/relationships/slide" Target="slides/slide71.xml"/><Relationship Id="rId87" Type="http://schemas.openxmlformats.org/officeDocument/2006/relationships/slide" Target="slides/slide72.xml"/><Relationship Id="rId88" Type="http://schemas.openxmlformats.org/officeDocument/2006/relationships/slide" Target="slides/slide73.xml"/><Relationship Id="rId89" Type="http://schemas.openxmlformats.org/officeDocument/2006/relationships/slide" Target="slides/slide74.xml"/><Relationship Id="rId90" Type="http://schemas.openxmlformats.org/officeDocument/2006/relationships/slide" Target="slides/slide75.xml"/><Relationship Id="rId91" Type="http://schemas.openxmlformats.org/officeDocument/2006/relationships/slide" Target="slides/slide76.xml"/><Relationship Id="rId92" Type="http://schemas.openxmlformats.org/officeDocument/2006/relationships/slide" Target="slides/slide77.xml"/><Relationship Id="rId93" Type="http://schemas.openxmlformats.org/officeDocument/2006/relationships/slide" Target="slides/slide78.xml"/><Relationship Id="rId94" Type="http://schemas.openxmlformats.org/officeDocument/2006/relationships/slide" Target="slides/slide79.xml"/><Relationship Id="rId95" Type="http://schemas.openxmlformats.org/officeDocument/2006/relationships/slide" Target="slides/slide80.xml"/><Relationship Id="rId96" Type="http://schemas.openxmlformats.org/officeDocument/2006/relationships/slide" Target="slides/slide81.xml"/><Relationship Id="rId97" Type="http://schemas.openxmlformats.org/officeDocument/2006/relationships/slide" Target="slides/slide82.xml"/><Relationship Id="rId98" Type="http://schemas.openxmlformats.org/officeDocument/2006/relationships/slide" Target="slides/slide83.xml"/><Relationship Id="rId99" Type="http://schemas.openxmlformats.org/officeDocument/2006/relationships/slide" Target="slides/slide84.xml"/><Relationship Id="rId100" Type="http://schemas.openxmlformats.org/officeDocument/2006/relationships/slide" Target="slides/slide85.xml"/><Relationship Id="rId101" Type="http://schemas.openxmlformats.org/officeDocument/2006/relationships/slide" Target="slides/slide86.xml"/><Relationship Id="rId102" Type="http://schemas.openxmlformats.org/officeDocument/2006/relationships/slide" Target="slides/slide87.xml"/><Relationship Id="rId103" Type="http://schemas.openxmlformats.org/officeDocument/2006/relationships/slide" Target="slides/slide88.xml"/><Relationship Id="rId104" Type="http://schemas.openxmlformats.org/officeDocument/2006/relationships/slide" Target="slides/slide89.xml"/><Relationship Id="rId105" Type="http://schemas.openxmlformats.org/officeDocument/2006/relationships/slide" Target="slides/slide90.xml"/><Relationship Id="rId106" Type="http://schemas.openxmlformats.org/officeDocument/2006/relationships/slide" Target="slides/slide91.xml"/><Relationship Id="rId107" Type="http://schemas.openxmlformats.org/officeDocument/2006/relationships/slide" Target="slides/slide92.xml"/><Relationship Id="rId108" Type="http://schemas.openxmlformats.org/officeDocument/2006/relationships/slide" Target="slides/slide93.xml"/><Relationship Id="rId109" Type="http://schemas.openxmlformats.org/officeDocument/2006/relationships/slide" Target="slides/slide94.xml"/><Relationship Id="rId110" Type="http://schemas.openxmlformats.org/officeDocument/2006/relationships/slide" Target="slides/slide95.xml"/><Relationship Id="rId111" Type="http://schemas.openxmlformats.org/officeDocument/2006/relationships/slide" Target="slides/slide96.xml"/><Relationship Id="rId112" Type="http://schemas.openxmlformats.org/officeDocument/2006/relationships/slide" Target="slides/slide97.xml"/><Relationship Id="rId113" Type="http://schemas.openxmlformats.org/officeDocument/2006/relationships/slide" Target="slides/slide98.xml"/><Relationship Id="rId114" Type="http://schemas.openxmlformats.org/officeDocument/2006/relationships/slide" Target="slides/slide99.xml"/><Relationship Id="rId115" Type="http://schemas.openxmlformats.org/officeDocument/2006/relationships/slide" Target="slides/slide100.xml"/><Relationship Id="rId116" Type="http://schemas.openxmlformats.org/officeDocument/2006/relationships/slide" Target="slides/slide101.xml"/><Relationship Id="rId117" Type="http://schemas.openxmlformats.org/officeDocument/2006/relationships/slide" Target="slides/slide102.xml"/><Relationship Id="rId118" Type="http://schemas.openxmlformats.org/officeDocument/2006/relationships/slide" Target="slides/slide103.xml"/><Relationship Id="rId119" Type="http://schemas.openxmlformats.org/officeDocument/2006/relationships/slide" Target="slides/slide104.xml"/><Relationship Id="rId120" Type="http://schemas.openxmlformats.org/officeDocument/2006/relationships/slide" Target="slides/slide105.xml"/><Relationship Id="rId121" Type="http://schemas.openxmlformats.org/officeDocument/2006/relationships/slide" Target="slides/slide106.xml"/><Relationship Id="rId122" Type="http://schemas.openxmlformats.org/officeDocument/2006/relationships/slide" Target="slides/slide107.xml"/><Relationship Id="rId123" Type="http://schemas.openxmlformats.org/officeDocument/2006/relationships/slide" Target="slides/slide108.xml"/><Relationship Id="rId124" Type="http://schemas.openxmlformats.org/officeDocument/2006/relationships/slide" Target="slides/slide109.xml"/><Relationship Id="rId125" Type="http://schemas.openxmlformats.org/officeDocument/2006/relationships/slide" Target="slides/slide110.xml"/><Relationship Id="rId126" Type="http://schemas.openxmlformats.org/officeDocument/2006/relationships/slide" Target="slides/slide111.xml"/><Relationship Id="rId127" Type="http://schemas.openxmlformats.org/officeDocument/2006/relationships/slide" Target="slides/slide112.xml"/><Relationship Id="rId1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r>
              <a:rPr b="1" lang="en-US" sz="4400" spc="-1" strike="noStrike">
                <a:solidFill>
                  <a:srgbClr val="7f7f7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9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9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9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Rectangle 1026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Rectangle 102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Rectangle 1028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Rectangle 102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550440" y="142560"/>
            <a:ext cx="7983720" cy="36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771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39864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1143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771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39864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50440" y="142560"/>
            <a:ext cx="7983720" cy="36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71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9864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43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71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9864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771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39864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1143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771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39864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550440" y="142560"/>
            <a:ext cx="7983720" cy="36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771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39864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1143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771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39864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550440" y="142560"/>
            <a:ext cx="7983720" cy="36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771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39864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1143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771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39864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550440" y="142560"/>
            <a:ext cx="7983720" cy="36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771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39864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1143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771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39864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50440" y="142560"/>
            <a:ext cx="7983720" cy="36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771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9864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143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771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9864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550440" y="142560"/>
            <a:ext cx="7983720" cy="36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771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39864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143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771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39864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550440" y="142560"/>
            <a:ext cx="7983720" cy="36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771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39864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1143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771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39864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550440" y="142560"/>
            <a:ext cx="7983720" cy="36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50440" y="142560"/>
            <a:ext cx="7983720" cy="36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771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39864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1143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771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39864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550440" y="142560"/>
            <a:ext cx="7983720" cy="36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771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39864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1143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771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39864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550440" y="142560"/>
            <a:ext cx="7983720" cy="36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771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39864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1143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771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39864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50440" y="142560"/>
            <a:ext cx="7983720" cy="36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771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39864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1143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771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39864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616680" indent="-237240">
              <a:spcBef>
                <a:spcPts val="20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2" marL="94860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3" marL="132804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4" marL="1707480" indent="-189720"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5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6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" name="Line 14"/>
          <p:cNvSpPr/>
          <p:nvPr/>
        </p:nvSpPr>
        <p:spPr>
          <a:xfrm>
            <a:off x="349200" y="1000080"/>
            <a:ext cx="83581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600" spc="-1" strike="noStrike">
                <a:solidFill>
                  <a:srgbClr val="7f7f7f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13 Conector recto"/>
          <p:cNvSpPr/>
          <p:nvPr/>
        </p:nvSpPr>
        <p:spPr>
          <a:xfrm>
            <a:off x="457200" y="6496200"/>
            <a:ext cx="8229600" cy="0"/>
          </a:xfrm>
          <a:prstGeom prst="line">
            <a:avLst/>
          </a:prstGeom>
          <a:ln w="9360">
            <a:solidFill>
              <a:srgbClr val="99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14 Triángulo isósceles"/>
          <p:cNvSpPr/>
          <p:nvPr/>
        </p:nvSpPr>
        <p:spPr>
          <a:xfrm rot="5400000">
            <a:off x="133200" y="6619680"/>
            <a:ext cx="190440" cy="12096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15 Rectángulo"/>
          <p:cNvSpPr/>
          <p:nvPr/>
        </p:nvSpPr>
        <p:spPr>
          <a:xfrm>
            <a:off x="6324480" y="6521400"/>
            <a:ext cx="27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GECO – Microeconomía I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Line 14"/>
          <p:cNvSpPr/>
          <p:nvPr/>
        </p:nvSpPr>
        <p:spPr>
          <a:xfrm>
            <a:off x="349200" y="1000080"/>
            <a:ext cx="83581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13 Conector recto"/>
          <p:cNvSpPr/>
          <p:nvPr/>
        </p:nvSpPr>
        <p:spPr>
          <a:xfrm>
            <a:off x="457200" y="6496200"/>
            <a:ext cx="8229600" cy="0"/>
          </a:xfrm>
          <a:prstGeom prst="line">
            <a:avLst/>
          </a:prstGeom>
          <a:ln w="9360">
            <a:solidFill>
              <a:srgbClr val="99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14 Triángulo isósceles"/>
          <p:cNvSpPr/>
          <p:nvPr/>
        </p:nvSpPr>
        <p:spPr>
          <a:xfrm rot="5400000">
            <a:off x="133200" y="6619680"/>
            <a:ext cx="190440" cy="12096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15 Rectángulo"/>
          <p:cNvSpPr/>
          <p:nvPr/>
        </p:nvSpPr>
        <p:spPr>
          <a:xfrm>
            <a:off x="6324480" y="6521400"/>
            <a:ext cx="27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GECO – Microeconomía I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616680" indent="-237240">
              <a:spcBef>
                <a:spcPts val="20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2" marL="94860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3" marL="132804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4" marL="1707480" indent="-189720"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5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6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ftr" idx="10"/>
          </p:nvPr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600" spc="-1" strike="noStrike">
                <a:solidFill>
                  <a:srgbClr val="7f7f7f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Line 14"/>
          <p:cNvSpPr/>
          <p:nvPr/>
        </p:nvSpPr>
        <p:spPr>
          <a:xfrm>
            <a:off x="349200" y="1000080"/>
            <a:ext cx="83581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13 Conector recto"/>
          <p:cNvSpPr/>
          <p:nvPr/>
        </p:nvSpPr>
        <p:spPr>
          <a:xfrm>
            <a:off x="457200" y="6496200"/>
            <a:ext cx="8229600" cy="0"/>
          </a:xfrm>
          <a:prstGeom prst="line">
            <a:avLst/>
          </a:prstGeom>
          <a:ln w="9360">
            <a:solidFill>
              <a:srgbClr val="99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14 Triángulo isósceles"/>
          <p:cNvSpPr/>
          <p:nvPr/>
        </p:nvSpPr>
        <p:spPr>
          <a:xfrm rot="5400000">
            <a:off x="133200" y="6619680"/>
            <a:ext cx="190440" cy="12096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15 Rectángulo"/>
          <p:cNvSpPr/>
          <p:nvPr/>
        </p:nvSpPr>
        <p:spPr>
          <a:xfrm>
            <a:off x="6324480" y="6521400"/>
            <a:ext cx="27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GECO – Microeconomía I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616680" indent="-237240">
              <a:spcBef>
                <a:spcPts val="20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2" marL="94860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3" marL="132804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4" marL="1707480" indent="-189720"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5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6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ftr" idx="11"/>
          </p:nvPr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600" spc="-1" strike="noStrike">
                <a:solidFill>
                  <a:srgbClr val="7f7f7f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Line 14"/>
          <p:cNvSpPr/>
          <p:nvPr/>
        </p:nvSpPr>
        <p:spPr>
          <a:xfrm>
            <a:off x="349200" y="1000080"/>
            <a:ext cx="83581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13 Conector recto"/>
          <p:cNvSpPr/>
          <p:nvPr/>
        </p:nvSpPr>
        <p:spPr>
          <a:xfrm>
            <a:off x="457200" y="6496200"/>
            <a:ext cx="8229600" cy="0"/>
          </a:xfrm>
          <a:prstGeom prst="line">
            <a:avLst/>
          </a:prstGeom>
          <a:ln w="9360">
            <a:solidFill>
              <a:srgbClr val="99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14 Triángulo isósceles"/>
          <p:cNvSpPr/>
          <p:nvPr/>
        </p:nvSpPr>
        <p:spPr>
          <a:xfrm rot="5400000">
            <a:off x="133200" y="6619680"/>
            <a:ext cx="190440" cy="12096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15 Rectángulo"/>
          <p:cNvSpPr/>
          <p:nvPr/>
        </p:nvSpPr>
        <p:spPr>
          <a:xfrm>
            <a:off x="6324480" y="6521400"/>
            <a:ext cx="27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GECO – Microeconomía I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616680" indent="-237240">
              <a:spcBef>
                <a:spcPts val="20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2" marL="94860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3" marL="132804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4" marL="1707480" indent="-189720"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5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6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ftr" idx="12"/>
          </p:nvPr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600" spc="-1" strike="noStrike">
                <a:solidFill>
                  <a:srgbClr val="7f7f7f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Line 14"/>
          <p:cNvSpPr/>
          <p:nvPr/>
        </p:nvSpPr>
        <p:spPr>
          <a:xfrm>
            <a:off x="349200" y="1000080"/>
            <a:ext cx="83581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13 Conector recto"/>
          <p:cNvSpPr/>
          <p:nvPr/>
        </p:nvSpPr>
        <p:spPr>
          <a:xfrm>
            <a:off x="457200" y="6496200"/>
            <a:ext cx="8229600" cy="0"/>
          </a:xfrm>
          <a:prstGeom prst="line">
            <a:avLst/>
          </a:prstGeom>
          <a:ln w="9360">
            <a:solidFill>
              <a:srgbClr val="99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14 Triángulo isósceles"/>
          <p:cNvSpPr/>
          <p:nvPr/>
        </p:nvSpPr>
        <p:spPr>
          <a:xfrm rot="5400000">
            <a:off x="133200" y="6619680"/>
            <a:ext cx="190440" cy="12096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15 Rectángulo"/>
          <p:cNvSpPr/>
          <p:nvPr/>
        </p:nvSpPr>
        <p:spPr>
          <a:xfrm>
            <a:off x="6324480" y="6521400"/>
            <a:ext cx="27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GECO – Microeconomía I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616680" indent="-237240">
              <a:spcBef>
                <a:spcPts val="20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2" marL="94860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3" marL="132804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4" marL="1707480" indent="-189720"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5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6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ftr" idx="13"/>
          </p:nvPr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600" spc="-1" strike="noStrike">
                <a:solidFill>
                  <a:srgbClr val="7f7f7f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14"/>
          <p:cNvSpPr/>
          <p:nvPr/>
        </p:nvSpPr>
        <p:spPr>
          <a:xfrm>
            <a:off x="349200" y="1000080"/>
            <a:ext cx="83581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13 Conector recto"/>
          <p:cNvSpPr/>
          <p:nvPr/>
        </p:nvSpPr>
        <p:spPr>
          <a:xfrm>
            <a:off x="457200" y="6496200"/>
            <a:ext cx="8229600" cy="0"/>
          </a:xfrm>
          <a:prstGeom prst="line">
            <a:avLst/>
          </a:prstGeom>
          <a:ln w="9360">
            <a:solidFill>
              <a:srgbClr val="99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14 Triángulo isósceles"/>
          <p:cNvSpPr/>
          <p:nvPr/>
        </p:nvSpPr>
        <p:spPr>
          <a:xfrm rot="5400000">
            <a:off x="133200" y="6619680"/>
            <a:ext cx="190440" cy="12096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15 Rectángulo"/>
          <p:cNvSpPr/>
          <p:nvPr/>
        </p:nvSpPr>
        <p:spPr>
          <a:xfrm>
            <a:off x="6324480" y="6521400"/>
            <a:ext cx="27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GECO – Microeconomía I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6 Imagen" descr="Untitled.jpg"/>
          <p:cNvPicPr/>
          <p:nvPr/>
        </p:nvPicPr>
        <p:blipFill>
          <a:blip r:embed="rId2"/>
          <a:stretch/>
        </p:blipFill>
        <p:spPr>
          <a:xfrm>
            <a:off x="0" y="3191040"/>
            <a:ext cx="3457440" cy="3666960"/>
          </a:xfrm>
          <a:prstGeom prst="rect">
            <a:avLst/>
          </a:prstGeom>
          <a:ln w="0">
            <a:noFill/>
          </a:ln>
        </p:spPr>
      </p:pic>
      <p:sp>
        <p:nvSpPr>
          <p:cNvPr id="48" name="9 Rectángulo"/>
          <p:cNvSpPr/>
          <p:nvPr/>
        </p:nvSpPr>
        <p:spPr>
          <a:xfrm>
            <a:off x="0" y="3214800"/>
            <a:ext cx="3500280" cy="3643200"/>
          </a:xfrm>
          <a:prstGeom prst="rect">
            <a:avLst/>
          </a:prstGeom>
          <a:solidFill>
            <a:srgbClr val="ffffe1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616680" indent="-237240">
              <a:spcBef>
                <a:spcPts val="20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2" marL="94860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3" marL="132804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4" marL="1707480" indent="-189720"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5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6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2"/>
          </p:nvPr>
        </p:nvSpPr>
        <p:spPr>
          <a:xfrm>
            <a:off x="525600" y="6515280"/>
            <a:ext cx="5551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600" spc="-1" strike="noStrike">
                <a:solidFill>
                  <a:srgbClr val="7f7f7f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Line 14"/>
          <p:cNvSpPr/>
          <p:nvPr/>
        </p:nvSpPr>
        <p:spPr>
          <a:xfrm>
            <a:off x="349200" y="1000080"/>
            <a:ext cx="83581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13 Conector recto"/>
          <p:cNvSpPr/>
          <p:nvPr/>
        </p:nvSpPr>
        <p:spPr>
          <a:xfrm>
            <a:off x="457200" y="6496200"/>
            <a:ext cx="8229600" cy="0"/>
          </a:xfrm>
          <a:prstGeom prst="line">
            <a:avLst/>
          </a:prstGeom>
          <a:ln w="9360">
            <a:solidFill>
              <a:srgbClr val="99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14 Triángulo isósceles"/>
          <p:cNvSpPr/>
          <p:nvPr/>
        </p:nvSpPr>
        <p:spPr>
          <a:xfrm rot="5400000">
            <a:off x="133200" y="6619680"/>
            <a:ext cx="190440" cy="12096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15 Rectángulo"/>
          <p:cNvSpPr/>
          <p:nvPr/>
        </p:nvSpPr>
        <p:spPr>
          <a:xfrm>
            <a:off x="6324480" y="6521400"/>
            <a:ext cx="27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GECO – Microeconomía I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616680" indent="-237240">
              <a:spcBef>
                <a:spcPts val="20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2" marL="94860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3" marL="132804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4" marL="1707480" indent="-189720"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5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6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ftr" idx="3"/>
          </p:nvPr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600" spc="-1" strike="noStrike">
                <a:solidFill>
                  <a:srgbClr val="7f7f7f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Line 14"/>
          <p:cNvSpPr/>
          <p:nvPr/>
        </p:nvSpPr>
        <p:spPr>
          <a:xfrm>
            <a:off x="349200" y="1000080"/>
            <a:ext cx="83581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13 Conector recto"/>
          <p:cNvSpPr/>
          <p:nvPr/>
        </p:nvSpPr>
        <p:spPr>
          <a:xfrm>
            <a:off x="457200" y="6496200"/>
            <a:ext cx="8229600" cy="0"/>
          </a:xfrm>
          <a:prstGeom prst="line">
            <a:avLst/>
          </a:prstGeom>
          <a:ln w="9360">
            <a:solidFill>
              <a:srgbClr val="99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14 Triángulo isósceles"/>
          <p:cNvSpPr/>
          <p:nvPr/>
        </p:nvSpPr>
        <p:spPr>
          <a:xfrm rot="5400000">
            <a:off x="133200" y="6619680"/>
            <a:ext cx="190440" cy="12096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15 Rectángulo"/>
          <p:cNvSpPr/>
          <p:nvPr/>
        </p:nvSpPr>
        <p:spPr>
          <a:xfrm>
            <a:off x="6324480" y="6521400"/>
            <a:ext cx="27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GECO – Microeconomía I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616680" indent="-237240">
              <a:spcBef>
                <a:spcPts val="20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2" marL="94860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3" marL="132804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4" marL="1707480" indent="-189720"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5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6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4"/>
          </p:nvPr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600" spc="-1" strike="noStrike">
                <a:solidFill>
                  <a:srgbClr val="7f7f7f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Line 14"/>
          <p:cNvSpPr/>
          <p:nvPr/>
        </p:nvSpPr>
        <p:spPr>
          <a:xfrm>
            <a:off x="349200" y="1000080"/>
            <a:ext cx="83581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13 Conector recto"/>
          <p:cNvSpPr/>
          <p:nvPr/>
        </p:nvSpPr>
        <p:spPr>
          <a:xfrm>
            <a:off x="457200" y="6496200"/>
            <a:ext cx="8229600" cy="0"/>
          </a:xfrm>
          <a:prstGeom prst="line">
            <a:avLst/>
          </a:prstGeom>
          <a:ln w="9360">
            <a:solidFill>
              <a:srgbClr val="99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14 Triángulo isósceles"/>
          <p:cNvSpPr/>
          <p:nvPr/>
        </p:nvSpPr>
        <p:spPr>
          <a:xfrm rot="5400000">
            <a:off x="133200" y="6619680"/>
            <a:ext cx="190440" cy="12096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15 Rectángulo"/>
          <p:cNvSpPr/>
          <p:nvPr/>
        </p:nvSpPr>
        <p:spPr>
          <a:xfrm>
            <a:off x="6324480" y="6521400"/>
            <a:ext cx="27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GECO – Microeconomía I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616680" indent="-237240">
              <a:spcBef>
                <a:spcPts val="20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2" marL="94860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3" marL="132804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4" marL="1707480" indent="-189720"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5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6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ftr" idx="5"/>
          </p:nvPr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600" spc="-1" strike="noStrike">
                <a:solidFill>
                  <a:srgbClr val="7f7f7f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Line 14"/>
          <p:cNvSpPr/>
          <p:nvPr/>
        </p:nvSpPr>
        <p:spPr>
          <a:xfrm>
            <a:off x="349200" y="1000080"/>
            <a:ext cx="83581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13 Conector recto"/>
          <p:cNvSpPr/>
          <p:nvPr/>
        </p:nvSpPr>
        <p:spPr>
          <a:xfrm>
            <a:off x="457200" y="6496200"/>
            <a:ext cx="8229600" cy="0"/>
          </a:xfrm>
          <a:prstGeom prst="line">
            <a:avLst/>
          </a:prstGeom>
          <a:ln w="9360">
            <a:solidFill>
              <a:srgbClr val="99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14 Triángulo isósceles"/>
          <p:cNvSpPr/>
          <p:nvPr/>
        </p:nvSpPr>
        <p:spPr>
          <a:xfrm rot="5400000">
            <a:off x="133200" y="6619680"/>
            <a:ext cx="190440" cy="12096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15 Rectángulo"/>
          <p:cNvSpPr/>
          <p:nvPr/>
        </p:nvSpPr>
        <p:spPr>
          <a:xfrm>
            <a:off x="6324480" y="6521400"/>
            <a:ext cx="27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GECO – Microeconomía I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616680" indent="-237240">
              <a:spcBef>
                <a:spcPts val="20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2" marL="94860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3" marL="132804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4" marL="1707480" indent="-189720"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5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6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ftr" idx="6"/>
          </p:nvPr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600" spc="-1" strike="noStrike">
                <a:solidFill>
                  <a:srgbClr val="7f7f7f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Line 14"/>
          <p:cNvSpPr/>
          <p:nvPr/>
        </p:nvSpPr>
        <p:spPr>
          <a:xfrm>
            <a:off x="349200" y="1000080"/>
            <a:ext cx="83581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13 Conector recto"/>
          <p:cNvSpPr/>
          <p:nvPr/>
        </p:nvSpPr>
        <p:spPr>
          <a:xfrm>
            <a:off x="457200" y="6496200"/>
            <a:ext cx="8229600" cy="0"/>
          </a:xfrm>
          <a:prstGeom prst="line">
            <a:avLst/>
          </a:prstGeom>
          <a:ln w="9360">
            <a:solidFill>
              <a:srgbClr val="99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14 Triángulo isósceles"/>
          <p:cNvSpPr/>
          <p:nvPr/>
        </p:nvSpPr>
        <p:spPr>
          <a:xfrm rot="5400000">
            <a:off x="133200" y="6619680"/>
            <a:ext cx="190440" cy="12096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15 Rectángulo"/>
          <p:cNvSpPr/>
          <p:nvPr/>
        </p:nvSpPr>
        <p:spPr>
          <a:xfrm>
            <a:off x="6324480" y="6521400"/>
            <a:ext cx="27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GECO – Microeconomía I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616680" indent="-237240">
              <a:spcBef>
                <a:spcPts val="20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2" marL="94860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3" marL="132804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4" marL="1707480" indent="-189720"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5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6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ftr" idx="7"/>
          </p:nvPr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600" spc="-1" strike="noStrike">
                <a:solidFill>
                  <a:srgbClr val="7f7f7f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Line 14"/>
          <p:cNvSpPr/>
          <p:nvPr/>
        </p:nvSpPr>
        <p:spPr>
          <a:xfrm>
            <a:off x="349200" y="1000080"/>
            <a:ext cx="83581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13 Conector recto"/>
          <p:cNvSpPr/>
          <p:nvPr/>
        </p:nvSpPr>
        <p:spPr>
          <a:xfrm>
            <a:off x="457200" y="6496200"/>
            <a:ext cx="8229600" cy="0"/>
          </a:xfrm>
          <a:prstGeom prst="line">
            <a:avLst/>
          </a:prstGeom>
          <a:ln w="9360">
            <a:solidFill>
              <a:srgbClr val="99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14 Triángulo isósceles"/>
          <p:cNvSpPr/>
          <p:nvPr/>
        </p:nvSpPr>
        <p:spPr>
          <a:xfrm rot="5400000">
            <a:off x="133200" y="6619680"/>
            <a:ext cx="190440" cy="12096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15 Rectángulo"/>
          <p:cNvSpPr/>
          <p:nvPr/>
        </p:nvSpPr>
        <p:spPr>
          <a:xfrm>
            <a:off x="6324480" y="6521400"/>
            <a:ext cx="27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GECO – Microeconomía I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616680" indent="-237240">
              <a:spcBef>
                <a:spcPts val="20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2" marL="94860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3" marL="132804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4" marL="1707480" indent="-189720"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5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6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ftr" idx="8"/>
          </p:nvPr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600" spc="-1" strike="noStrike">
                <a:solidFill>
                  <a:srgbClr val="7f7f7f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Line 14"/>
          <p:cNvSpPr/>
          <p:nvPr/>
        </p:nvSpPr>
        <p:spPr>
          <a:xfrm>
            <a:off x="349200" y="1000080"/>
            <a:ext cx="83581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13 Conector recto"/>
          <p:cNvSpPr/>
          <p:nvPr/>
        </p:nvSpPr>
        <p:spPr>
          <a:xfrm>
            <a:off x="457200" y="6496200"/>
            <a:ext cx="8229600" cy="0"/>
          </a:xfrm>
          <a:prstGeom prst="line">
            <a:avLst/>
          </a:prstGeom>
          <a:ln w="9360">
            <a:solidFill>
              <a:srgbClr val="99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14 Triángulo isósceles"/>
          <p:cNvSpPr/>
          <p:nvPr/>
        </p:nvSpPr>
        <p:spPr>
          <a:xfrm rot="5400000">
            <a:off x="133200" y="6619680"/>
            <a:ext cx="190440" cy="12096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15 Rectángulo"/>
          <p:cNvSpPr/>
          <p:nvPr/>
        </p:nvSpPr>
        <p:spPr>
          <a:xfrm>
            <a:off x="6324480" y="6521400"/>
            <a:ext cx="27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GECO – Microeconomía I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616680" indent="-237240">
              <a:spcBef>
                <a:spcPts val="20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2" marL="94860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3" marL="132804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4" marL="1707480" indent="-189720"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5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6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ftr" idx="9"/>
          </p:nvPr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600" spc="-1" strike="noStrike">
                <a:solidFill>
                  <a:srgbClr val="7f7f7f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33520" y="112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f7f7f"/>
                </a:solidFill>
                <a:latin typeface="Arial"/>
              </a:rPr>
              <a:t>Tema 2</a:t>
            </a:r>
            <a:r>
              <a:rPr b="0" lang="en-US" sz="60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n-US" sz="6000" spc="-1" strike="noStrike">
                <a:solidFill>
                  <a:srgbClr val="7f7f7f"/>
                </a:solidFill>
                <a:latin typeface="Arial"/>
              </a:rPr>
              <a:t>	</a:t>
            </a:r>
            <a:endParaRPr b="1" lang="en-US" sz="6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2371680" y="2571840"/>
            <a:ext cx="6400800" cy="25192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b2b2b2">
                <a:alpha val="75000"/>
              </a:srgbClr>
            </a:outerShdw>
          </a:effectLst>
        </p:spPr>
        <p:txBody>
          <a:bodyPr lIns="90360" rIns="90360" tIns="44280" bIns="44280" anchor="t">
            <a:noAutofit/>
          </a:bodyPr>
          <a:p>
            <a:pPr indent="0" algn="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26"/>
                </a:solidFill>
                <a:latin typeface="Arial"/>
              </a:rPr>
              <a:t>El Monopolio</a:t>
            </a:r>
            <a:endParaRPr b="0" lang="en-US" sz="4800" spc="-1" strike="noStrike">
              <a:solidFill>
                <a:srgbClr val="262626"/>
              </a:solidFill>
              <a:latin typeface="Arial"/>
            </a:endParaRPr>
          </a:p>
          <a:p>
            <a:pPr indent="0" algn="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262626"/>
                </a:solidFill>
                <a:latin typeface="Arial"/>
              </a:rPr>
              <a:t>(precio único y discriminación de precios)</a:t>
            </a:r>
            <a:endParaRPr b="0" lang="en-US" sz="4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2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2 – El mon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f7f7f"/>
                </a:solidFill>
                <a:latin typeface="Arial"/>
              </a:rPr>
              <a:t>Ingreso medio y marginal</a:t>
            </a:r>
            <a:endParaRPr b="1" lang="en-US" sz="4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38" name="Rectangle 3"/>
          <p:cNvSpPr/>
          <p:nvPr/>
        </p:nvSpPr>
        <p:spPr>
          <a:xfrm>
            <a:off x="3124080" y="6235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Line 4"/>
          <p:cNvSpPr/>
          <p:nvPr/>
        </p:nvSpPr>
        <p:spPr>
          <a:xfrm>
            <a:off x="2209680" y="1735200"/>
            <a:ext cx="0" cy="426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Line 5"/>
          <p:cNvSpPr/>
          <p:nvPr/>
        </p:nvSpPr>
        <p:spPr>
          <a:xfrm>
            <a:off x="2219400" y="6006960"/>
            <a:ext cx="4276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6"/>
          <p:cNvSpPr/>
          <p:nvPr/>
        </p:nvSpPr>
        <p:spPr>
          <a:xfrm>
            <a:off x="6547320" y="5919840"/>
            <a:ext cx="1295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ció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7"/>
          <p:cNvSpPr/>
          <p:nvPr/>
        </p:nvSpPr>
        <p:spPr>
          <a:xfrm>
            <a:off x="1898640" y="593712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8"/>
          <p:cNvSpPr/>
          <p:nvPr/>
        </p:nvSpPr>
        <p:spPr>
          <a:xfrm>
            <a:off x="1898640" y="53276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9"/>
          <p:cNvSpPr/>
          <p:nvPr/>
        </p:nvSpPr>
        <p:spPr>
          <a:xfrm>
            <a:off x="1898640" y="471816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10"/>
          <p:cNvSpPr/>
          <p:nvPr/>
        </p:nvSpPr>
        <p:spPr>
          <a:xfrm>
            <a:off x="1893960" y="410832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11"/>
          <p:cNvSpPr/>
          <p:nvPr/>
        </p:nvSpPr>
        <p:spPr>
          <a:xfrm>
            <a:off x="367920" y="1593720"/>
            <a:ext cx="13075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ólares p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dad 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ció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12"/>
          <p:cNvSpPr/>
          <p:nvPr/>
        </p:nvSpPr>
        <p:spPr>
          <a:xfrm>
            <a:off x="2584440" y="593712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13"/>
          <p:cNvSpPr/>
          <p:nvPr/>
        </p:nvSpPr>
        <p:spPr>
          <a:xfrm>
            <a:off x="3193920" y="593712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14"/>
          <p:cNvSpPr/>
          <p:nvPr/>
        </p:nvSpPr>
        <p:spPr>
          <a:xfrm>
            <a:off x="3803760" y="593712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15"/>
          <p:cNvSpPr/>
          <p:nvPr/>
        </p:nvSpPr>
        <p:spPr>
          <a:xfrm>
            <a:off x="4413240" y="593712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16"/>
          <p:cNvSpPr/>
          <p:nvPr/>
        </p:nvSpPr>
        <p:spPr>
          <a:xfrm>
            <a:off x="5022720" y="593712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17"/>
          <p:cNvSpPr/>
          <p:nvPr/>
        </p:nvSpPr>
        <p:spPr>
          <a:xfrm>
            <a:off x="5632560" y="593712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18"/>
          <p:cNvSpPr/>
          <p:nvPr/>
        </p:nvSpPr>
        <p:spPr>
          <a:xfrm>
            <a:off x="6242040" y="593712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19"/>
          <p:cNvSpPr/>
          <p:nvPr/>
        </p:nvSpPr>
        <p:spPr>
          <a:xfrm>
            <a:off x="1893960" y="34988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20"/>
          <p:cNvSpPr/>
          <p:nvPr/>
        </p:nvSpPr>
        <p:spPr>
          <a:xfrm>
            <a:off x="1893960" y="288936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21"/>
          <p:cNvSpPr/>
          <p:nvPr/>
        </p:nvSpPr>
        <p:spPr>
          <a:xfrm>
            <a:off x="1893960" y="227952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22"/>
          <p:cNvSpPr/>
          <p:nvPr/>
        </p:nvSpPr>
        <p:spPr>
          <a:xfrm>
            <a:off x="1893960" y="16700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Group 29"/>
          <p:cNvGrpSpPr/>
          <p:nvPr/>
        </p:nvGrpSpPr>
        <p:grpSpPr>
          <a:xfrm>
            <a:off x="2236680" y="2541600"/>
            <a:ext cx="5202000" cy="3452760"/>
            <a:chOff x="2236680" y="2541600"/>
            <a:chExt cx="5202000" cy="3452760"/>
          </a:xfrm>
        </p:grpSpPr>
        <p:sp>
          <p:nvSpPr>
            <p:cNvPr id="659" name="Line 23"/>
            <p:cNvSpPr/>
            <p:nvPr/>
          </p:nvSpPr>
          <p:spPr>
            <a:xfrm>
              <a:off x="2236680" y="2541600"/>
              <a:ext cx="3529080" cy="345276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Rectangle 24"/>
            <p:cNvSpPr/>
            <p:nvPr/>
          </p:nvSpPr>
          <p:spPr>
            <a:xfrm>
              <a:off x="4474440" y="3465360"/>
              <a:ext cx="2964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greso medio (demanda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Line 25"/>
            <p:cNvSpPr/>
            <p:nvPr/>
          </p:nvSpPr>
          <p:spPr>
            <a:xfrm flipH="1">
              <a:off x="4319640" y="3989520"/>
              <a:ext cx="658800" cy="4046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Group 30"/>
          <p:cNvGrpSpPr/>
          <p:nvPr/>
        </p:nvGrpSpPr>
        <p:grpSpPr>
          <a:xfrm>
            <a:off x="2236680" y="2541600"/>
            <a:ext cx="1928880" cy="3909960"/>
            <a:chOff x="2236680" y="2541600"/>
            <a:chExt cx="1928880" cy="3909960"/>
          </a:xfrm>
        </p:grpSpPr>
        <p:sp>
          <p:nvSpPr>
            <p:cNvPr id="663" name="Line 26"/>
            <p:cNvSpPr/>
            <p:nvPr/>
          </p:nvSpPr>
          <p:spPr>
            <a:xfrm>
              <a:off x="2236680" y="2541600"/>
              <a:ext cx="1928880" cy="390996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27"/>
            <p:cNvSpPr/>
            <p:nvPr/>
          </p:nvSpPr>
          <p:spPr>
            <a:xfrm>
              <a:off x="2282760" y="5176800"/>
              <a:ext cx="102564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greso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arginal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Line 28"/>
            <p:cNvSpPr/>
            <p:nvPr/>
          </p:nvSpPr>
          <p:spPr>
            <a:xfrm flipV="1">
              <a:off x="3075120" y="4776480"/>
              <a:ext cx="176040" cy="430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2 – El mon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PlaceHolder 1"/>
          <p:cNvSpPr>
            <a:spLocks noGrp="1"/>
          </p:cNvSpPr>
          <p:nvPr>
            <p:ph/>
          </p:nvPr>
        </p:nvSpPr>
        <p:spPr>
          <a:xfrm>
            <a:off x="1143000" y="2247840"/>
            <a:ext cx="7772400" cy="369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1999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Roche A.G., BASF A.G., Rhone-Poulenc y Takeda fueron acusados  por fijar el precio de las vitaminas (fueron multados por más de 1.000 millones de dólares)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 type="title"/>
          </p:nvPr>
        </p:nvSpPr>
        <p:spPr>
          <a:xfrm>
            <a:off x="550440" y="295200"/>
            <a:ext cx="798372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La limitación del poder de mercado: la legislación antimonopolio</a:t>
            </a:r>
            <a:endParaRPr b="1" lang="en-US" sz="29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998" name="Text Box 7"/>
          <p:cNvSpPr/>
          <p:nvPr/>
        </p:nvSpPr>
        <p:spPr>
          <a:xfrm>
            <a:off x="277920" y="1427040"/>
            <a:ext cx="6581520" cy="520560"/>
          </a:xfrm>
          <a:prstGeom prst="rect">
            <a:avLst/>
          </a:prstGeom>
          <a:solidFill>
            <a:srgbClr val="d8c0cb"/>
          </a:solidFill>
          <a:ln w="12600">
            <a:solidFill>
              <a:srgbClr val="37654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jemplos de confabulaciones ilega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2 – El mon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/>
          </p:nvPr>
        </p:nvSpPr>
        <p:spPr>
          <a:xfrm>
            <a:off x="1142640" y="1719360"/>
            <a:ext cx="734364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Ley Sherman (1890)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Artículo 2: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2" marL="1143000" indent="-228600">
              <a:spcBef>
                <a:spcPts val="1188"/>
              </a:spcBef>
              <a:buClr>
                <a:srgbClr val="666699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Declara ilegal monopolizar o intentar monopolizar un mercado y prohíbe las conspiraciones que dan como resultado una monopolización. 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1" name="PlaceHolder 2"/>
          <p:cNvSpPr>
            <a:spLocks noGrp="1"/>
          </p:cNvSpPr>
          <p:nvPr>
            <p:ph type="title"/>
          </p:nvPr>
        </p:nvSpPr>
        <p:spPr>
          <a:xfrm>
            <a:off x="550440" y="295200"/>
            <a:ext cx="798372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La limitación del poder de mercado: la legislación antimonopolio</a:t>
            </a:r>
            <a:endParaRPr b="1" lang="en-US" sz="29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2 – El mon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/>
          </p:nvPr>
        </p:nvSpPr>
        <p:spPr>
          <a:xfrm>
            <a:off x="825480" y="1828800"/>
            <a:ext cx="8089920" cy="372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Ley Clayton (1914)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1)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Declara ilegal impedir al comprador o al arrendador comprar a un competidor. 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2)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Prohíbe las prácticas depredadoras para fijar los precios. 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4" name="PlaceHolder 2"/>
          <p:cNvSpPr>
            <a:spLocks noGrp="1"/>
          </p:cNvSpPr>
          <p:nvPr>
            <p:ph type="title"/>
          </p:nvPr>
        </p:nvSpPr>
        <p:spPr>
          <a:xfrm>
            <a:off x="550440" y="295200"/>
            <a:ext cx="798372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La limitación del poder de mercado: la legislación antimonopolio</a:t>
            </a:r>
            <a:endParaRPr b="1" lang="en-US" sz="29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2 – El mon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/>
          </p:nvPr>
        </p:nvSpPr>
        <p:spPr>
          <a:xfrm>
            <a:off x="1143000" y="1828440"/>
            <a:ext cx="7772400" cy="395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Ley Clayton (1914)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3)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Prohíbe las fusiones y las adquisiciones si “reducen significativamente la competencia” o “tienden a crear un monopolio”.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7" name="PlaceHolder 2"/>
          <p:cNvSpPr>
            <a:spLocks noGrp="1"/>
          </p:cNvSpPr>
          <p:nvPr>
            <p:ph type="title"/>
          </p:nvPr>
        </p:nvSpPr>
        <p:spPr>
          <a:xfrm>
            <a:off x="550440" y="295200"/>
            <a:ext cx="798372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La limitación del poder de mercado: la legislación antimonopolio</a:t>
            </a:r>
            <a:endParaRPr b="1" lang="en-US" sz="29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2 – El mon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/>
          </p:nvPr>
        </p:nvSpPr>
        <p:spPr>
          <a:xfrm>
            <a:off x="1143000" y="1828440"/>
            <a:ext cx="7772400" cy="395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Ley Robinson-Patman (1936)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Prohíbe discriminar cobrando precios diferentes a los compradores, si esas diferencias reducen la competencia. 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0" name="PlaceHolder 2"/>
          <p:cNvSpPr>
            <a:spLocks noGrp="1"/>
          </p:cNvSpPr>
          <p:nvPr>
            <p:ph type="title"/>
          </p:nvPr>
        </p:nvSpPr>
        <p:spPr>
          <a:xfrm>
            <a:off x="550440" y="295200"/>
            <a:ext cx="798372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La limitación del poder de mercado: la legislación antimonopolio</a:t>
            </a:r>
            <a:endParaRPr b="1" lang="en-US" sz="29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2 – El mon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/>
          </p:nvPr>
        </p:nvSpPr>
        <p:spPr>
          <a:xfrm>
            <a:off x="591840" y="1338120"/>
            <a:ext cx="8551800" cy="429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1874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2626"/>
                </a:solidFill>
                <a:latin typeface="Arial"/>
              </a:rPr>
              <a:t>Federal Trade Commission Act (ley sobre la Comisión Federal de Comercio) que se aprobó en 1914, se enmendó en 1938, 1973 y 1975).</a:t>
            </a:r>
            <a:endParaRPr b="0" lang="en-US" sz="3000" spc="-1" strike="noStrike">
              <a:solidFill>
                <a:srgbClr val="262626"/>
              </a:solidFill>
              <a:latin typeface="Arial"/>
            </a:endParaRPr>
          </a:p>
          <a:p>
            <a:pPr marL="32220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1)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Creó la Federal Trade Commission (Comisión Federal de Comercio, FTC)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marL="32220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2)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Prohíbe las prácticas desleales y anticompetitivas como la publicidad y el etiquetado engañosos, los acuerdos con los minoristas para excluir a las marcas rivales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3" name="PlaceHolder 2"/>
          <p:cNvSpPr>
            <a:spLocks noGrp="1"/>
          </p:cNvSpPr>
          <p:nvPr>
            <p:ph type="title"/>
          </p:nvPr>
        </p:nvSpPr>
        <p:spPr>
          <a:xfrm>
            <a:off x="550440" y="295200"/>
            <a:ext cx="798372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La limitación del poder de mercado: la legislación antimonopolio</a:t>
            </a:r>
            <a:endParaRPr b="1" lang="en-US" sz="29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2 – El mon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PlaceHolder 1"/>
          <p:cNvSpPr>
            <a:spLocks noGrp="1"/>
          </p:cNvSpPr>
          <p:nvPr>
            <p:ph/>
          </p:nvPr>
        </p:nvSpPr>
        <p:spPr>
          <a:xfrm>
            <a:off x="419040" y="1397160"/>
            <a:ext cx="8724960" cy="459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Las leyes antimonopolio se aplican de tres formas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1)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División Antimonopolio del Ministerio de Justicia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2" marL="1143000" indent="-228600">
              <a:spcBef>
                <a:spcPts val="1188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Como parte del poder ejecutivo, la administración puede influir en su aplicación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2" marL="1143000" indent="-228600">
              <a:spcBef>
                <a:spcPts val="1188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Multas para la empresa; multas y penas de prisión para los individuos. 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6" name="PlaceHolder 2"/>
          <p:cNvSpPr>
            <a:spLocks noGrp="1"/>
          </p:cNvSpPr>
          <p:nvPr>
            <p:ph type="title"/>
          </p:nvPr>
        </p:nvSpPr>
        <p:spPr>
          <a:xfrm>
            <a:off x="550440" y="295200"/>
            <a:ext cx="798372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La limitación del poder de mercado: la legislación antimonopolio</a:t>
            </a:r>
            <a:endParaRPr b="1" lang="en-US" sz="29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2 – El mon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/>
          </p:nvPr>
        </p:nvSpPr>
        <p:spPr>
          <a:xfrm>
            <a:off x="1143000" y="18284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Las leyes antimonopolio se aplican de tres formas: 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2)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ederal Trade Commission (Comisión Federal de Comercio)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2" marL="1143000" indent="-228600">
              <a:spcBef>
                <a:spcPts val="1188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Se aplica pidiendo a la empresa que cumpla voluntariamente la ley o se dicta una orden formal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9" name="PlaceHolder 2"/>
          <p:cNvSpPr>
            <a:spLocks noGrp="1"/>
          </p:cNvSpPr>
          <p:nvPr>
            <p:ph type="title"/>
          </p:nvPr>
        </p:nvSpPr>
        <p:spPr>
          <a:xfrm>
            <a:off x="550440" y="295200"/>
            <a:ext cx="798372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La limitación del poder de mercado: la legislación antimonopolio</a:t>
            </a:r>
            <a:endParaRPr b="1" lang="en-US" sz="29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2 – El mon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/>
          </p:nvPr>
        </p:nvSpPr>
        <p:spPr>
          <a:xfrm>
            <a:off x="1143000" y="182844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Las leyes antimonopolio se aplican de tres formas: 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3)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Demandas privadas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2" marL="1143000" indent="-228600">
              <a:spcBef>
                <a:spcPts val="1188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Pleitos por daños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2" marL="1143000" indent="-228600">
              <a:spcBef>
                <a:spcPts val="1188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El demandante puede percibir el triple del valor monetario de los daños sufridos. 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2" name="PlaceHolder 2"/>
          <p:cNvSpPr>
            <a:spLocks noGrp="1"/>
          </p:cNvSpPr>
          <p:nvPr>
            <p:ph type="title"/>
          </p:nvPr>
        </p:nvSpPr>
        <p:spPr>
          <a:xfrm>
            <a:off x="550440" y="295200"/>
            <a:ext cx="798372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La limitación del poder de mercado: la legislación antimonopolio</a:t>
            </a:r>
            <a:endParaRPr b="1" lang="en-US" sz="29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2 – El mon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/>
          </p:nvPr>
        </p:nvSpPr>
        <p:spPr>
          <a:xfrm>
            <a:off x="1143000" y="18284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Dos ejemplos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American Airlines: fijar los precios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Microsoft: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2" marL="1143000" indent="-228600">
              <a:spcBef>
                <a:spcPts val="1188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Poder de monopolio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2" marL="1143000" indent="-228600">
              <a:spcBef>
                <a:spcPts val="1188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Prácticas depredadoras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2" marL="1143000" indent="-228600">
              <a:spcBef>
                <a:spcPts val="1188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Confabulación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5" name="PlaceHolder 2"/>
          <p:cNvSpPr>
            <a:spLocks noGrp="1"/>
          </p:cNvSpPr>
          <p:nvPr>
            <p:ph type="title"/>
          </p:nvPr>
        </p:nvSpPr>
        <p:spPr>
          <a:xfrm>
            <a:off x="550440" y="295200"/>
            <a:ext cx="798372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La limitación del poder de mercado: la legislación antimonopolio</a:t>
            </a:r>
            <a:endParaRPr b="1" lang="en-US" sz="29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2 – El mon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/>
          </p:nvPr>
        </p:nvSpPr>
        <p:spPr>
          <a:xfrm>
            <a:off x="1068480" y="1371600"/>
            <a:ext cx="807552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Observaciones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1)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262626"/>
                </a:solidFill>
                <a:latin typeface="Arial"/>
              </a:rPr>
              <a:t>Para incrementar las ventas, el precio debe disminuir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2)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IM &lt; P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3)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262626"/>
                </a:solidFill>
                <a:latin typeface="Arial"/>
              </a:rPr>
              <a:t>Comparado con el mercado perfectamente competitivo: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2" marL="933480" indent="-196560">
              <a:spcBef>
                <a:spcPts val="1188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No hay cambios en el precio para cambiar las ventas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2" marL="933480" indent="-196560">
              <a:spcBef>
                <a:spcPts val="1188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IM = P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El monopolio</a:t>
            </a:r>
            <a:endParaRPr b="1" lang="en-US" sz="34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2 – El mon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Resumen</a:t>
            </a:r>
            <a:endParaRPr b="1" lang="en-US" sz="3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El poder de mercado es la capacidad de los vendedores o de los compradores para influir en el precio de un bien. 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262626"/>
                </a:solidFill>
                <a:latin typeface="Arial"/>
              </a:rPr>
              <a:t>El poder de mercado adopta dos formas: el poder de monopolio y el poder de monopsonio.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2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20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2 – El mon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262626"/>
                </a:solidFill>
                <a:latin typeface="Arial"/>
              </a:rPr>
              <a:t>El poder de monopolio depende, en parte, del número de empresas que compitan en el mercado.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262626"/>
                </a:solidFill>
                <a:latin typeface="Arial"/>
              </a:rPr>
              <a:t>El poder de monopsonio depende, en parte, del número de compradores que haya en el mercado.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1" name="PlaceHolder 2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Resumen</a:t>
            </a:r>
            <a:endParaRPr b="1" lang="en-US" sz="34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20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20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2 – El mon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PlaceHolder 1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262626"/>
                </a:solidFill>
                <a:latin typeface="Arial"/>
              </a:rPr>
              <a:t>El poder de mercado puede imponer costes a la sociedad.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262626"/>
                </a:solidFill>
                <a:latin typeface="Arial"/>
              </a:rPr>
              <a:t>A veces las economías de escala hacen que el monopolio puro sea deseable.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Recurrimos a la legislación antimonopolio para impedir que las empresas consigan excesivo poder de mercado. 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4" name="PlaceHolder 2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Resumen</a:t>
            </a:r>
            <a:endParaRPr b="1" lang="en-US" sz="34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500"/>
                                        <p:tgtEl>
                                          <p:spTgt spid="20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500"/>
                                        <p:tgtEl>
                                          <p:spTgt spid="20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500"/>
                                        <p:tgtEl>
                                          <p:spTgt spid="20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2 – El mon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/>
          </p:nvPr>
        </p:nvSpPr>
        <p:spPr>
          <a:xfrm>
            <a:off x="450360" y="1719360"/>
            <a:ext cx="846468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La decisión de producción del monopolista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1)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262626"/>
                </a:solidFill>
                <a:latin typeface="Arial"/>
              </a:rPr>
              <a:t>Los beneficios se maximizan hasta el </a:t>
            </a:r>
            <a:r>
              <a:rPr b="0" lang="es-E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262626"/>
                </a:solidFill>
                <a:latin typeface="Arial"/>
              </a:rPr>
              <a:t> nivel de producción, donde </a:t>
            </a:r>
            <a:r>
              <a:rPr b="0" i="1" lang="es-ES" sz="3200" spc="-1" strike="noStrike">
                <a:solidFill>
                  <a:srgbClr val="262626"/>
                </a:solidFill>
                <a:latin typeface="Arial"/>
              </a:rPr>
              <a:t>IM = CM.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2)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Las funciones de coste son las mismas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Rectangle 37"/>
          <p:cNvSpPr/>
          <p:nvPr/>
        </p:nvSpPr>
        <p:spPr>
          <a:xfrm>
            <a:off x="3006000" y="4500720"/>
            <a:ext cx="29340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6" name="Group 51"/>
          <p:cNvGrpSpPr/>
          <p:nvPr/>
        </p:nvGrpSpPr>
        <p:grpSpPr>
          <a:xfrm>
            <a:off x="1778400" y="4500720"/>
            <a:ext cx="6853680" cy="1581840"/>
            <a:chOff x="1778400" y="4500720"/>
            <a:chExt cx="6853680" cy="1581840"/>
          </a:xfrm>
        </p:grpSpPr>
        <p:sp>
          <p:nvSpPr>
            <p:cNvPr id="677" name="Rectangle 26"/>
            <p:cNvSpPr/>
            <p:nvPr/>
          </p:nvSpPr>
          <p:spPr>
            <a:xfrm>
              <a:off x="7057440" y="5049720"/>
              <a:ext cx="2934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1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8" name="Group 50"/>
            <p:cNvGrpSpPr/>
            <p:nvPr/>
          </p:nvGrpSpPr>
          <p:grpSpPr>
            <a:xfrm>
              <a:off x="1778400" y="4500720"/>
              <a:ext cx="6853680" cy="1581840"/>
              <a:chOff x="1778400" y="4500720"/>
              <a:chExt cx="6853680" cy="1581840"/>
            </a:xfrm>
          </p:grpSpPr>
          <p:sp>
            <p:nvSpPr>
              <p:cNvPr id="679" name="Rectangle 9"/>
              <p:cNvSpPr/>
              <p:nvPr/>
            </p:nvSpPr>
            <p:spPr>
              <a:xfrm>
                <a:off x="3463200" y="5640480"/>
                <a:ext cx="47160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2900" spc="-1" strike="noStrike">
                    <a:solidFill>
                      <a:srgbClr val="000000"/>
                    </a:solidFill>
                    <a:latin typeface="Times New Roman"/>
                  </a:rPr>
                  <a:t>IM</a:t>
                </a:r>
                <a:endParaRPr b="1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Rectangle 10"/>
              <p:cNvSpPr/>
              <p:nvPr/>
            </p:nvSpPr>
            <p:spPr>
              <a:xfrm>
                <a:off x="2244600" y="5640480"/>
                <a:ext cx="85104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2900" spc="-1" strike="noStrike">
                    <a:solidFill>
                      <a:srgbClr val="000000"/>
                    </a:solidFill>
                    <a:latin typeface="Times New Roman"/>
                  </a:rPr>
                  <a:t>o CM</a:t>
                </a:r>
                <a:endParaRPr b="1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Rectangle 12"/>
              <p:cNvSpPr/>
              <p:nvPr/>
            </p:nvSpPr>
            <p:spPr>
              <a:xfrm>
                <a:off x="8160480" y="5092560"/>
                <a:ext cx="47160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2900" spc="-1" strike="noStrike">
                    <a:solidFill>
                      <a:srgbClr val="000000"/>
                    </a:solidFill>
                    <a:latin typeface="Times New Roman"/>
                  </a:rPr>
                  <a:t>IM</a:t>
                </a:r>
                <a:endParaRPr b="1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Rectangle 13"/>
              <p:cNvSpPr/>
              <p:nvPr/>
            </p:nvSpPr>
            <p:spPr>
              <a:xfrm>
                <a:off x="7274520" y="5092560"/>
                <a:ext cx="57384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2900" spc="-1" strike="noStrike">
                    <a:solidFill>
                      <a:srgbClr val="000000"/>
                    </a:solidFill>
                    <a:latin typeface="Times New Roman"/>
                  </a:rPr>
                  <a:t>CM</a:t>
                </a:r>
                <a:endParaRPr b="1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Rectangle 20"/>
              <p:cNvSpPr/>
              <p:nvPr/>
            </p:nvSpPr>
            <p:spPr>
              <a:xfrm>
                <a:off x="4300560" y="4543560"/>
                <a:ext cx="85284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2900" spc="-1" strike="noStrike">
                    <a:solidFill>
                      <a:srgbClr val="000000"/>
                    </a:solidFill>
                    <a:latin typeface="Times New Roman"/>
                  </a:rPr>
                  <a:t>C </a:t>
                </a:r>
                <a:r>
                  <a:rPr b="1" lang="es-ES" sz="29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1" i="1" lang="es-ES" sz="29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es-ES" sz="29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1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Rectangle 22"/>
              <p:cNvSpPr/>
              <p:nvPr/>
            </p:nvSpPr>
            <p:spPr>
              <a:xfrm>
                <a:off x="3225960" y="4543560"/>
                <a:ext cx="75060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2900" spc="-1" strike="noStrike">
                    <a:solidFill>
                      <a:srgbClr val="000000"/>
                    </a:solidFill>
                    <a:latin typeface="Times New Roman"/>
                  </a:rPr>
                  <a:t>I </a:t>
                </a:r>
                <a:r>
                  <a:rPr b="1" lang="es-ES" sz="29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1" i="1" lang="es-ES" sz="29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es-ES" sz="29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1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Rectangle 24"/>
              <p:cNvSpPr/>
              <p:nvPr/>
            </p:nvSpPr>
            <p:spPr>
              <a:xfrm>
                <a:off x="3256920" y="5597640"/>
                <a:ext cx="29340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1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Rectangle 25"/>
              <p:cNvSpPr/>
              <p:nvPr/>
            </p:nvSpPr>
            <p:spPr>
              <a:xfrm>
                <a:off x="8063280" y="5049720"/>
                <a:ext cx="12276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Rectangle 27"/>
              <p:cNvSpPr/>
              <p:nvPr/>
            </p:nvSpPr>
            <p:spPr>
              <a:xfrm>
                <a:off x="6514560" y="5049720"/>
                <a:ext cx="29340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1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Rectangle 35"/>
              <p:cNvSpPr/>
              <p:nvPr/>
            </p:nvSpPr>
            <p:spPr>
              <a:xfrm>
                <a:off x="1778400" y="5068800"/>
                <a:ext cx="485244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1" i="1" lang="es-ES" sz="2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</a:t>
                </a:r>
                <a:r>
                  <a:rPr b="1" lang="es-ES" sz="2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1" i="1" lang="es-ES" sz="2900" spc="-1" strike="noStrike">
                    <a:solidFill>
                      <a:srgbClr val="000000"/>
                    </a:solidFill>
                    <a:latin typeface="Times New Roman"/>
                  </a:rPr>
                  <a:t>Q </a:t>
                </a:r>
                <a:r>
                  <a:rPr b="1" lang="es-ES" sz="2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</a:t>
                </a:r>
                <a:r>
                  <a:rPr b="1" i="1" lang="es-ES" sz="29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1" i="1" lang="es-ES" sz="2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</a:t>
                </a:r>
                <a:r>
                  <a:rPr b="1" lang="es-ES" sz="2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1" i="1" lang="es-ES" sz="2900" spc="-1" strike="noStrike">
                    <a:solidFill>
                      <a:srgbClr val="000000"/>
                    </a:solidFill>
                    <a:latin typeface="Times New Roman"/>
                  </a:rPr>
                  <a:t>Q </a:t>
                </a:r>
                <a:r>
                  <a:rPr b="1" lang="es-ES" sz="2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</a:t>
                </a:r>
                <a:r>
                  <a:rPr b="1" i="1" lang="es-ES" sz="29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1" i="1" lang="es-ES" sz="2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</a:t>
                </a:r>
                <a:r>
                  <a:rPr b="1" lang="es-ES" sz="2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1" i="1" lang="es-ES" sz="2900" spc="-1" strike="noStrike">
                    <a:solidFill>
                      <a:srgbClr val="000000"/>
                    </a:solidFill>
                    <a:latin typeface="Times New Roman"/>
                  </a:rPr>
                  <a:t>Q </a:t>
                </a:r>
                <a:endParaRPr b="1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Rectangle 36"/>
              <p:cNvSpPr/>
              <p:nvPr/>
            </p:nvSpPr>
            <p:spPr>
              <a:xfrm>
                <a:off x="4199400" y="4500720"/>
                <a:ext cx="12276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Rectangle 38"/>
              <p:cNvSpPr/>
              <p:nvPr/>
            </p:nvSpPr>
            <p:spPr>
              <a:xfrm>
                <a:off x="6804360" y="5092560"/>
                <a:ext cx="18504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9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1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Rectangle 49"/>
              <p:cNvSpPr/>
              <p:nvPr/>
            </p:nvSpPr>
            <p:spPr>
              <a:xfrm>
                <a:off x="2084400" y="4500720"/>
                <a:ext cx="91440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2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</a:t>
                </a:r>
                <a:r>
                  <a:rPr b="1" lang="es-ES" sz="29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1" i="1" lang="es-ES" sz="29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1" lang="es-ES" sz="29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1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2" name="PlaceHolder 2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El monopolio</a:t>
            </a:r>
            <a:endParaRPr b="1" lang="en-US" sz="34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2 – El mon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7f7f7f"/>
                </a:solidFill>
                <a:latin typeface="Arial"/>
              </a:rPr>
              <a:t>El beneficio se maximiza cuando el ingreso marginal es igual al coste marginal</a:t>
            </a:r>
            <a:endParaRPr b="1" lang="en-US" sz="31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998280" y="2252160"/>
            <a:ext cx="7916760" cy="369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262626"/>
                </a:solidFill>
                <a:latin typeface="Arial"/>
              </a:rPr>
              <a:t>En niveles de producción por debajo de </a:t>
            </a:r>
            <a:r>
              <a:rPr b="0" i="1" lang="es-ES" sz="3200" spc="-1" strike="noStrike">
                <a:solidFill>
                  <a:srgbClr val="262626"/>
                </a:solidFill>
                <a:latin typeface="Arial"/>
              </a:rPr>
              <a:t>IM = CM, </a:t>
            </a:r>
            <a:r>
              <a:rPr b="0" lang="es-ES" sz="3200" spc="-1" strike="noStrike">
                <a:solidFill>
                  <a:srgbClr val="262626"/>
                </a:solidFill>
                <a:latin typeface="Arial"/>
              </a:rPr>
              <a:t>la disminución del ingreso es superior a la reducción del coste</a:t>
            </a:r>
            <a:r>
              <a:rPr b="0" i="1" lang="en-US" sz="32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(IM &gt; CM).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35880" indent="-33588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262626"/>
                </a:solidFill>
                <a:latin typeface="Arial"/>
              </a:rPr>
              <a:t>En niveles por encima de </a:t>
            </a:r>
            <a:r>
              <a:rPr b="0" i="1" lang="es-ES" sz="3200" spc="-1" strike="noStrike">
                <a:solidFill>
                  <a:srgbClr val="262626"/>
                </a:solidFill>
                <a:latin typeface="Arial"/>
              </a:rPr>
              <a:t>IM = CM, </a:t>
            </a:r>
            <a:r>
              <a:rPr b="0" lang="es-ES" sz="3200" spc="-1" strike="noStrike">
                <a:solidFill>
                  <a:srgbClr val="262626"/>
                </a:solidFill>
                <a:latin typeface="Arial"/>
              </a:rPr>
              <a:t>el aumento del coste es superior a la disminución del ingreso 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(IM &lt; CM).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Text Box 4"/>
          <p:cNvSpPr/>
          <p:nvPr/>
        </p:nvSpPr>
        <p:spPr>
          <a:xfrm>
            <a:off x="369360" y="1368360"/>
            <a:ext cx="7503480" cy="520560"/>
          </a:xfrm>
          <a:prstGeom prst="rect">
            <a:avLst/>
          </a:prstGeom>
          <a:solidFill>
            <a:srgbClr val="d8c0cb"/>
          </a:solidFill>
          <a:ln w="12600">
            <a:solidFill>
              <a:srgbClr val="37654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 decisión de producción del monopolis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2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2 – El mon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8" name="Group 52"/>
          <p:cNvGrpSpPr/>
          <p:nvPr/>
        </p:nvGrpSpPr>
        <p:grpSpPr>
          <a:xfrm>
            <a:off x="4419720" y="3911760"/>
            <a:ext cx="2903040" cy="1856520"/>
            <a:chOff x="4419720" y="3911760"/>
            <a:chExt cx="2903040" cy="1856520"/>
          </a:xfrm>
        </p:grpSpPr>
        <p:sp>
          <p:nvSpPr>
            <p:cNvPr id="699" name="Freeform 2"/>
            <p:cNvSpPr/>
            <p:nvPr/>
          </p:nvSpPr>
          <p:spPr>
            <a:xfrm>
              <a:off x="4419720" y="3911760"/>
              <a:ext cx="890640" cy="1830240"/>
            </a:xfrm>
            <a:custGeom>
              <a:avLst/>
              <a:gdLst>
                <a:gd name="textAreaLeft" fmla="*/ 0 w 890640"/>
                <a:gd name="textAreaRight" fmla="*/ 891000 w 890640"/>
                <a:gd name="textAreaTop" fmla="*/ 0 h 1830240"/>
                <a:gd name="textAreaBottom" fmla="*/ 1830600 h 1830240"/>
              </a:gdLst>
              <a:ahLst/>
              <a:rect l="textAreaLeft" t="textAreaTop" r="textAreaRight" b="textAreaBottom"/>
              <a:pathLst>
                <a:path w="529" h="1105">
                  <a:moveTo>
                    <a:pt x="0" y="480"/>
                  </a:moveTo>
                  <a:lnTo>
                    <a:pt x="528" y="1104"/>
                  </a:lnTo>
                  <a:lnTo>
                    <a:pt x="528" y="0"/>
                  </a:lnTo>
                  <a:lnTo>
                    <a:pt x="336" y="192"/>
                  </a:lnTo>
                  <a:lnTo>
                    <a:pt x="0" y="480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Rectangle 30"/>
            <p:cNvSpPr/>
            <p:nvPr/>
          </p:nvSpPr>
          <p:spPr>
            <a:xfrm>
              <a:off x="6240600" y="5253120"/>
              <a:ext cx="108216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eneficios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rdidos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Line 31"/>
            <p:cNvSpPr/>
            <p:nvPr/>
          </p:nvSpPr>
          <p:spPr>
            <a:xfrm flipH="1" flipV="1">
              <a:off x="4941360" y="4941360"/>
              <a:ext cx="1319400" cy="481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44"/>
          <p:cNvGrpSpPr/>
          <p:nvPr/>
        </p:nvGrpSpPr>
        <p:grpSpPr>
          <a:xfrm>
            <a:off x="1676880" y="2509920"/>
            <a:ext cx="2744280" cy="3829680"/>
            <a:chOff x="1676880" y="2509920"/>
            <a:chExt cx="2744280" cy="3829680"/>
          </a:xfrm>
        </p:grpSpPr>
        <p:sp>
          <p:nvSpPr>
            <p:cNvPr id="703" name="Freeform 3"/>
            <p:cNvSpPr/>
            <p:nvPr/>
          </p:nvSpPr>
          <p:spPr>
            <a:xfrm>
              <a:off x="3578400" y="3759120"/>
              <a:ext cx="842760" cy="1500120"/>
            </a:xfrm>
            <a:custGeom>
              <a:avLst/>
              <a:gdLst>
                <a:gd name="textAreaLeft" fmla="*/ 0 w 842760"/>
                <a:gd name="textAreaRight" fmla="*/ 843120 w 842760"/>
                <a:gd name="textAreaTop" fmla="*/ 0 h 1500120"/>
                <a:gd name="textAreaBottom" fmla="*/ 1500480 h 1500120"/>
              </a:gdLst>
              <a:ahLst/>
              <a:rect l="textAreaLeft" t="textAreaTop" r="textAreaRight" b="textAreaBottom"/>
              <a:pathLst>
                <a:path w="531" h="945">
                  <a:moveTo>
                    <a:pt x="2" y="944"/>
                  </a:moveTo>
                  <a:lnTo>
                    <a:pt x="0" y="0"/>
                  </a:lnTo>
                  <a:lnTo>
                    <a:pt x="162" y="162"/>
                  </a:lnTo>
                  <a:lnTo>
                    <a:pt x="341" y="389"/>
                  </a:lnTo>
                  <a:lnTo>
                    <a:pt x="530" y="608"/>
                  </a:lnTo>
                  <a:lnTo>
                    <a:pt x="290" y="752"/>
                  </a:lnTo>
                  <a:lnTo>
                    <a:pt x="2" y="944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Line 22"/>
            <p:cNvSpPr/>
            <p:nvPr/>
          </p:nvSpPr>
          <p:spPr>
            <a:xfrm>
              <a:off x="3581280" y="2833560"/>
              <a:ext cx="0" cy="31734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Oval 23"/>
            <p:cNvSpPr/>
            <p:nvPr/>
          </p:nvSpPr>
          <p:spPr>
            <a:xfrm>
              <a:off x="3505320" y="27432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Line 24"/>
            <p:cNvSpPr/>
            <p:nvPr/>
          </p:nvSpPr>
          <p:spPr>
            <a:xfrm flipH="1">
              <a:off x="2198160" y="2819520"/>
              <a:ext cx="13194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Rectangle 25"/>
            <p:cNvSpPr/>
            <p:nvPr/>
          </p:nvSpPr>
          <p:spPr>
            <a:xfrm>
              <a:off x="1676880" y="2509920"/>
              <a:ext cx="4068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Rectangle 26"/>
            <p:cNvSpPr/>
            <p:nvPr/>
          </p:nvSpPr>
          <p:spPr>
            <a:xfrm>
              <a:off x="3276720" y="5938920"/>
              <a:ext cx="432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Rectangle 27"/>
            <p:cNvSpPr/>
            <p:nvPr/>
          </p:nvSpPr>
          <p:spPr>
            <a:xfrm>
              <a:off x="2338560" y="4148280"/>
              <a:ext cx="108216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eneficios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rdidos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Line 28"/>
            <p:cNvSpPr/>
            <p:nvPr/>
          </p:nvSpPr>
          <p:spPr>
            <a:xfrm>
              <a:off x="3138480" y="4433760"/>
              <a:ext cx="658800" cy="12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Freeform 14"/>
          <p:cNvSpPr/>
          <p:nvPr/>
        </p:nvSpPr>
        <p:spPr>
          <a:xfrm>
            <a:off x="3352680" y="2585880"/>
            <a:ext cx="2670120" cy="2751120"/>
          </a:xfrm>
          <a:custGeom>
            <a:avLst/>
            <a:gdLst>
              <a:gd name="textAreaLeft" fmla="*/ 0 w 2670120"/>
              <a:gd name="textAreaRight" fmla="*/ 2670480 w 2670120"/>
              <a:gd name="textAreaTop" fmla="*/ 0 h 2751120"/>
              <a:gd name="textAreaBottom" fmla="*/ 2751120 h 2751120"/>
            </a:gdLst>
            <a:ahLst/>
            <a:rect l="textAreaLeft" t="textAreaTop" r="textAreaRight" b="textAreaBottom"/>
            <a:pathLst>
              <a:path w="1682" h="1733">
                <a:moveTo>
                  <a:pt x="0" y="1732"/>
                </a:moveTo>
                <a:lnTo>
                  <a:pt x="249" y="1592"/>
                </a:lnTo>
                <a:lnTo>
                  <a:pt x="485" y="1452"/>
                </a:lnTo>
                <a:lnTo>
                  <a:pt x="710" y="1307"/>
                </a:lnTo>
                <a:lnTo>
                  <a:pt x="813" y="1232"/>
                </a:lnTo>
                <a:lnTo>
                  <a:pt x="910" y="1157"/>
                </a:lnTo>
                <a:lnTo>
                  <a:pt x="1001" y="1076"/>
                </a:lnTo>
                <a:lnTo>
                  <a:pt x="1086" y="990"/>
                </a:lnTo>
                <a:lnTo>
                  <a:pt x="1244" y="812"/>
                </a:lnTo>
                <a:lnTo>
                  <a:pt x="1317" y="726"/>
                </a:lnTo>
                <a:lnTo>
                  <a:pt x="1378" y="640"/>
                </a:lnTo>
                <a:lnTo>
                  <a:pt x="1438" y="560"/>
                </a:lnTo>
                <a:lnTo>
                  <a:pt x="1487" y="484"/>
                </a:lnTo>
                <a:lnTo>
                  <a:pt x="1529" y="414"/>
                </a:lnTo>
                <a:lnTo>
                  <a:pt x="1566" y="350"/>
                </a:lnTo>
                <a:lnTo>
                  <a:pt x="1596" y="285"/>
                </a:lnTo>
                <a:lnTo>
                  <a:pt x="1620" y="226"/>
                </a:lnTo>
                <a:lnTo>
                  <a:pt x="1657" y="108"/>
                </a:lnTo>
                <a:lnTo>
                  <a:pt x="1681" y="0"/>
                </a:lnTo>
              </a:path>
            </a:pathLst>
          </a:custGeom>
          <a:noFill/>
          <a:ln cap="rnd" w="507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15"/>
          <p:cNvSpPr/>
          <p:nvPr/>
        </p:nvSpPr>
        <p:spPr>
          <a:xfrm>
            <a:off x="5786280" y="2052720"/>
            <a:ext cx="536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Freeform 36"/>
          <p:cNvSpPr/>
          <p:nvPr/>
        </p:nvSpPr>
        <p:spPr>
          <a:xfrm>
            <a:off x="2666880" y="3732120"/>
            <a:ext cx="4137120" cy="738360"/>
          </a:xfrm>
          <a:custGeom>
            <a:avLst/>
            <a:gdLst>
              <a:gd name="textAreaLeft" fmla="*/ 0 w 4137120"/>
              <a:gd name="textAreaRight" fmla="*/ 4137120 w 4137120"/>
              <a:gd name="textAreaTop" fmla="*/ 0 h 738360"/>
              <a:gd name="textAreaBottom" fmla="*/ 738720 h 738360"/>
            </a:gdLst>
            <a:ahLst/>
            <a:rect l="textAreaLeft" t="textAreaTop" r="textAreaRight" b="textAreaBottom"/>
            <a:pathLst>
              <a:path w="2606" h="465">
                <a:moveTo>
                  <a:pt x="0" y="31"/>
                </a:moveTo>
                <a:lnTo>
                  <a:pt x="55" y="58"/>
                </a:lnTo>
                <a:lnTo>
                  <a:pt x="123" y="95"/>
                </a:lnTo>
                <a:lnTo>
                  <a:pt x="205" y="140"/>
                </a:lnTo>
                <a:lnTo>
                  <a:pt x="301" y="189"/>
                </a:lnTo>
                <a:lnTo>
                  <a:pt x="404" y="234"/>
                </a:lnTo>
                <a:lnTo>
                  <a:pt x="500" y="284"/>
                </a:lnTo>
                <a:lnTo>
                  <a:pt x="603" y="325"/>
                </a:lnTo>
                <a:lnTo>
                  <a:pt x="692" y="356"/>
                </a:lnTo>
                <a:lnTo>
                  <a:pt x="870" y="406"/>
                </a:lnTo>
                <a:lnTo>
                  <a:pt x="1049" y="437"/>
                </a:lnTo>
                <a:lnTo>
                  <a:pt x="1220" y="460"/>
                </a:lnTo>
                <a:lnTo>
                  <a:pt x="1391" y="464"/>
                </a:lnTo>
                <a:lnTo>
                  <a:pt x="1556" y="455"/>
                </a:lnTo>
                <a:lnTo>
                  <a:pt x="1714" y="433"/>
                </a:lnTo>
                <a:lnTo>
                  <a:pt x="1871" y="392"/>
                </a:lnTo>
                <a:lnTo>
                  <a:pt x="2022" y="343"/>
                </a:lnTo>
                <a:lnTo>
                  <a:pt x="2098" y="311"/>
                </a:lnTo>
                <a:lnTo>
                  <a:pt x="2180" y="266"/>
                </a:lnTo>
                <a:lnTo>
                  <a:pt x="2262" y="221"/>
                </a:lnTo>
                <a:lnTo>
                  <a:pt x="2344" y="171"/>
                </a:lnTo>
                <a:lnTo>
                  <a:pt x="2420" y="122"/>
                </a:lnTo>
                <a:lnTo>
                  <a:pt x="2488" y="72"/>
                </a:lnTo>
                <a:lnTo>
                  <a:pt x="2550" y="31"/>
                </a:lnTo>
                <a:lnTo>
                  <a:pt x="2605" y="0"/>
                </a:lnTo>
              </a:path>
            </a:pathLst>
          </a:custGeom>
          <a:noFill/>
          <a:ln cap="rnd" w="507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37"/>
          <p:cNvSpPr/>
          <p:nvPr/>
        </p:nvSpPr>
        <p:spPr>
          <a:xfrm>
            <a:off x="6777000" y="3348000"/>
            <a:ext cx="663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5"/>
          <p:cNvSpPr/>
          <p:nvPr/>
        </p:nvSpPr>
        <p:spPr>
          <a:xfrm>
            <a:off x="3124080" y="6235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6"/>
          <p:cNvSpPr/>
          <p:nvPr/>
        </p:nvSpPr>
        <p:spPr>
          <a:xfrm>
            <a:off x="2209680" y="1735200"/>
            <a:ext cx="0" cy="426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7"/>
          <p:cNvSpPr/>
          <p:nvPr/>
        </p:nvSpPr>
        <p:spPr>
          <a:xfrm>
            <a:off x="2219400" y="6006960"/>
            <a:ext cx="4276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8"/>
          <p:cNvSpPr/>
          <p:nvPr/>
        </p:nvSpPr>
        <p:spPr>
          <a:xfrm>
            <a:off x="6376320" y="5958000"/>
            <a:ext cx="1047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tida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9"/>
          <p:cNvSpPr/>
          <p:nvPr/>
        </p:nvSpPr>
        <p:spPr>
          <a:xfrm>
            <a:off x="627120" y="1593720"/>
            <a:ext cx="1049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10"/>
          <p:cNvSpPr/>
          <p:nvPr/>
        </p:nvSpPr>
        <p:spPr>
          <a:xfrm>
            <a:off x="2389320" y="2084400"/>
            <a:ext cx="3985920" cy="2462040"/>
          </a:xfrm>
          <a:prstGeom prst="line">
            <a:avLst/>
          </a:prstGeom>
          <a:ln w="507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11"/>
          <p:cNvSpPr/>
          <p:nvPr/>
        </p:nvSpPr>
        <p:spPr>
          <a:xfrm>
            <a:off x="6303960" y="4684680"/>
            <a:ext cx="1120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 = 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Line 12"/>
          <p:cNvSpPr/>
          <p:nvPr/>
        </p:nvSpPr>
        <p:spPr>
          <a:xfrm>
            <a:off x="2389320" y="2313000"/>
            <a:ext cx="2842920" cy="3376440"/>
          </a:xfrm>
          <a:prstGeom prst="line">
            <a:avLst/>
          </a:prstGeom>
          <a:ln w="507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13"/>
          <p:cNvSpPr/>
          <p:nvPr/>
        </p:nvSpPr>
        <p:spPr>
          <a:xfrm>
            <a:off x="5253120" y="5405400"/>
            <a:ext cx="625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4" name="Group 42"/>
          <p:cNvGrpSpPr/>
          <p:nvPr/>
        </p:nvGrpSpPr>
        <p:grpSpPr>
          <a:xfrm>
            <a:off x="1671480" y="3084480"/>
            <a:ext cx="2962800" cy="3217680"/>
            <a:chOff x="1671480" y="3084480"/>
            <a:chExt cx="2962800" cy="3217680"/>
          </a:xfrm>
        </p:grpSpPr>
        <p:sp>
          <p:nvSpPr>
            <p:cNvPr id="725" name="Line 16"/>
            <p:cNvSpPr/>
            <p:nvPr/>
          </p:nvSpPr>
          <p:spPr>
            <a:xfrm>
              <a:off x="4419720" y="3367080"/>
              <a:ext cx="0" cy="2639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17"/>
            <p:cNvSpPr/>
            <p:nvPr/>
          </p:nvSpPr>
          <p:spPr>
            <a:xfrm>
              <a:off x="4343400" y="46483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Line 18"/>
            <p:cNvSpPr/>
            <p:nvPr/>
          </p:nvSpPr>
          <p:spPr>
            <a:xfrm flipH="1">
              <a:off x="2198160" y="3352680"/>
              <a:ext cx="223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9"/>
            <p:cNvSpPr/>
            <p:nvPr/>
          </p:nvSpPr>
          <p:spPr>
            <a:xfrm>
              <a:off x="4343400" y="32767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Rectangle 20"/>
            <p:cNvSpPr/>
            <p:nvPr/>
          </p:nvSpPr>
          <p:spPr>
            <a:xfrm>
              <a:off x="1671480" y="3084480"/>
              <a:ext cx="422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P*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Rectangle 21"/>
            <p:cNvSpPr/>
            <p:nvPr/>
          </p:nvSpPr>
          <p:spPr>
            <a:xfrm>
              <a:off x="4186080" y="5938920"/>
              <a:ext cx="4482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Q*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1" name="Group 51"/>
          <p:cNvGrpSpPr/>
          <p:nvPr/>
        </p:nvGrpSpPr>
        <p:grpSpPr>
          <a:xfrm>
            <a:off x="1676880" y="3728880"/>
            <a:ext cx="3733200" cy="2610720"/>
            <a:chOff x="1676880" y="3728880"/>
            <a:chExt cx="3733200" cy="2610720"/>
          </a:xfrm>
        </p:grpSpPr>
        <p:sp>
          <p:nvSpPr>
            <p:cNvPr id="732" name="Line 29"/>
            <p:cNvSpPr/>
            <p:nvPr/>
          </p:nvSpPr>
          <p:spPr>
            <a:xfrm>
              <a:off x="5308560" y="3976560"/>
              <a:ext cx="0" cy="20304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Line 32"/>
            <p:cNvSpPr/>
            <p:nvPr/>
          </p:nvSpPr>
          <p:spPr>
            <a:xfrm flipH="1">
              <a:off x="2198160" y="3886200"/>
              <a:ext cx="30718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33"/>
            <p:cNvSpPr/>
            <p:nvPr/>
          </p:nvSpPr>
          <p:spPr>
            <a:xfrm>
              <a:off x="5257800" y="38098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Rectangle 34"/>
            <p:cNvSpPr/>
            <p:nvPr/>
          </p:nvSpPr>
          <p:spPr>
            <a:xfrm>
              <a:off x="1676880" y="3728880"/>
              <a:ext cx="4068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Rectangle 35"/>
            <p:cNvSpPr/>
            <p:nvPr/>
          </p:nvSpPr>
          <p:spPr>
            <a:xfrm>
              <a:off x="4953240" y="5938920"/>
              <a:ext cx="432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7f7f7f"/>
                </a:solidFill>
                <a:latin typeface="Arial"/>
              </a:rPr>
              <a:t>El beneficio se maximiza cuando el ingreso marginal es igual al coste marginal</a:t>
            </a:r>
            <a:endParaRPr b="1" lang="en-US" sz="34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2 – El mon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/>
          </p:nvPr>
        </p:nvSpPr>
        <p:spPr>
          <a:xfrm>
            <a:off x="1143000" y="2233440"/>
            <a:ext cx="7772400" cy="371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Un ejemplo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Rectangle 8"/>
          <p:cNvSpPr/>
          <p:nvPr/>
        </p:nvSpPr>
        <p:spPr>
          <a:xfrm>
            <a:off x="1733400" y="3143160"/>
            <a:ext cx="5124600" cy="22669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Line 13"/>
          <p:cNvSpPr/>
          <p:nvPr/>
        </p:nvSpPr>
        <p:spPr>
          <a:xfrm>
            <a:off x="3306600" y="4700520"/>
            <a:ext cx="74772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14"/>
          <p:cNvSpPr/>
          <p:nvPr/>
        </p:nvSpPr>
        <p:spPr>
          <a:xfrm>
            <a:off x="4946760" y="4373640"/>
            <a:ext cx="366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15"/>
          <p:cNvSpPr/>
          <p:nvPr/>
        </p:nvSpPr>
        <p:spPr>
          <a:xfrm>
            <a:off x="3762360" y="4772160"/>
            <a:ext cx="366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16"/>
          <p:cNvSpPr/>
          <p:nvPr/>
        </p:nvSpPr>
        <p:spPr>
          <a:xfrm>
            <a:off x="3764880" y="4052880"/>
            <a:ext cx="339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17"/>
          <p:cNvSpPr/>
          <p:nvPr/>
        </p:nvSpPr>
        <p:spPr>
          <a:xfrm>
            <a:off x="1990800" y="4373640"/>
            <a:ext cx="993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000000"/>
                </a:solidFill>
                <a:latin typeface="Times New Roman"/>
              </a:rPr>
              <a:t>C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18"/>
          <p:cNvSpPr/>
          <p:nvPr/>
        </p:nvSpPr>
        <p:spPr>
          <a:xfrm>
            <a:off x="5991840" y="3286080"/>
            <a:ext cx="514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20"/>
          <p:cNvSpPr/>
          <p:nvPr/>
        </p:nvSpPr>
        <p:spPr>
          <a:xfrm>
            <a:off x="3436200" y="3286080"/>
            <a:ext cx="11696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s-ES" sz="4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21"/>
          <p:cNvSpPr/>
          <p:nvPr/>
        </p:nvSpPr>
        <p:spPr>
          <a:xfrm>
            <a:off x="1850400" y="3227400"/>
            <a:ext cx="1158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000000"/>
                </a:solidFill>
                <a:latin typeface="Times New Roman"/>
              </a:rPr>
              <a:t>Cos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22"/>
          <p:cNvSpPr/>
          <p:nvPr/>
        </p:nvSpPr>
        <p:spPr>
          <a:xfrm>
            <a:off x="4696920" y="4373640"/>
            <a:ext cx="255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23"/>
          <p:cNvSpPr/>
          <p:nvPr/>
        </p:nvSpPr>
        <p:spPr>
          <a:xfrm>
            <a:off x="5140800" y="3286080"/>
            <a:ext cx="5097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27"/>
          <p:cNvSpPr/>
          <p:nvPr/>
        </p:nvSpPr>
        <p:spPr>
          <a:xfrm>
            <a:off x="4286160" y="4314960"/>
            <a:ext cx="4046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28"/>
          <p:cNvSpPr/>
          <p:nvPr/>
        </p:nvSpPr>
        <p:spPr>
          <a:xfrm>
            <a:off x="3501720" y="4713120"/>
            <a:ext cx="3117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29"/>
          <p:cNvSpPr/>
          <p:nvPr/>
        </p:nvSpPr>
        <p:spPr>
          <a:xfrm>
            <a:off x="3504600" y="3994200"/>
            <a:ext cx="3117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30"/>
          <p:cNvSpPr/>
          <p:nvPr/>
        </p:nvSpPr>
        <p:spPr>
          <a:xfrm>
            <a:off x="2997360" y="4314960"/>
            <a:ext cx="4046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31"/>
          <p:cNvSpPr/>
          <p:nvPr/>
        </p:nvSpPr>
        <p:spPr>
          <a:xfrm>
            <a:off x="5772240" y="3227400"/>
            <a:ext cx="296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32"/>
          <p:cNvSpPr/>
          <p:nvPr/>
        </p:nvSpPr>
        <p:spPr>
          <a:xfrm>
            <a:off x="4745160" y="3227400"/>
            <a:ext cx="4046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33"/>
          <p:cNvSpPr/>
          <p:nvPr/>
        </p:nvSpPr>
        <p:spPr>
          <a:xfrm>
            <a:off x="3147840" y="3227400"/>
            <a:ext cx="4046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El monopolio</a:t>
            </a:r>
            <a:endParaRPr b="1" lang="en-US" sz="3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61" name="Text Box 12"/>
          <p:cNvSpPr/>
          <p:nvPr/>
        </p:nvSpPr>
        <p:spPr>
          <a:xfrm>
            <a:off x="369360" y="1368360"/>
            <a:ext cx="7503480" cy="520560"/>
          </a:xfrm>
          <a:prstGeom prst="rect">
            <a:avLst/>
          </a:prstGeom>
          <a:solidFill>
            <a:srgbClr val="d8c0cb"/>
          </a:solidFill>
          <a:ln w="12600">
            <a:solidFill>
              <a:srgbClr val="37654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 decisión de producción del monopolis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2 – El mon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/>
          </p:nvPr>
        </p:nvSpPr>
        <p:spPr>
          <a:xfrm>
            <a:off x="1143000" y="2252160"/>
            <a:ext cx="7772400" cy="369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Un ejemplo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Line 13"/>
          <p:cNvSpPr/>
          <p:nvPr/>
        </p:nvSpPr>
        <p:spPr>
          <a:xfrm>
            <a:off x="3106800" y="5361120"/>
            <a:ext cx="747720" cy="144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14"/>
          <p:cNvSpPr/>
          <p:nvPr/>
        </p:nvSpPr>
        <p:spPr>
          <a:xfrm>
            <a:off x="5703840" y="5033880"/>
            <a:ext cx="366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17"/>
          <p:cNvSpPr/>
          <p:nvPr/>
        </p:nvSpPr>
        <p:spPr>
          <a:xfrm>
            <a:off x="1810440" y="5033880"/>
            <a:ext cx="649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000000"/>
                </a:solidFill>
                <a:latin typeface="Times New Roman"/>
              </a:rPr>
              <a:t>I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18"/>
          <p:cNvSpPr/>
          <p:nvPr/>
        </p:nvSpPr>
        <p:spPr>
          <a:xfrm>
            <a:off x="6791400" y="3946680"/>
            <a:ext cx="366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Rectangle 19"/>
          <p:cNvSpPr/>
          <p:nvPr/>
        </p:nvSpPr>
        <p:spPr>
          <a:xfrm>
            <a:off x="5977080" y="3946680"/>
            <a:ext cx="366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Rectangle 24"/>
          <p:cNvSpPr/>
          <p:nvPr/>
        </p:nvSpPr>
        <p:spPr>
          <a:xfrm>
            <a:off x="1707840" y="3860640"/>
            <a:ext cx="3319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s-ES" sz="4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s-ES" sz="4000" spc="-1" strike="noStrike">
                <a:solidFill>
                  <a:srgbClr val="000000"/>
                </a:solidFill>
                <a:latin typeface="Symbol"/>
                <a:ea typeface="Symbol"/>
              </a:rPr>
              <a:t></a:t>
            </a:r>
            <a:r>
              <a:rPr b="1" i="1" lang="es-ES" sz="4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s-ES" sz="4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s-ES" sz="4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Rectangle 28"/>
          <p:cNvSpPr/>
          <p:nvPr/>
        </p:nvSpPr>
        <p:spPr>
          <a:xfrm>
            <a:off x="1787400" y="3116160"/>
            <a:ext cx="6282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000000"/>
                </a:solidFill>
                <a:latin typeface="Times New Roman"/>
              </a:rPr>
              <a:t>Demanda </a:t>
            </a:r>
            <a:r>
              <a:rPr b="1" lang="es-ES" sz="4000" spc="-1" strike="noStrike">
                <a:solidFill>
                  <a:srgbClr val="000000"/>
                </a:solidFill>
                <a:latin typeface="Symbol"/>
                <a:ea typeface="Symbol"/>
              </a:rPr>
              <a:t></a:t>
            </a:r>
            <a:r>
              <a:rPr b="1" i="1" lang="es-ES" sz="4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s-ES" sz="4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s-ES" sz="4000" spc="-1" strike="noStrike">
                <a:solidFill>
                  <a:srgbClr val="000000"/>
                </a:solidFill>
                <a:latin typeface="Symbol"/>
                <a:ea typeface="Symbol"/>
              </a:rPr>
              <a:t></a:t>
            </a: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40 </a:t>
            </a:r>
            <a:r>
              <a:rPr b="1" lang="es-ES" sz="4000" spc="-1" strike="noStrike">
                <a:solidFill>
                  <a:srgbClr val="000000"/>
                </a:solidFill>
                <a:latin typeface="Symbol"/>
                <a:ea typeface="Symbol"/>
              </a:rPr>
              <a:t></a:t>
            </a:r>
            <a:r>
              <a:rPr b="1" i="1" lang="es-ES" sz="4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29"/>
          <p:cNvSpPr/>
          <p:nvPr/>
        </p:nvSpPr>
        <p:spPr>
          <a:xfrm>
            <a:off x="5454000" y="5033880"/>
            <a:ext cx="255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30"/>
          <p:cNvSpPr/>
          <p:nvPr/>
        </p:nvSpPr>
        <p:spPr>
          <a:xfrm>
            <a:off x="4499640" y="5033880"/>
            <a:ext cx="5097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31"/>
          <p:cNvSpPr/>
          <p:nvPr/>
        </p:nvSpPr>
        <p:spPr>
          <a:xfrm>
            <a:off x="5475960" y="3946680"/>
            <a:ext cx="5097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39"/>
          <p:cNvSpPr/>
          <p:nvPr/>
        </p:nvSpPr>
        <p:spPr>
          <a:xfrm>
            <a:off x="7145640" y="3905280"/>
            <a:ext cx="15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40"/>
          <p:cNvSpPr/>
          <p:nvPr/>
        </p:nvSpPr>
        <p:spPr>
          <a:xfrm>
            <a:off x="5194080" y="4975200"/>
            <a:ext cx="169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41"/>
          <p:cNvSpPr/>
          <p:nvPr/>
        </p:nvSpPr>
        <p:spPr>
          <a:xfrm>
            <a:off x="4086360" y="4975200"/>
            <a:ext cx="4046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42"/>
          <p:cNvSpPr/>
          <p:nvPr/>
        </p:nvSpPr>
        <p:spPr>
          <a:xfrm>
            <a:off x="3141720" y="5373720"/>
            <a:ext cx="936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s-ES" sz="4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ectangle 43"/>
          <p:cNvSpPr/>
          <p:nvPr/>
        </p:nvSpPr>
        <p:spPr>
          <a:xfrm>
            <a:off x="3168720" y="4653000"/>
            <a:ext cx="826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s-ES" sz="4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44"/>
          <p:cNvSpPr/>
          <p:nvPr/>
        </p:nvSpPr>
        <p:spPr>
          <a:xfrm>
            <a:off x="2797200" y="4975200"/>
            <a:ext cx="4046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45"/>
          <p:cNvSpPr/>
          <p:nvPr/>
        </p:nvSpPr>
        <p:spPr>
          <a:xfrm>
            <a:off x="6545160" y="3887640"/>
            <a:ext cx="169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46"/>
          <p:cNvSpPr/>
          <p:nvPr/>
        </p:nvSpPr>
        <p:spPr>
          <a:xfrm>
            <a:off x="5062680" y="3887640"/>
            <a:ext cx="4046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El monopolio</a:t>
            </a:r>
            <a:endParaRPr b="1" lang="en-US" sz="3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85" name="Text Box 12"/>
          <p:cNvSpPr/>
          <p:nvPr/>
        </p:nvSpPr>
        <p:spPr>
          <a:xfrm>
            <a:off x="369360" y="1368360"/>
            <a:ext cx="7503480" cy="520560"/>
          </a:xfrm>
          <a:prstGeom prst="rect">
            <a:avLst/>
          </a:prstGeom>
          <a:solidFill>
            <a:srgbClr val="d8c0cb"/>
          </a:solidFill>
          <a:ln w="12600">
            <a:solidFill>
              <a:srgbClr val="37654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 decisión de producción del monopolis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2 – El mon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/>
          </p:nvPr>
        </p:nvSpPr>
        <p:spPr>
          <a:xfrm>
            <a:off x="1143000" y="2252160"/>
            <a:ext cx="7772400" cy="369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Un ejemplo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Rectangle 15"/>
          <p:cNvSpPr/>
          <p:nvPr/>
        </p:nvSpPr>
        <p:spPr>
          <a:xfrm>
            <a:off x="5227560" y="4746600"/>
            <a:ext cx="127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16"/>
          <p:cNvSpPr/>
          <p:nvPr/>
        </p:nvSpPr>
        <p:spPr>
          <a:xfrm>
            <a:off x="4662360" y="4746600"/>
            <a:ext cx="253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18"/>
          <p:cNvSpPr/>
          <p:nvPr/>
        </p:nvSpPr>
        <p:spPr>
          <a:xfrm>
            <a:off x="1351080" y="4659480"/>
            <a:ext cx="536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Cuando </a:t>
            </a:r>
            <a:r>
              <a:rPr b="1" i="1" lang="es-ES" sz="4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1" lang="es-ES" sz="4000" spc="-1" strike="noStrike">
                <a:solidFill>
                  <a:srgbClr val="000000"/>
                </a:solidFill>
                <a:latin typeface="Symbol"/>
                <a:ea typeface="Symbol"/>
              </a:rPr>
              <a:t></a:t>
            </a: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10, </a:t>
            </a:r>
            <a:r>
              <a:rPr b="1" i="1" lang="es-ES" sz="4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s-ES" sz="4000" spc="-1" strike="noStrike">
                <a:solidFill>
                  <a:srgbClr val="000000"/>
                </a:solidFill>
                <a:latin typeface="Symbol"/>
                <a:ea typeface="Symbol"/>
              </a:rPr>
              <a:t></a:t>
            </a: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20"/>
          <p:cNvSpPr/>
          <p:nvPr/>
        </p:nvSpPr>
        <p:spPr>
          <a:xfrm>
            <a:off x="6792120" y="3214800"/>
            <a:ext cx="255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21"/>
          <p:cNvSpPr/>
          <p:nvPr/>
        </p:nvSpPr>
        <p:spPr>
          <a:xfrm>
            <a:off x="5650920" y="3214800"/>
            <a:ext cx="255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Rectangle 22"/>
          <p:cNvSpPr/>
          <p:nvPr/>
        </p:nvSpPr>
        <p:spPr>
          <a:xfrm>
            <a:off x="4696560" y="3214800"/>
            <a:ext cx="5097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Rectangle 26"/>
          <p:cNvSpPr/>
          <p:nvPr/>
        </p:nvSpPr>
        <p:spPr>
          <a:xfrm>
            <a:off x="6383520" y="3157560"/>
            <a:ext cx="4046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Rectangle 27"/>
          <p:cNvSpPr/>
          <p:nvPr/>
        </p:nvSpPr>
        <p:spPr>
          <a:xfrm>
            <a:off x="5391000" y="3157560"/>
            <a:ext cx="169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Rectangle 28"/>
          <p:cNvSpPr/>
          <p:nvPr/>
        </p:nvSpPr>
        <p:spPr>
          <a:xfrm>
            <a:off x="2776680" y="3157560"/>
            <a:ext cx="4046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Rectangle 31"/>
          <p:cNvSpPr/>
          <p:nvPr/>
        </p:nvSpPr>
        <p:spPr>
          <a:xfrm>
            <a:off x="3598560" y="4746600"/>
            <a:ext cx="127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Rectangle 34"/>
          <p:cNvSpPr/>
          <p:nvPr/>
        </p:nvSpPr>
        <p:spPr>
          <a:xfrm>
            <a:off x="7043040" y="3214800"/>
            <a:ext cx="366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35"/>
          <p:cNvSpPr/>
          <p:nvPr/>
        </p:nvSpPr>
        <p:spPr>
          <a:xfrm>
            <a:off x="5901480" y="3214800"/>
            <a:ext cx="366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Rectangle 37"/>
          <p:cNvSpPr/>
          <p:nvPr/>
        </p:nvSpPr>
        <p:spPr>
          <a:xfrm>
            <a:off x="3072240" y="3214800"/>
            <a:ext cx="1171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000000"/>
                </a:solidFill>
                <a:latin typeface="Times New Roman"/>
              </a:rPr>
              <a:t>CM 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38"/>
          <p:cNvSpPr/>
          <p:nvPr/>
        </p:nvSpPr>
        <p:spPr>
          <a:xfrm>
            <a:off x="1789560" y="3214800"/>
            <a:ext cx="649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000000"/>
                </a:solidFill>
                <a:latin typeface="Times New Roman"/>
              </a:rPr>
              <a:t>I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El monopolio</a:t>
            </a:r>
            <a:endParaRPr b="1" lang="en-US" sz="3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05" name="Text Box 12"/>
          <p:cNvSpPr/>
          <p:nvPr/>
        </p:nvSpPr>
        <p:spPr>
          <a:xfrm>
            <a:off x="369360" y="1368360"/>
            <a:ext cx="7503480" cy="520560"/>
          </a:xfrm>
          <a:prstGeom prst="rect">
            <a:avLst/>
          </a:prstGeom>
          <a:solidFill>
            <a:srgbClr val="d8c0cb"/>
          </a:solidFill>
          <a:ln w="12600">
            <a:solidFill>
              <a:srgbClr val="37654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 decisión de producción del monopolis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39"/>
          <p:cNvSpPr/>
          <p:nvPr/>
        </p:nvSpPr>
        <p:spPr>
          <a:xfrm>
            <a:off x="1695240" y="3867120"/>
            <a:ext cx="184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1" lang="es-ES" sz="4000" spc="-1" strike="noStrike">
                <a:solidFill>
                  <a:srgbClr val="000000"/>
                </a:solidFill>
                <a:latin typeface="Symbol"/>
                <a:ea typeface="Symbol"/>
              </a:rPr>
              <a:t></a:t>
            </a: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2 – El mon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/>
          </p:nvPr>
        </p:nvSpPr>
        <p:spPr>
          <a:xfrm>
            <a:off x="1143000" y="2233440"/>
            <a:ext cx="7772400" cy="371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Un ejemplo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819000" indent="-28548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Igualando el ingreso marginal y el coste marginal, se puede verificar que los beneficios se maximizan cuando 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P = 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30 dólares y 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Q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 = 10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819000" indent="-28548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Como indica la siguiente gráfica: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El monopolio</a:t>
            </a:r>
            <a:endParaRPr b="1" lang="en-US" sz="3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12" name="Text Box 9"/>
          <p:cNvSpPr/>
          <p:nvPr/>
        </p:nvSpPr>
        <p:spPr>
          <a:xfrm>
            <a:off x="369360" y="1368360"/>
            <a:ext cx="7503480" cy="520560"/>
          </a:xfrm>
          <a:prstGeom prst="rect">
            <a:avLst/>
          </a:prstGeom>
          <a:solidFill>
            <a:srgbClr val="d8c0cb"/>
          </a:solidFill>
          <a:ln w="12600">
            <a:solidFill>
              <a:srgbClr val="37654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 decisión de producción del monopolis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2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2 – El mon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2"/>
          <p:cNvSpPr/>
          <p:nvPr/>
        </p:nvSpPr>
        <p:spPr>
          <a:xfrm>
            <a:off x="3124080" y="6235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Line 3"/>
          <p:cNvSpPr/>
          <p:nvPr/>
        </p:nvSpPr>
        <p:spPr>
          <a:xfrm>
            <a:off x="2209680" y="1716120"/>
            <a:ext cx="0" cy="426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Line 4"/>
          <p:cNvSpPr/>
          <p:nvPr/>
        </p:nvSpPr>
        <p:spPr>
          <a:xfrm>
            <a:off x="2238480" y="6006960"/>
            <a:ext cx="4276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Rectangle 5"/>
          <p:cNvSpPr/>
          <p:nvPr/>
        </p:nvSpPr>
        <p:spPr>
          <a:xfrm>
            <a:off x="6643080" y="5900760"/>
            <a:ext cx="1047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tida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6"/>
          <p:cNvSpPr/>
          <p:nvPr/>
        </p:nvSpPr>
        <p:spPr>
          <a:xfrm>
            <a:off x="1925640" y="159372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7"/>
          <p:cNvSpPr/>
          <p:nvPr/>
        </p:nvSpPr>
        <p:spPr>
          <a:xfrm>
            <a:off x="1900080" y="593892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ectangle 8"/>
          <p:cNvSpPr/>
          <p:nvPr/>
        </p:nvSpPr>
        <p:spPr>
          <a:xfrm>
            <a:off x="2814480" y="593892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ectangle 9"/>
          <p:cNvSpPr/>
          <p:nvPr/>
        </p:nvSpPr>
        <p:spPr>
          <a:xfrm>
            <a:off x="3957840" y="593892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10"/>
          <p:cNvSpPr/>
          <p:nvPr/>
        </p:nvSpPr>
        <p:spPr>
          <a:xfrm>
            <a:off x="4948200" y="593892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ectangle 11"/>
          <p:cNvSpPr/>
          <p:nvPr/>
        </p:nvSpPr>
        <p:spPr>
          <a:xfrm>
            <a:off x="6167520" y="593892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12"/>
          <p:cNvSpPr/>
          <p:nvPr/>
        </p:nvSpPr>
        <p:spPr>
          <a:xfrm>
            <a:off x="1595880" y="4967280"/>
            <a:ext cx="560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13"/>
          <p:cNvSpPr/>
          <p:nvPr/>
        </p:nvSpPr>
        <p:spPr>
          <a:xfrm>
            <a:off x="1595880" y="4481640"/>
            <a:ext cx="560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14"/>
          <p:cNvSpPr/>
          <p:nvPr/>
        </p:nvSpPr>
        <p:spPr>
          <a:xfrm>
            <a:off x="1595880" y="3995640"/>
            <a:ext cx="560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Rectangle 15"/>
          <p:cNvSpPr/>
          <p:nvPr/>
        </p:nvSpPr>
        <p:spPr>
          <a:xfrm>
            <a:off x="1595880" y="3024360"/>
            <a:ext cx="560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16"/>
          <p:cNvSpPr/>
          <p:nvPr/>
        </p:nvSpPr>
        <p:spPr>
          <a:xfrm>
            <a:off x="1595880" y="2052720"/>
            <a:ext cx="560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Rectangle 17"/>
          <p:cNvSpPr/>
          <p:nvPr/>
        </p:nvSpPr>
        <p:spPr>
          <a:xfrm>
            <a:off x="1747800" y="545292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0" name="Group 34"/>
          <p:cNvGrpSpPr/>
          <p:nvPr/>
        </p:nvGrpSpPr>
        <p:grpSpPr>
          <a:xfrm>
            <a:off x="2211480" y="1976400"/>
            <a:ext cx="4962960" cy="4046400"/>
            <a:chOff x="2211480" y="1976400"/>
            <a:chExt cx="4962960" cy="4046400"/>
          </a:xfrm>
        </p:grpSpPr>
        <p:sp>
          <p:nvSpPr>
            <p:cNvPr id="831" name="Freeform 18"/>
            <p:cNvSpPr/>
            <p:nvPr/>
          </p:nvSpPr>
          <p:spPr>
            <a:xfrm>
              <a:off x="2211480" y="2244600"/>
              <a:ext cx="4665600" cy="3778200"/>
            </a:xfrm>
            <a:custGeom>
              <a:avLst/>
              <a:gdLst>
                <a:gd name="textAreaLeft" fmla="*/ 0 w 4665600"/>
                <a:gd name="textAreaRight" fmla="*/ 4665960 w 4665600"/>
                <a:gd name="textAreaTop" fmla="*/ 0 h 3778200"/>
                <a:gd name="textAreaBottom" fmla="*/ 3778560 h 3778200"/>
              </a:gdLst>
              <a:ahLst/>
              <a:rect l="textAreaLeft" t="textAreaTop" r="textAreaRight" b="textAreaBottom"/>
              <a:pathLst>
                <a:path w="2939" h="2380">
                  <a:moveTo>
                    <a:pt x="0" y="2379"/>
                  </a:moveTo>
                  <a:lnTo>
                    <a:pt x="21" y="2343"/>
                  </a:lnTo>
                  <a:lnTo>
                    <a:pt x="41" y="2300"/>
                  </a:lnTo>
                  <a:lnTo>
                    <a:pt x="69" y="2252"/>
                  </a:lnTo>
                  <a:lnTo>
                    <a:pt x="97" y="2197"/>
                  </a:lnTo>
                  <a:lnTo>
                    <a:pt x="166" y="2069"/>
                  </a:lnTo>
                  <a:lnTo>
                    <a:pt x="242" y="1930"/>
                  </a:lnTo>
                  <a:lnTo>
                    <a:pt x="319" y="1784"/>
                  </a:lnTo>
                  <a:lnTo>
                    <a:pt x="395" y="1645"/>
                  </a:lnTo>
                  <a:lnTo>
                    <a:pt x="471" y="1517"/>
                  </a:lnTo>
                  <a:lnTo>
                    <a:pt x="506" y="1463"/>
                  </a:lnTo>
                  <a:lnTo>
                    <a:pt x="540" y="1408"/>
                  </a:lnTo>
                  <a:lnTo>
                    <a:pt x="603" y="1317"/>
                  </a:lnTo>
                  <a:lnTo>
                    <a:pt x="658" y="1232"/>
                  </a:lnTo>
                  <a:lnTo>
                    <a:pt x="714" y="1159"/>
                  </a:lnTo>
                  <a:lnTo>
                    <a:pt x="762" y="1092"/>
                  </a:lnTo>
                  <a:lnTo>
                    <a:pt x="880" y="959"/>
                  </a:lnTo>
                  <a:lnTo>
                    <a:pt x="949" y="892"/>
                  </a:lnTo>
                  <a:lnTo>
                    <a:pt x="1025" y="825"/>
                  </a:lnTo>
                  <a:lnTo>
                    <a:pt x="1109" y="753"/>
                  </a:lnTo>
                  <a:lnTo>
                    <a:pt x="1199" y="680"/>
                  </a:lnTo>
                  <a:lnTo>
                    <a:pt x="1407" y="528"/>
                  </a:lnTo>
                  <a:lnTo>
                    <a:pt x="1511" y="455"/>
                  </a:lnTo>
                  <a:lnTo>
                    <a:pt x="1614" y="388"/>
                  </a:lnTo>
                  <a:lnTo>
                    <a:pt x="1718" y="328"/>
                  </a:lnTo>
                  <a:lnTo>
                    <a:pt x="1815" y="273"/>
                  </a:lnTo>
                  <a:lnTo>
                    <a:pt x="1912" y="231"/>
                  </a:lnTo>
                  <a:lnTo>
                    <a:pt x="2009" y="188"/>
                  </a:lnTo>
                  <a:lnTo>
                    <a:pt x="2203" y="127"/>
                  </a:lnTo>
                  <a:lnTo>
                    <a:pt x="2377" y="85"/>
                  </a:lnTo>
                  <a:lnTo>
                    <a:pt x="2460" y="67"/>
                  </a:lnTo>
                  <a:lnTo>
                    <a:pt x="2529" y="49"/>
                  </a:lnTo>
                  <a:lnTo>
                    <a:pt x="2661" y="24"/>
                  </a:lnTo>
                  <a:lnTo>
                    <a:pt x="2772" y="6"/>
                  </a:lnTo>
                  <a:lnTo>
                    <a:pt x="2869" y="6"/>
                  </a:lnTo>
                  <a:lnTo>
                    <a:pt x="2938" y="0"/>
                  </a:lnTo>
                </a:path>
              </a:pathLst>
            </a:custGeom>
            <a:noFill/>
            <a:ln cap="rnd" w="507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19"/>
            <p:cNvSpPr/>
            <p:nvPr/>
          </p:nvSpPr>
          <p:spPr>
            <a:xfrm>
              <a:off x="6928920" y="1976400"/>
              <a:ext cx="245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Group 39"/>
          <p:cNvGrpSpPr/>
          <p:nvPr/>
        </p:nvGrpSpPr>
        <p:grpSpPr>
          <a:xfrm>
            <a:off x="2224080" y="2719440"/>
            <a:ext cx="4880160" cy="3531960"/>
            <a:chOff x="2224080" y="2719440"/>
            <a:chExt cx="4880160" cy="3531960"/>
          </a:xfrm>
        </p:grpSpPr>
        <p:sp>
          <p:nvSpPr>
            <p:cNvPr id="834" name="Line 21"/>
            <p:cNvSpPr/>
            <p:nvPr/>
          </p:nvSpPr>
          <p:spPr>
            <a:xfrm>
              <a:off x="2224080" y="4724280"/>
              <a:ext cx="19540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Line 22"/>
            <p:cNvSpPr/>
            <p:nvPr/>
          </p:nvSpPr>
          <p:spPr>
            <a:xfrm flipV="1">
              <a:off x="4191120" y="2719440"/>
              <a:ext cx="0" cy="332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6" name="Group 38"/>
            <p:cNvGrpSpPr/>
            <p:nvPr/>
          </p:nvGrpSpPr>
          <p:grpSpPr>
            <a:xfrm>
              <a:off x="2390760" y="4324320"/>
              <a:ext cx="4713480" cy="1927080"/>
              <a:chOff x="2390760" y="4324320"/>
              <a:chExt cx="4713480" cy="1927080"/>
            </a:xfrm>
          </p:grpSpPr>
          <p:sp>
            <p:nvSpPr>
              <p:cNvPr id="837" name="Freeform 23"/>
              <p:cNvSpPr/>
              <p:nvPr/>
            </p:nvSpPr>
            <p:spPr>
              <a:xfrm>
                <a:off x="2390760" y="4719600"/>
                <a:ext cx="3860640" cy="1531800"/>
              </a:xfrm>
              <a:custGeom>
                <a:avLst/>
                <a:gdLst>
                  <a:gd name="textAreaLeft" fmla="*/ 0 w 3860640"/>
                  <a:gd name="textAreaRight" fmla="*/ 3861000 w 3860640"/>
                  <a:gd name="textAreaTop" fmla="*/ 0 h 1531800"/>
                  <a:gd name="textAreaBottom" fmla="*/ 1532160 h 1531800"/>
                </a:gdLst>
                <a:ahLst/>
                <a:rect l="textAreaLeft" t="textAreaTop" r="textAreaRight" b="textAreaBottom"/>
                <a:pathLst>
                  <a:path w="2432" h="965">
                    <a:moveTo>
                      <a:pt x="0" y="870"/>
                    </a:moveTo>
                    <a:lnTo>
                      <a:pt x="18" y="851"/>
                    </a:lnTo>
                    <a:lnTo>
                      <a:pt x="37" y="819"/>
                    </a:lnTo>
                    <a:lnTo>
                      <a:pt x="94" y="750"/>
                    </a:lnTo>
                    <a:lnTo>
                      <a:pt x="157" y="668"/>
                    </a:lnTo>
                    <a:lnTo>
                      <a:pt x="226" y="580"/>
                    </a:lnTo>
                    <a:lnTo>
                      <a:pt x="296" y="485"/>
                    </a:lnTo>
                    <a:lnTo>
                      <a:pt x="371" y="397"/>
                    </a:lnTo>
                    <a:lnTo>
                      <a:pt x="447" y="315"/>
                    </a:lnTo>
                    <a:lnTo>
                      <a:pt x="522" y="252"/>
                    </a:lnTo>
                    <a:lnTo>
                      <a:pt x="667" y="151"/>
                    </a:lnTo>
                    <a:lnTo>
                      <a:pt x="743" y="114"/>
                    </a:lnTo>
                    <a:lnTo>
                      <a:pt x="818" y="76"/>
                    </a:lnTo>
                    <a:lnTo>
                      <a:pt x="894" y="44"/>
                    </a:lnTo>
                    <a:lnTo>
                      <a:pt x="976" y="19"/>
                    </a:lnTo>
                    <a:lnTo>
                      <a:pt x="1051" y="7"/>
                    </a:lnTo>
                    <a:lnTo>
                      <a:pt x="1133" y="0"/>
                    </a:lnTo>
                    <a:lnTo>
                      <a:pt x="1215" y="7"/>
                    </a:lnTo>
                    <a:lnTo>
                      <a:pt x="1303" y="13"/>
                    </a:lnTo>
                    <a:lnTo>
                      <a:pt x="1385" y="32"/>
                    </a:lnTo>
                    <a:lnTo>
                      <a:pt x="1480" y="63"/>
                    </a:lnTo>
                    <a:lnTo>
                      <a:pt x="1568" y="95"/>
                    </a:lnTo>
                    <a:lnTo>
                      <a:pt x="1650" y="139"/>
                    </a:lnTo>
                    <a:lnTo>
                      <a:pt x="1738" y="183"/>
                    </a:lnTo>
                    <a:lnTo>
                      <a:pt x="1820" y="240"/>
                    </a:lnTo>
                    <a:lnTo>
                      <a:pt x="1902" y="309"/>
                    </a:lnTo>
                    <a:lnTo>
                      <a:pt x="1990" y="397"/>
                    </a:lnTo>
                    <a:lnTo>
                      <a:pt x="2072" y="498"/>
                    </a:lnTo>
                    <a:lnTo>
                      <a:pt x="2160" y="605"/>
                    </a:lnTo>
                    <a:lnTo>
                      <a:pt x="2242" y="712"/>
                    </a:lnTo>
                    <a:lnTo>
                      <a:pt x="2311" y="807"/>
                    </a:lnTo>
                    <a:lnTo>
                      <a:pt x="2381" y="895"/>
                    </a:lnTo>
                    <a:lnTo>
                      <a:pt x="2431" y="964"/>
                    </a:lnTo>
                  </a:path>
                </a:pathLst>
              </a:custGeom>
              <a:noFill/>
              <a:ln cap="rnd" w="50760">
                <a:solidFill>
                  <a:srgbClr val="73854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Rectangle 24"/>
              <p:cNvSpPr/>
              <p:nvPr/>
            </p:nvSpPr>
            <p:spPr>
              <a:xfrm>
                <a:off x="5767560" y="4324320"/>
                <a:ext cx="13366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Beneficios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Line 25"/>
              <p:cNvSpPr/>
              <p:nvPr/>
            </p:nvSpPr>
            <p:spPr>
              <a:xfrm flipH="1">
                <a:off x="5347800" y="4689360"/>
                <a:ext cx="422280" cy="34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40" name="Group 36"/>
          <p:cNvGrpSpPr/>
          <p:nvPr/>
        </p:nvGrpSpPr>
        <p:grpSpPr>
          <a:xfrm>
            <a:off x="2722320" y="1900080"/>
            <a:ext cx="3054960" cy="4062240"/>
            <a:chOff x="2722320" y="1900080"/>
            <a:chExt cx="3054960" cy="4062240"/>
          </a:xfrm>
        </p:grpSpPr>
        <p:sp>
          <p:nvSpPr>
            <p:cNvPr id="841" name="Line 26"/>
            <p:cNvSpPr/>
            <p:nvPr/>
          </p:nvSpPr>
          <p:spPr>
            <a:xfrm flipV="1">
              <a:off x="2986200" y="2198520"/>
              <a:ext cx="2487600" cy="20052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Line 27"/>
            <p:cNvSpPr/>
            <p:nvPr/>
          </p:nvSpPr>
          <p:spPr>
            <a:xfrm flipV="1">
              <a:off x="2967120" y="3836880"/>
              <a:ext cx="2487600" cy="20052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Rectangle 28"/>
            <p:cNvSpPr/>
            <p:nvPr/>
          </p:nvSpPr>
          <p:spPr>
            <a:xfrm>
              <a:off x="2722320" y="3998880"/>
              <a:ext cx="245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29"/>
            <p:cNvSpPr/>
            <p:nvPr/>
          </p:nvSpPr>
          <p:spPr>
            <a:xfrm>
              <a:off x="5404680" y="1900080"/>
              <a:ext cx="300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i'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Rectangle 30"/>
            <p:cNvSpPr/>
            <p:nvPr/>
          </p:nvSpPr>
          <p:spPr>
            <a:xfrm>
              <a:off x="2722680" y="559908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Rectangle 31"/>
            <p:cNvSpPr/>
            <p:nvPr/>
          </p:nvSpPr>
          <p:spPr>
            <a:xfrm>
              <a:off x="5405400" y="3500280"/>
              <a:ext cx="371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c’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50800" y="190440"/>
            <a:ext cx="85932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Arial"/>
              </a:rPr>
              <a:t>Ejemplo de maximización de los beneficios</a:t>
            </a:r>
            <a:endParaRPr b="1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grpSp>
        <p:nvGrpSpPr>
          <p:cNvPr id="848" name="Group 35"/>
          <p:cNvGrpSpPr/>
          <p:nvPr/>
        </p:nvGrpSpPr>
        <p:grpSpPr>
          <a:xfrm>
            <a:off x="2212920" y="1595520"/>
            <a:ext cx="3995640" cy="4046400"/>
            <a:chOff x="2212920" y="1595520"/>
            <a:chExt cx="3995640" cy="4046400"/>
          </a:xfrm>
        </p:grpSpPr>
        <p:sp>
          <p:nvSpPr>
            <p:cNvPr id="849" name="Rectangle 20"/>
            <p:cNvSpPr/>
            <p:nvPr/>
          </p:nvSpPr>
          <p:spPr>
            <a:xfrm>
              <a:off x="5862600" y="159552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3"/>
            <p:cNvSpPr/>
            <p:nvPr/>
          </p:nvSpPr>
          <p:spPr>
            <a:xfrm>
              <a:off x="2212920" y="2057400"/>
              <a:ext cx="3962520" cy="3584520"/>
            </a:xfrm>
            <a:custGeom>
              <a:avLst/>
              <a:gdLst>
                <a:gd name="textAreaLeft" fmla="*/ 0 w 3962520"/>
                <a:gd name="textAreaRight" fmla="*/ 3962880 w 3962520"/>
                <a:gd name="textAreaTop" fmla="*/ 0 h 3584520"/>
                <a:gd name="textAreaBottom" fmla="*/ 3584880 h 3584520"/>
              </a:gdLst>
              <a:ahLst/>
              <a:rect l="textAreaLeft" t="textAreaTop" r="textAreaRight" b="textAreaBottom"/>
              <a:pathLst>
                <a:path w="2496" h="2258">
                  <a:moveTo>
                    <a:pt x="0" y="2257"/>
                  </a:moveTo>
                  <a:lnTo>
                    <a:pt x="50" y="2246"/>
                  </a:lnTo>
                  <a:lnTo>
                    <a:pt x="118" y="2229"/>
                  </a:lnTo>
                  <a:lnTo>
                    <a:pt x="193" y="2206"/>
                  </a:lnTo>
                  <a:lnTo>
                    <a:pt x="286" y="2183"/>
                  </a:lnTo>
                  <a:lnTo>
                    <a:pt x="473" y="2132"/>
                  </a:lnTo>
                  <a:lnTo>
                    <a:pt x="560" y="2098"/>
                  </a:lnTo>
                  <a:lnTo>
                    <a:pt x="647" y="2064"/>
                  </a:lnTo>
                  <a:lnTo>
                    <a:pt x="809" y="1984"/>
                  </a:lnTo>
                  <a:lnTo>
                    <a:pt x="971" y="1893"/>
                  </a:lnTo>
                  <a:lnTo>
                    <a:pt x="1132" y="1797"/>
                  </a:lnTo>
                  <a:lnTo>
                    <a:pt x="1294" y="1683"/>
                  </a:lnTo>
                  <a:lnTo>
                    <a:pt x="1450" y="1563"/>
                  </a:lnTo>
                  <a:lnTo>
                    <a:pt x="1531" y="1507"/>
                  </a:lnTo>
                  <a:lnTo>
                    <a:pt x="1605" y="1438"/>
                  </a:lnTo>
                  <a:lnTo>
                    <a:pt x="1686" y="1370"/>
                  </a:lnTo>
                  <a:lnTo>
                    <a:pt x="1761" y="1291"/>
                  </a:lnTo>
                  <a:lnTo>
                    <a:pt x="1842" y="1205"/>
                  </a:lnTo>
                  <a:lnTo>
                    <a:pt x="1916" y="1103"/>
                  </a:lnTo>
                  <a:lnTo>
                    <a:pt x="1954" y="1046"/>
                  </a:lnTo>
                  <a:lnTo>
                    <a:pt x="1991" y="984"/>
                  </a:lnTo>
                  <a:lnTo>
                    <a:pt x="2072" y="847"/>
                  </a:lnTo>
                  <a:lnTo>
                    <a:pt x="2153" y="694"/>
                  </a:lnTo>
                  <a:lnTo>
                    <a:pt x="2234" y="535"/>
                  </a:lnTo>
                  <a:lnTo>
                    <a:pt x="2308" y="375"/>
                  </a:lnTo>
                  <a:lnTo>
                    <a:pt x="2383" y="228"/>
                  </a:lnTo>
                  <a:lnTo>
                    <a:pt x="2414" y="165"/>
                  </a:lnTo>
                  <a:lnTo>
                    <a:pt x="2445" y="102"/>
                  </a:lnTo>
                  <a:lnTo>
                    <a:pt x="2470" y="46"/>
                  </a:lnTo>
                  <a:lnTo>
                    <a:pt x="2495" y="0"/>
                  </a:lnTo>
                </a:path>
              </a:pathLst>
            </a:custGeom>
            <a:noFill/>
            <a:ln cap="rnd" w="507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2 – El mon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El monopolio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El poder de monopolio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Las fuentes del poder de monopolio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Los costes sociales del poder del poder de monopolio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Esbozo del capítulo</a:t>
            </a:r>
            <a:endParaRPr b="1" lang="en-US" sz="34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4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2 – El mon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/>
          </p:nvPr>
        </p:nvSpPr>
        <p:spPr>
          <a:xfrm>
            <a:off x="495000" y="173340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5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Observaciones: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10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La pendiente de </a:t>
            </a:r>
            <a:r>
              <a:rPr b="0" i="1" lang="en-US" sz="2000" spc="-1" strike="noStrike">
                <a:solidFill>
                  <a:srgbClr val="262626"/>
                </a:solidFill>
                <a:latin typeface="Arial"/>
              </a:rPr>
              <a:t>ii’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 = pendiente </a:t>
            </a:r>
            <a:r>
              <a:rPr b="0" i="1" lang="en-US" sz="2000" spc="-1" strike="noStrike">
                <a:solidFill>
                  <a:srgbClr val="262626"/>
                </a:solidFill>
                <a:latin typeface="Arial"/>
              </a:rPr>
              <a:t>cc’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 y son paralelas en 10 unidades.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10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Los beneficios se maximizan en 10 unidades.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10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P = 30$, Q = 10,              IT = P x Q = 300$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10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CMe = 15$, Q = 10,          CT = CMe x Q = 150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10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Beneficios = IT - CT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1127160" indent="-221400">
              <a:lnSpc>
                <a:spcPct val="90000"/>
              </a:lnSpc>
              <a:spcBef>
                <a:spcPts val="850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150$ = 300$ - 150$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Rectangle 4"/>
          <p:cNvSpPr/>
          <p:nvPr/>
        </p:nvSpPr>
        <p:spPr>
          <a:xfrm>
            <a:off x="5913360" y="5823000"/>
            <a:ext cx="216072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Line 5"/>
          <p:cNvSpPr/>
          <p:nvPr/>
        </p:nvSpPr>
        <p:spPr>
          <a:xfrm>
            <a:off x="5230800" y="2452680"/>
            <a:ext cx="0" cy="3176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Line 6"/>
          <p:cNvSpPr/>
          <p:nvPr/>
        </p:nvSpPr>
        <p:spPr>
          <a:xfrm>
            <a:off x="5254560" y="5651640"/>
            <a:ext cx="31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7"/>
          <p:cNvSpPr/>
          <p:nvPr/>
        </p:nvSpPr>
        <p:spPr>
          <a:xfrm>
            <a:off x="7841520" y="5927760"/>
            <a:ext cx="1047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tida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8"/>
          <p:cNvSpPr/>
          <p:nvPr/>
        </p:nvSpPr>
        <p:spPr>
          <a:xfrm>
            <a:off x="4930920" y="23558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9"/>
          <p:cNvSpPr/>
          <p:nvPr/>
        </p:nvSpPr>
        <p:spPr>
          <a:xfrm>
            <a:off x="4871880" y="56498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10"/>
          <p:cNvSpPr/>
          <p:nvPr/>
        </p:nvSpPr>
        <p:spPr>
          <a:xfrm>
            <a:off x="5680080" y="56498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11"/>
          <p:cNvSpPr/>
          <p:nvPr/>
        </p:nvSpPr>
        <p:spPr>
          <a:xfrm>
            <a:off x="6534360" y="564984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12"/>
          <p:cNvSpPr/>
          <p:nvPr/>
        </p:nvSpPr>
        <p:spPr>
          <a:xfrm>
            <a:off x="7272360" y="564984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13"/>
          <p:cNvSpPr/>
          <p:nvPr/>
        </p:nvSpPr>
        <p:spPr>
          <a:xfrm>
            <a:off x="8183520" y="564984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14"/>
          <p:cNvSpPr/>
          <p:nvPr/>
        </p:nvSpPr>
        <p:spPr>
          <a:xfrm>
            <a:off x="4645440" y="4924440"/>
            <a:ext cx="560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Rectangle 15"/>
          <p:cNvSpPr/>
          <p:nvPr/>
        </p:nvSpPr>
        <p:spPr>
          <a:xfrm>
            <a:off x="4645440" y="4562640"/>
            <a:ext cx="560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ectangle 16"/>
          <p:cNvSpPr/>
          <p:nvPr/>
        </p:nvSpPr>
        <p:spPr>
          <a:xfrm>
            <a:off x="4645440" y="4199040"/>
            <a:ext cx="560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angle 17"/>
          <p:cNvSpPr/>
          <p:nvPr/>
        </p:nvSpPr>
        <p:spPr>
          <a:xfrm>
            <a:off x="4645440" y="3471840"/>
            <a:ext cx="560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Rectangle 18"/>
          <p:cNvSpPr/>
          <p:nvPr/>
        </p:nvSpPr>
        <p:spPr>
          <a:xfrm>
            <a:off x="4656600" y="2747880"/>
            <a:ext cx="560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Rectangle 19"/>
          <p:cNvSpPr/>
          <p:nvPr/>
        </p:nvSpPr>
        <p:spPr>
          <a:xfrm>
            <a:off x="4759560" y="528480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Freeform 20"/>
          <p:cNvSpPr/>
          <p:nvPr/>
        </p:nvSpPr>
        <p:spPr>
          <a:xfrm>
            <a:off x="5227560" y="2844720"/>
            <a:ext cx="3487680" cy="2819520"/>
          </a:xfrm>
          <a:custGeom>
            <a:avLst/>
            <a:gdLst>
              <a:gd name="textAreaLeft" fmla="*/ 0 w 3487680"/>
              <a:gd name="textAreaRight" fmla="*/ 3488040 w 3487680"/>
              <a:gd name="textAreaTop" fmla="*/ 0 h 2819520"/>
              <a:gd name="textAreaBottom" fmla="*/ 2819880 h 2819520"/>
            </a:gdLst>
            <a:ahLst/>
            <a:rect l="textAreaLeft" t="textAreaTop" r="textAreaRight" b="textAreaBottom"/>
            <a:pathLst>
              <a:path w="2197" h="1776">
                <a:moveTo>
                  <a:pt x="0" y="1775"/>
                </a:moveTo>
                <a:lnTo>
                  <a:pt x="18" y="1751"/>
                </a:lnTo>
                <a:lnTo>
                  <a:pt x="36" y="1716"/>
                </a:lnTo>
                <a:lnTo>
                  <a:pt x="71" y="1638"/>
                </a:lnTo>
                <a:lnTo>
                  <a:pt x="123" y="1543"/>
                </a:lnTo>
                <a:lnTo>
                  <a:pt x="176" y="1437"/>
                </a:lnTo>
                <a:lnTo>
                  <a:pt x="238" y="1330"/>
                </a:lnTo>
                <a:lnTo>
                  <a:pt x="299" y="1229"/>
                </a:lnTo>
                <a:lnTo>
                  <a:pt x="352" y="1134"/>
                </a:lnTo>
                <a:lnTo>
                  <a:pt x="404" y="1051"/>
                </a:lnTo>
                <a:lnTo>
                  <a:pt x="448" y="979"/>
                </a:lnTo>
                <a:lnTo>
                  <a:pt x="492" y="920"/>
                </a:lnTo>
                <a:lnTo>
                  <a:pt x="571" y="813"/>
                </a:lnTo>
                <a:lnTo>
                  <a:pt x="659" y="712"/>
                </a:lnTo>
                <a:lnTo>
                  <a:pt x="764" y="611"/>
                </a:lnTo>
                <a:lnTo>
                  <a:pt x="896" y="504"/>
                </a:lnTo>
                <a:lnTo>
                  <a:pt x="1054" y="392"/>
                </a:lnTo>
                <a:lnTo>
                  <a:pt x="1212" y="291"/>
                </a:lnTo>
                <a:lnTo>
                  <a:pt x="1291" y="243"/>
                </a:lnTo>
                <a:lnTo>
                  <a:pt x="1362" y="202"/>
                </a:lnTo>
                <a:lnTo>
                  <a:pt x="1502" y="142"/>
                </a:lnTo>
                <a:lnTo>
                  <a:pt x="1643" y="95"/>
                </a:lnTo>
                <a:lnTo>
                  <a:pt x="1774" y="65"/>
                </a:lnTo>
                <a:lnTo>
                  <a:pt x="1889" y="35"/>
                </a:lnTo>
                <a:lnTo>
                  <a:pt x="1985" y="17"/>
                </a:lnTo>
                <a:lnTo>
                  <a:pt x="2073" y="6"/>
                </a:lnTo>
                <a:lnTo>
                  <a:pt x="2143" y="6"/>
                </a:lnTo>
                <a:lnTo>
                  <a:pt x="2196" y="0"/>
                </a:lnTo>
              </a:path>
            </a:pathLst>
          </a:custGeom>
          <a:noFill/>
          <a:ln cap="rnd" w="507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Rectangle 21"/>
          <p:cNvSpPr/>
          <p:nvPr/>
        </p:nvSpPr>
        <p:spPr>
          <a:xfrm>
            <a:off x="8751600" y="269244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Freeform 22"/>
          <p:cNvSpPr/>
          <p:nvPr/>
        </p:nvSpPr>
        <p:spPr>
          <a:xfrm>
            <a:off x="5178600" y="2705040"/>
            <a:ext cx="2955600" cy="2675160"/>
          </a:xfrm>
          <a:custGeom>
            <a:avLst/>
            <a:gdLst>
              <a:gd name="textAreaLeft" fmla="*/ 0 w 2955600"/>
              <a:gd name="textAreaRight" fmla="*/ 2955960 w 2955600"/>
              <a:gd name="textAreaTop" fmla="*/ 0 h 2675160"/>
              <a:gd name="textAreaBottom" fmla="*/ 2675520 h 2675160"/>
            </a:gdLst>
            <a:ahLst/>
            <a:rect l="textAreaLeft" t="textAreaTop" r="textAreaRight" b="textAreaBottom"/>
            <a:pathLst>
              <a:path w="1862" h="1685">
                <a:moveTo>
                  <a:pt x="0" y="1684"/>
                </a:moveTo>
                <a:lnTo>
                  <a:pt x="33" y="1673"/>
                </a:lnTo>
                <a:lnTo>
                  <a:pt x="82" y="1661"/>
                </a:lnTo>
                <a:lnTo>
                  <a:pt x="140" y="1644"/>
                </a:lnTo>
                <a:lnTo>
                  <a:pt x="205" y="1627"/>
                </a:lnTo>
                <a:lnTo>
                  <a:pt x="353" y="1588"/>
                </a:lnTo>
                <a:lnTo>
                  <a:pt x="484" y="1537"/>
                </a:lnTo>
                <a:lnTo>
                  <a:pt x="607" y="1481"/>
                </a:lnTo>
                <a:lnTo>
                  <a:pt x="730" y="1413"/>
                </a:lnTo>
                <a:lnTo>
                  <a:pt x="845" y="1339"/>
                </a:lnTo>
                <a:lnTo>
                  <a:pt x="968" y="1255"/>
                </a:lnTo>
                <a:lnTo>
                  <a:pt x="1082" y="1170"/>
                </a:lnTo>
                <a:lnTo>
                  <a:pt x="1197" y="1074"/>
                </a:lnTo>
                <a:lnTo>
                  <a:pt x="1254" y="1023"/>
                </a:lnTo>
                <a:lnTo>
                  <a:pt x="1312" y="966"/>
                </a:lnTo>
                <a:lnTo>
                  <a:pt x="1369" y="898"/>
                </a:lnTo>
                <a:lnTo>
                  <a:pt x="1427" y="825"/>
                </a:lnTo>
                <a:lnTo>
                  <a:pt x="1484" y="735"/>
                </a:lnTo>
                <a:lnTo>
                  <a:pt x="1541" y="633"/>
                </a:lnTo>
                <a:lnTo>
                  <a:pt x="1607" y="514"/>
                </a:lnTo>
                <a:lnTo>
                  <a:pt x="1664" y="396"/>
                </a:lnTo>
                <a:lnTo>
                  <a:pt x="1722" y="283"/>
                </a:lnTo>
                <a:lnTo>
                  <a:pt x="1779" y="169"/>
                </a:lnTo>
                <a:lnTo>
                  <a:pt x="1820" y="73"/>
                </a:lnTo>
                <a:lnTo>
                  <a:pt x="1845" y="34"/>
                </a:lnTo>
                <a:lnTo>
                  <a:pt x="1861" y="0"/>
                </a:lnTo>
              </a:path>
            </a:pathLst>
          </a:custGeom>
          <a:noFill/>
          <a:ln cap="rnd" w="507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Rectangle 23"/>
          <p:cNvSpPr/>
          <p:nvPr/>
        </p:nvSpPr>
        <p:spPr>
          <a:xfrm>
            <a:off x="7954920" y="228132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Line 24"/>
          <p:cNvSpPr/>
          <p:nvPr/>
        </p:nvSpPr>
        <p:spPr>
          <a:xfrm>
            <a:off x="5245200" y="4694400"/>
            <a:ext cx="14508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Line 25"/>
          <p:cNvSpPr/>
          <p:nvPr/>
        </p:nvSpPr>
        <p:spPr>
          <a:xfrm flipV="1">
            <a:off x="6708600" y="3192480"/>
            <a:ext cx="0" cy="2494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Freeform 26"/>
          <p:cNvSpPr/>
          <p:nvPr/>
        </p:nvSpPr>
        <p:spPr>
          <a:xfrm>
            <a:off x="5370480" y="4689360"/>
            <a:ext cx="2878200" cy="1146240"/>
          </a:xfrm>
          <a:custGeom>
            <a:avLst/>
            <a:gdLst>
              <a:gd name="textAreaLeft" fmla="*/ 0 w 2878200"/>
              <a:gd name="textAreaRight" fmla="*/ 2878200 w 2878200"/>
              <a:gd name="textAreaTop" fmla="*/ 0 h 1146240"/>
              <a:gd name="textAreaBottom" fmla="*/ 1146600 h 1146240"/>
            </a:gdLst>
            <a:ahLst/>
            <a:rect l="textAreaLeft" t="textAreaTop" r="textAreaRight" b="textAreaBottom"/>
            <a:pathLst>
              <a:path w="1813" h="722">
                <a:moveTo>
                  <a:pt x="0" y="654"/>
                </a:moveTo>
                <a:lnTo>
                  <a:pt x="25" y="617"/>
                </a:lnTo>
                <a:lnTo>
                  <a:pt x="66" y="562"/>
                </a:lnTo>
                <a:lnTo>
                  <a:pt x="108" y="501"/>
                </a:lnTo>
                <a:lnTo>
                  <a:pt x="158" y="434"/>
                </a:lnTo>
                <a:lnTo>
                  <a:pt x="216" y="367"/>
                </a:lnTo>
                <a:lnTo>
                  <a:pt x="274" y="299"/>
                </a:lnTo>
                <a:lnTo>
                  <a:pt x="324" y="238"/>
                </a:lnTo>
                <a:lnTo>
                  <a:pt x="382" y="189"/>
                </a:lnTo>
                <a:lnTo>
                  <a:pt x="490" y="116"/>
                </a:lnTo>
                <a:lnTo>
                  <a:pt x="607" y="61"/>
                </a:lnTo>
                <a:lnTo>
                  <a:pt x="723" y="18"/>
                </a:lnTo>
                <a:lnTo>
                  <a:pt x="781" y="6"/>
                </a:lnTo>
                <a:lnTo>
                  <a:pt x="839" y="0"/>
                </a:lnTo>
                <a:lnTo>
                  <a:pt x="964" y="12"/>
                </a:lnTo>
                <a:lnTo>
                  <a:pt x="1097" y="43"/>
                </a:lnTo>
                <a:lnTo>
                  <a:pt x="1230" y="98"/>
                </a:lnTo>
                <a:lnTo>
                  <a:pt x="1355" y="177"/>
                </a:lnTo>
                <a:lnTo>
                  <a:pt x="1413" y="232"/>
                </a:lnTo>
                <a:lnTo>
                  <a:pt x="1480" y="299"/>
                </a:lnTo>
                <a:lnTo>
                  <a:pt x="1546" y="373"/>
                </a:lnTo>
                <a:lnTo>
                  <a:pt x="1604" y="452"/>
                </a:lnTo>
                <a:lnTo>
                  <a:pt x="1662" y="532"/>
                </a:lnTo>
                <a:lnTo>
                  <a:pt x="1721" y="605"/>
                </a:lnTo>
                <a:lnTo>
                  <a:pt x="1770" y="672"/>
                </a:lnTo>
                <a:lnTo>
                  <a:pt x="1812" y="721"/>
                </a:lnTo>
              </a:path>
            </a:pathLst>
          </a:custGeom>
          <a:noFill/>
          <a:ln cap="rnd" w="50760">
            <a:solidFill>
              <a:srgbClr val="73854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Rectangle 27"/>
          <p:cNvSpPr/>
          <p:nvPr/>
        </p:nvSpPr>
        <p:spPr>
          <a:xfrm>
            <a:off x="7831080" y="4719600"/>
            <a:ext cx="1336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nefici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Line 28"/>
          <p:cNvSpPr/>
          <p:nvPr/>
        </p:nvSpPr>
        <p:spPr>
          <a:xfrm flipH="1">
            <a:off x="7835400" y="5106960"/>
            <a:ext cx="250920" cy="144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Line 29"/>
          <p:cNvSpPr/>
          <p:nvPr/>
        </p:nvSpPr>
        <p:spPr>
          <a:xfrm flipV="1">
            <a:off x="5811840" y="2805120"/>
            <a:ext cx="1851120" cy="15019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Line 30"/>
          <p:cNvSpPr/>
          <p:nvPr/>
        </p:nvSpPr>
        <p:spPr>
          <a:xfrm flipV="1">
            <a:off x="5811840" y="3943440"/>
            <a:ext cx="1851120" cy="15033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Rectangle 31"/>
          <p:cNvSpPr/>
          <p:nvPr/>
        </p:nvSpPr>
        <p:spPr>
          <a:xfrm>
            <a:off x="5608440" y="4152960"/>
            <a:ext cx="251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Rectangle 32"/>
          <p:cNvSpPr/>
          <p:nvPr/>
        </p:nvSpPr>
        <p:spPr>
          <a:xfrm>
            <a:off x="7518240" y="2584440"/>
            <a:ext cx="406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'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Rectangle 33"/>
          <p:cNvSpPr/>
          <p:nvPr/>
        </p:nvSpPr>
        <p:spPr>
          <a:xfrm>
            <a:off x="5608440" y="534672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Rectangle 34"/>
          <p:cNvSpPr/>
          <p:nvPr/>
        </p:nvSpPr>
        <p:spPr>
          <a:xfrm>
            <a:off x="7613640" y="3780000"/>
            <a:ext cx="512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’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 type="title"/>
          </p:nvPr>
        </p:nvSpPr>
        <p:spPr>
          <a:xfrm>
            <a:off x="550800" y="190440"/>
            <a:ext cx="85932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Arial"/>
              </a:rPr>
              <a:t>Ejemplo de maximización de los beneficios</a:t>
            </a:r>
            <a:endParaRPr b="1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2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2 – El mon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Rectangle 4"/>
          <p:cNvSpPr/>
          <p:nvPr/>
        </p:nvSpPr>
        <p:spPr>
          <a:xfrm>
            <a:off x="2209680" y="3276720"/>
            <a:ext cx="1981440" cy="1447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Line 21"/>
          <p:cNvSpPr/>
          <p:nvPr/>
        </p:nvSpPr>
        <p:spPr>
          <a:xfrm>
            <a:off x="2224080" y="3276720"/>
            <a:ext cx="195408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Line 22"/>
          <p:cNvSpPr/>
          <p:nvPr/>
        </p:nvSpPr>
        <p:spPr>
          <a:xfrm flipV="1">
            <a:off x="4191120" y="2579400"/>
            <a:ext cx="0" cy="34527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Line 23"/>
          <p:cNvSpPr/>
          <p:nvPr/>
        </p:nvSpPr>
        <p:spPr>
          <a:xfrm>
            <a:off x="2224080" y="4724280"/>
            <a:ext cx="195408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Rectangle 33"/>
          <p:cNvSpPr/>
          <p:nvPr/>
        </p:nvSpPr>
        <p:spPr>
          <a:xfrm>
            <a:off x="2926080" y="3805200"/>
            <a:ext cx="108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neficio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1" name="Group 34"/>
          <p:cNvGrpSpPr/>
          <p:nvPr/>
        </p:nvGrpSpPr>
        <p:grpSpPr>
          <a:xfrm>
            <a:off x="2236680" y="2313000"/>
            <a:ext cx="4950360" cy="3986280"/>
            <a:chOff x="2236680" y="2313000"/>
            <a:chExt cx="4950360" cy="3986280"/>
          </a:xfrm>
        </p:grpSpPr>
        <p:sp>
          <p:nvSpPr>
            <p:cNvPr id="892" name="Line 5"/>
            <p:cNvSpPr/>
            <p:nvPr/>
          </p:nvSpPr>
          <p:spPr>
            <a:xfrm>
              <a:off x="2236680" y="2313000"/>
              <a:ext cx="4367160" cy="398628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Line 27"/>
            <p:cNvSpPr/>
            <p:nvPr/>
          </p:nvSpPr>
          <p:spPr>
            <a:xfrm>
              <a:off x="2236680" y="2313000"/>
              <a:ext cx="4367160" cy="215748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Rectangle 28"/>
            <p:cNvSpPr/>
            <p:nvPr/>
          </p:nvSpPr>
          <p:spPr>
            <a:xfrm>
              <a:off x="6624720" y="4338720"/>
              <a:ext cx="5623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M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Rectangle 29"/>
            <p:cNvSpPr/>
            <p:nvPr/>
          </p:nvSpPr>
          <p:spPr>
            <a:xfrm>
              <a:off x="5785920" y="5348160"/>
              <a:ext cx="43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M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6" name="Group 38"/>
          <p:cNvGrpSpPr/>
          <p:nvPr/>
        </p:nvGrpSpPr>
        <p:grpSpPr>
          <a:xfrm>
            <a:off x="2179800" y="2128680"/>
            <a:ext cx="5565240" cy="3916080"/>
            <a:chOff x="2179800" y="2128680"/>
            <a:chExt cx="5565240" cy="3916080"/>
          </a:xfrm>
        </p:grpSpPr>
        <p:sp>
          <p:nvSpPr>
            <p:cNvPr id="897" name="Line 24"/>
            <p:cNvSpPr/>
            <p:nvPr/>
          </p:nvSpPr>
          <p:spPr>
            <a:xfrm flipV="1">
              <a:off x="2179800" y="2490480"/>
              <a:ext cx="3738240" cy="3554280"/>
            </a:xfrm>
            <a:prstGeom prst="line">
              <a:avLst/>
            </a:prstGeom>
            <a:ln w="507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Rectangle 26"/>
            <p:cNvSpPr/>
            <p:nvPr/>
          </p:nvSpPr>
          <p:spPr>
            <a:xfrm>
              <a:off x="5710320" y="2128680"/>
              <a:ext cx="5364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M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31"/>
            <p:cNvSpPr/>
            <p:nvPr/>
          </p:nvSpPr>
          <p:spPr>
            <a:xfrm>
              <a:off x="2438280" y="2206800"/>
              <a:ext cx="4651560" cy="2571480"/>
            </a:xfrm>
            <a:custGeom>
              <a:avLst/>
              <a:gdLst>
                <a:gd name="textAreaLeft" fmla="*/ 0 w 4651560"/>
                <a:gd name="textAreaRight" fmla="*/ 4651920 w 4651560"/>
                <a:gd name="textAreaTop" fmla="*/ 0 h 2571480"/>
                <a:gd name="textAreaBottom" fmla="*/ 2571840 h 2571480"/>
              </a:gdLst>
              <a:ahLst/>
              <a:rect l="textAreaLeft" t="textAreaTop" r="textAreaRight" b="textAreaBottom"/>
              <a:pathLst>
                <a:path w="2930" h="1620">
                  <a:moveTo>
                    <a:pt x="0" y="0"/>
                  </a:moveTo>
                  <a:lnTo>
                    <a:pt x="7" y="34"/>
                  </a:lnTo>
                  <a:lnTo>
                    <a:pt x="14" y="78"/>
                  </a:lnTo>
                  <a:lnTo>
                    <a:pt x="29" y="127"/>
                  </a:lnTo>
                  <a:lnTo>
                    <a:pt x="36" y="185"/>
                  </a:lnTo>
                  <a:lnTo>
                    <a:pt x="50" y="244"/>
                  </a:lnTo>
                  <a:lnTo>
                    <a:pt x="64" y="312"/>
                  </a:lnTo>
                  <a:lnTo>
                    <a:pt x="93" y="453"/>
                  </a:lnTo>
                  <a:lnTo>
                    <a:pt x="129" y="595"/>
                  </a:lnTo>
                  <a:lnTo>
                    <a:pt x="164" y="731"/>
                  </a:lnTo>
                  <a:lnTo>
                    <a:pt x="179" y="795"/>
                  </a:lnTo>
                  <a:lnTo>
                    <a:pt x="193" y="858"/>
                  </a:lnTo>
                  <a:lnTo>
                    <a:pt x="214" y="912"/>
                  </a:lnTo>
                  <a:lnTo>
                    <a:pt x="229" y="961"/>
                  </a:lnTo>
                  <a:lnTo>
                    <a:pt x="264" y="1044"/>
                  </a:lnTo>
                  <a:lnTo>
                    <a:pt x="293" y="1122"/>
                  </a:lnTo>
                  <a:lnTo>
                    <a:pt x="321" y="1185"/>
                  </a:lnTo>
                  <a:lnTo>
                    <a:pt x="357" y="1248"/>
                  </a:lnTo>
                  <a:lnTo>
                    <a:pt x="393" y="1302"/>
                  </a:lnTo>
                  <a:lnTo>
                    <a:pt x="429" y="1346"/>
                  </a:lnTo>
                  <a:lnTo>
                    <a:pt x="471" y="1395"/>
                  </a:lnTo>
                  <a:lnTo>
                    <a:pt x="521" y="1434"/>
                  </a:lnTo>
                  <a:lnTo>
                    <a:pt x="571" y="1473"/>
                  </a:lnTo>
                  <a:lnTo>
                    <a:pt x="621" y="1512"/>
                  </a:lnTo>
                  <a:lnTo>
                    <a:pt x="664" y="1551"/>
                  </a:lnTo>
                  <a:lnTo>
                    <a:pt x="722" y="1580"/>
                  </a:lnTo>
                  <a:lnTo>
                    <a:pt x="786" y="1604"/>
                  </a:lnTo>
                  <a:lnTo>
                    <a:pt x="872" y="1619"/>
                  </a:lnTo>
                  <a:lnTo>
                    <a:pt x="972" y="1619"/>
                  </a:lnTo>
                  <a:lnTo>
                    <a:pt x="1036" y="1619"/>
                  </a:lnTo>
                  <a:lnTo>
                    <a:pt x="1107" y="1609"/>
                  </a:lnTo>
                  <a:lnTo>
                    <a:pt x="1193" y="1599"/>
                  </a:lnTo>
                  <a:lnTo>
                    <a:pt x="1286" y="1580"/>
                  </a:lnTo>
                  <a:lnTo>
                    <a:pt x="1393" y="1560"/>
                  </a:lnTo>
                  <a:lnTo>
                    <a:pt x="1507" y="1531"/>
                  </a:lnTo>
                  <a:lnTo>
                    <a:pt x="1629" y="1502"/>
                  </a:lnTo>
                  <a:lnTo>
                    <a:pt x="1757" y="1473"/>
                  </a:lnTo>
                  <a:lnTo>
                    <a:pt x="2029" y="1400"/>
                  </a:lnTo>
                  <a:lnTo>
                    <a:pt x="2293" y="1326"/>
                  </a:lnTo>
                  <a:lnTo>
                    <a:pt x="2422" y="1292"/>
                  </a:lnTo>
                  <a:lnTo>
                    <a:pt x="2543" y="1258"/>
                  </a:lnTo>
                  <a:lnTo>
                    <a:pt x="2658" y="1229"/>
                  </a:lnTo>
                  <a:lnTo>
                    <a:pt x="2758" y="1200"/>
                  </a:lnTo>
                  <a:lnTo>
                    <a:pt x="2850" y="1175"/>
                  </a:lnTo>
                  <a:lnTo>
                    <a:pt x="2929" y="1156"/>
                  </a:lnTo>
                </a:path>
              </a:pathLst>
            </a:custGeom>
            <a:noFill/>
            <a:ln cap="rnd" w="50760">
              <a:solidFill>
                <a:srgbClr val="cc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Rectangle 32"/>
            <p:cNvSpPr/>
            <p:nvPr/>
          </p:nvSpPr>
          <p:spPr>
            <a:xfrm>
              <a:off x="7081920" y="3652920"/>
              <a:ext cx="663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M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Oval 25"/>
            <p:cNvSpPr/>
            <p:nvPr/>
          </p:nvSpPr>
          <p:spPr>
            <a:xfrm>
              <a:off x="4114800" y="4038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2" name="Rectangle 6"/>
          <p:cNvSpPr/>
          <p:nvPr/>
        </p:nvSpPr>
        <p:spPr>
          <a:xfrm>
            <a:off x="3124080" y="6235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Line 7"/>
          <p:cNvSpPr/>
          <p:nvPr/>
        </p:nvSpPr>
        <p:spPr>
          <a:xfrm>
            <a:off x="2209680" y="1716120"/>
            <a:ext cx="0" cy="426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Line 8"/>
          <p:cNvSpPr/>
          <p:nvPr/>
        </p:nvSpPr>
        <p:spPr>
          <a:xfrm>
            <a:off x="2200320" y="6006960"/>
            <a:ext cx="4276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9"/>
          <p:cNvSpPr/>
          <p:nvPr/>
        </p:nvSpPr>
        <p:spPr>
          <a:xfrm>
            <a:off x="6681240" y="5881680"/>
            <a:ext cx="1047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tida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Rectangle 10"/>
          <p:cNvSpPr/>
          <p:nvPr/>
        </p:nvSpPr>
        <p:spPr>
          <a:xfrm>
            <a:off x="1544400" y="159372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11"/>
          <p:cNvSpPr/>
          <p:nvPr/>
        </p:nvSpPr>
        <p:spPr>
          <a:xfrm>
            <a:off x="1900080" y="593892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12"/>
          <p:cNvSpPr/>
          <p:nvPr/>
        </p:nvSpPr>
        <p:spPr>
          <a:xfrm>
            <a:off x="2814480" y="593892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13"/>
          <p:cNvSpPr/>
          <p:nvPr/>
        </p:nvSpPr>
        <p:spPr>
          <a:xfrm>
            <a:off x="3957840" y="593892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14"/>
          <p:cNvSpPr/>
          <p:nvPr/>
        </p:nvSpPr>
        <p:spPr>
          <a:xfrm>
            <a:off x="4948200" y="593892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ectangle 15"/>
          <p:cNvSpPr/>
          <p:nvPr/>
        </p:nvSpPr>
        <p:spPr>
          <a:xfrm>
            <a:off x="6167520" y="593892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16"/>
          <p:cNvSpPr/>
          <p:nvPr/>
        </p:nvSpPr>
        <p:spPr>
          <a:xfrm>
            <a:off x="1747800" y="496728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Rectangle 17"/>
          <p:cNvSpPr/>
          <p:nvPr/>
        </p:nvSpPr>
        <p:spPr>
          <a:xfrm>
            <a:off x="1747800" y="399564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Rectangle 18"/>
          <p:cNvSpPr/>
          <p:nvPr/>
        </p:nvSpPr>
        <p:spPr>
          <a:xfrm>
            <a:off x="1747800" y="302436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Rectangle 19"/>
          <p:cNvSpPr/>
          <p:nvPr/>
        </p:nvSpPr>
        <p:spPr>
          <a:xfrm>
            <a:off x="1747800" y="205272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20"/>
          <p:cNvSpPr/>
          <p:nvPr/>
        </p:nvSpPr>
        <p:spPr>
          <a:xfrm>
            <a:off x="1747800" y="449100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50800" y="190440"/>
            <a:ext cx="85932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Arial"/>
              </a:rPr>
              <a:t>Ejemplo de maximización de los beneficios</a:t>
            </a:r>
            <a:endParaRPr b="1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4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2 – El mon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Observaciones: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CMe = 15$, Q = 10,          CT = CMe x Q = 150.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Beneficios = IT = CT = 300$ - 150$ = 150$ o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Beneficios = (P - CMe) x Q = (30$ - 15$)(10) = 150$.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Rectangle 5"/>
          <p:cNvSpPr/>
          <p:nvPr/>
        </p:nvSpPr>
        <p:spPr>
          <a:xfrm>
            <a:off x="4879800" y="3321000"/>
            <a:ext cx="1528920" cy="1125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Line 6"/>
          <p:cNvSpPr/>
          <p:nvPr/>
        </p:nvSpPr>
        <p:spPr>
          <a:xfrm>
            <a:off x="4906800" y="2579760"/>
            <a:ext cx="3357720" cy="3084480"/>
          </a:xfrm>
          <a:prstGeom prst="line">
            <a:avLst/>
          </a:prstGeom>
          <a:ln w="507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Rectangle 7"/>
          <p:cNvSpPr/>
          <p:nvPr/>
        </p:nvSpPr>
        <p:spPr>
          <a:xfrm>
            <a:off x="5584680" y="5621400"/>
            <a:ext cx="22352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Line 8"/>
          <p:cNvSpPr/>
          <p:nvPr/>
        </p:nvSpPr>
        <p:spPr>
          <a:xfrm>
            <a:off x="4879800" y="2151000"/>
            <a:ext cx="0" cy="3308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Line 9"/>
          <p:cNvSpPr/>
          <p:nvPr/>
        </p:nvSpPr>
        <p:spPr>
          <a:xfrm>
            <a:off x="4905360" y="5443560"/>
            <a:ext cx="329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Rectangle 10"/>
          <p:cNvSpPr/>
          <p:nvPr/>
        </p:nvSpPr>
        <p:spPr>
          <a:xfrm>
            <a:off x="7576920" y="5726160"/>
            <a:ext cx="941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ntida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Rectangle 11"/>
          <p:cNvSpPr/>
          <p:nvPr/>
        </p:nvSpPr>
        <p:spPr>
          <a:xfrm>
            <a:off x="4276440" y="2013120"/>
            <a:ext cx="32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Rectangle 12"/>
          <p:cNvSpPr/>
          <p:nvPr/>
        </p:nvSpPr>
        <p:spPr>
          <a:xfrm>
            <a:off x="4640040" y="546588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Rectangle 13"/>
          <p:cNvSpPr/>
          <p:nvPr/>
        </p:nvSpPr>
        <p:spPr>
          <a:xfrm>
            <a:off x="5343480" y="546588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Rectangle 14"/>
          <p:cNvSpPr/>
          <p:nvPr/>
        </p:nvSpPr>
        <p:spPr>
          <a:xfrm>
            <a:off x="6227280" y="5465880"/>
            <a:ext cx="407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Rectangle 15"/>
          <p:cNvSpPr/>
          <p:nvPr/>
        </p:nvSpPr>
        <p:spPr>
          <a:xfrm>
            <a:off x="6990840" y="5465880"/>
            <a:ext cx="407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Rectangle 16"/>
          <p:cNvSpPr/>
          <p:nvPr/>
        </p:nvSpPr>
        <p:spPr>
          <a:xfrm>
            <a:off x="7929360" y="5465880"/>
            <a:ext cx="407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Rectangle 17"/>
          <p:cNvSpPr/>
          <p:nvPr/>
        </p:nvSpPr>
        <p:spPr>
          <a:xfrm>
            <a:off x="4522320" y="4713120"/>
            <a:ext cx="407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Rectangle 18"/>
          <p:cNvSpPr/>
          <p:nvPr/>
        </p:nvSpPr>
        <p:spPr>
          <a:xfrm>
            <a:off x="4522320" y="3957480"/>
            <a:ext cx="407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Rectangle 19"/>
          <p:cNvSpPr/>
          <p:nvPr/>
        </p:nvSpPr>
        <p:spPr>
          <a:xfrm>
            <a:off x="4522320" y="3201840"/>
            <a:ext cx="407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Rectangle 20"/>
          <p:cNvSpPr/>
          <p:nvPr/>
        </p:nvSpPr>
        <p:spPr>
          <a:xfrm>
            <a:off x="4522320" y="2446200"/>
            <a:ext cx="407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Rectangle 21"/>
          <p:cNvSpPr/>
          <p:nvPr/>
        </p:nvSpPr>
        <p:spPr>
          <a:xfrm>
            <a:off x="4522320" y="4343400"/>
            <a:ext cx="407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Line 22"/>
          <p:cNvSpPr/>
          <p:nvPr/>
        </p:nvSpPr>
        <p:spPr>
          <a:xfrm>
            <a:off x="4894200" y="3321000"/>
            <a:ext cx="150192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Line 23"/>
          <p:cNvSpPr/>
          <p:nvPr/>
        </p:nvSpPr>
        <p:spPr>
          <a:xfrm flipV="1">
            <a:off x="6408720" y="2778120"/>
            <a:ext cx="0" cy="26877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Line 24"/>
          <p:cNvSpPr/>
          <p:nvPr/>
        </p:nvSpPr>
        <p:spPr>
          <a:xfrm>
            <a:off x="4894200" y="4446720"/>
            <a:ext cx="150192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Line 25"/>
          <p:cNvSpPr/>
          <p:nvPr/>
        </p:nvSpPr>
        <p:spPr>
          <a:xfrm flipV="1">
            <a:off x="4849920" y="2705040"/>
            <a:ext cx="2827080" cy="2772000"/>
          </a:xfrm>
          <a:prstGeom prst="line">
            <a:avLst/>
          </a:prstGeom>
          <a:ln w="507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Oval 26"/>
          <p:cNvSpPr/>
          <p:nvPr/>
        </p:nvSpPr>
        <p:spPr>
          <a:xfrm>
            <a:off x="6350040" y="3913200"/>
            <a:ext cx="117360" cy="119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Rectangle 27"/>
          <p:cNvSpPr/>
          <p:nvPr/>
        </p:nvSpPr>
        <p:spPr>
          <a:xfrm>
            <a:off x="7580160" y="2505240"/>
            <a:ext cx="630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Line 28"/>
          <p:cNvSpPr/>
          <p:nvPr/>
        </p:nvSpPr>
        <p:spPr>
          <a:xfrm>
            <a:off x="4906800" y="2579760"/>
            <a:ext cx="3357720" cy="1663560"/>
          </a:xfrm>
          <a:prstGeom prst="line">
            <a:avLst/>
          </a:prstGeom>
          <a:ln w="507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Rectangle 29"/>
          <p:cNvSpPr/>
          <p:nvPr/>
        </p:nvSpPr>
        <p:spPr>
          <a:xfrm>
            <a:off x="8283960" y="4224240"/>
            <a:ext cx="519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Rectangle 30"/>
          <p:cNvSpPr/>
          <p:nvPr/>
        </p:nvSpPr>
        <p:spPr>
          <a:xfrm>
            <a:off x="7580520" y="4694400"/>
            <a:ext cx="407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Line 31"/>
          <p:cNvSpPr/>
          <p:nvPr/>
        </p:nvSpPr>
        <p:spPr>
          <a:xfrm flipH="1">
            <a:off x="7397280" y="4802040"/>
            <a:ext cx="258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Freeform 32"/>
          <p:cNvSpPr/>
          <p:nvPr/>
        </p:nvSpPr>
        <p:spPr>
          <a:xfrm>
            <a:off x="5062680" y="2490840"/>
            <a:ext cx="3582720" cy="2006640"/>
          </a:xfrm>
          <a:custGeom>
            <a:avLst/>
            <a:gdLst>
              <a:gd name="textAreaLeft" fmla="*/ 0 w 3582720"/>
              <a:gd name="textAreaRight" fmla="*/ 3583080 w 3582720"/>
              <a:gd name="textAreaTop" fmla="*/ 0 h 2006640"/>
              <a:gd name="textAreaBottom" fmla="*/ 2007000 h 2006640"/>
            </a:gdLst>
            <a:ahLst/>
            <a:rect l="textAreaLeft" t="textAreaTop" r="textAreaRight" b="textAreaBottom"/>
            <a:pathLst>
              <a:path w="2257" h="1264">
                <a:moveTo>
                  <a:pt x="0" y="0"/>
                </a:moveTo>
                <a:lnTo>
                  <a:pt x="8" y="25"/>
                </a:lnTo>
                <a:lnTo>
                  <a:pt x="8" y="60"/>
                </a:lnTo>
                <a:lnTo>
                  <a:pt x="17" y="100"/>
                </a:lnTo>
                <a:lnTo>
                  <a:pt x="26" y="144"/>
                </a:lnTo>
                <a:lnTo>
                  <a:pt x="52" y="244"/>
                </a:lnTo>
                <a:lnTo>
                  <a:pt x="69" y="354"/>
                </a:lnTo>
                <a:lnTo>
                  <a:pt x="95" y="464"/>
                </a:lnTo>
                <a:lnTo>
                  <a:pt x="122" y="574"/>
                </a:lnTo>
                <a:lnTo>
                  <a:pt x="148" y="669"/>
                </a:lnTo>
                <a:lnTo>
                  <a:pt x="165" y="714"/>
                </a:lnTo>
                <a:lnTo>
                  <a:pt x="174" y="749"/>
                </a:lnTo>
                <a:lnTo>
                  <a:pt x="200" y="814"/>
                </a:lnTo>
                <a:lnTo>
                  <a:pt x="226" y="874"/>
                </a:lnTo>
                <a:lnTo>
                  <a:pt x="244" y="923"/>
                </a:lnTo>
                <a:lnTo>
                  <a:pt x="270" y="968"/>
                </a:lnTo>
                <a:lnTo>
                  <a:pt x="331" y="1048"/>
                </a:lnTo>
                <a:lnTo>
                  <a:pt x="400" y="1113"/>
                </a:lnTo>
                <a:lnTo>
                  <a:pt x="479" y="1178"/>
                </a:lnTo>
                <a:lnTo>
                  <a:pt x="514" y="1203"/>
                </a:lnTo>
                <a:lnTo>
                  <a:pt x="548" y="1228"/>
                </a:lnTo>
                <a:lnTo>
                  <a:pt x="601" y="1248"/>
                </a:lnTo>
                <a:lnTo>
                  <a:pt x="670" y="1258"/>
                </a:lnTo>
                <a:lnTo>
                  <a:pt x="749" y="1263"/>
                </a:lnTo>
                <a:lnTo>
                  <a:pt x="853" y="1253"/>
                </a:lnTo>
                <a:lnTo>
                  <a:pt x="914" y="1243"/>
                </a:lnTo>
                <a:lnTo>
                  <a:pt x="993" y="1233"/>
                </a:lnTo>
                <a:lnTo>
                  <a:pt x="1158" y="1193"/>
                </a:lnTo>
                <a:lnTo>
                  <a:pt x="1350" y="1143"/>
                </a:lnTo>
                <a:lnTo>
                  <a:pt x="1559" y="1088"/>
                </a:lnTo>
                <a:lnTo>
                  <a:pt x="1759" y="1033"/>
                </a:lnTo>
                <a:lnTo>
                  <a:pt x="1951" y="978"/>
                </a:lnTo>
                <a:lnTo>
                  <a:pt x="2047" y="953"/>
                </a:lnTo>
                <a:lnTo>
                  <a:pt x="2125" y="928"/>
                </a:lnTo>
                <a:lnTo>
                  <a:pt x="2195" y="908"/>
                </a:lnTo>
                <a:lnTo>
                  <a:pt x="2256" y="894"/>
                </a:lnTo>
              </a:path>
            </a:pathLst>
          </a:custGeom>
          <a:noFill/>
          <a:ln cap="rnd" w="507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Rectangle 33"/>
          <p:cNvSpPr/>
          <p:nvPr/>
        </p:nvSpPr>
        <p:spPr>
          <a:xfrm>
            <a:off x="8534520" y="3652920"/>
            <a:ext cx="609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M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Rectangle 34"/>
          <p:cNvSpPr/>
          <p:nvPr/>
        </p:nvSpPr>
        <p:spPr>
          <a:xfrm>
            <a:off x="5348520" y="3716280"/>
            <a:ext cx="108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neficio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 type="title"/>
          </p:nvPr>
        </p:nvSpPr>
        <p:spPr>
          <a:xfrm>
            <a:off x="550800" y="190440"/>
            <a:ext cx="85932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Arial"/>
              </a:rPr>
              <a:t>Ejemplo de maximización de los beneficios</a:t>
            </a:r>
            <a:endParaRPr b="1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2 – El mon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Una regla práctica para fijar el precio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819000" indent="-28548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Queremos convertir la condición de la igualdad del ingreso marginal y el coste marginal en una regla que sea más fácil de aplicar en la práctica. 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819000" indent="-28548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Lo demostraremos siguiendo estos pasos: 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El monopolio</a:t>
            </a:r>
            <a:endParaRPr b="1" lang="en-US" sz="34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2 – El mon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0" y="190440"/>
            <a:ext cx="91440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Arial"/>
              </a:rPr>
              <a:t>Una regla práctica para fijar el precio</a:t>
            </a:r>
            <a:endParaRPr b="1" lang="en-US" sz="4000" spc="-1" strike="noStrike">
              <a:solidFill>
                <a:srgbClr val="7f7f7f"/>
              </a:solidFill>
              <a:latin typeface="Arial"/>
            </a:endParaRPr>
          </a:p>
        </p:txBody>
      </p:sp>
      <p:pic>
        <p:nvPicPr>
          <p:cNvPr id="960" name="Picture 2" descr=""/>
          <p:cNvPicPr/>
          <p:nvPr/>
        </p:nvPicPr>
        <p:blipFill>
          <a:blip r:embed="rId1"/>
          <a:stretch/>
        </p:blipFill>
        <p:spPr>
          <a:xfrm>
            <a:off x="938160" y="1477800"/>
            <a:ext cx="7267680" cy="410544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2 – El mon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0" y="190440"/>
            <a:ext cx="91440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Arial"/>
              </a:rPr>
              <a:t>Una regla práctica para fijar el precio</a:t>
            </a:r>
            <a:endParaRPr b="1" lang="en-US" sz="4000" spc="-1" strike="noStrike">
              <a:solidFill>
                <a:srgbClr val="7f7f7f"/>
              </a:solidFill>
              <a:latin typeface="Arial"/>
            </a:endParaRPr>
          </a:p>
        </p:txBody>
      </p:sp>
      <p:pic>
        <p:nvPicPr>
          <p:cNvPr id="965" name="Picture 2" descr=""/>
          <p:cNvPicPr/>
          <p:nvPr/>
        </p:nvPicPr>
        <p:blipFill>
          <a:blip r:embed="rId1"/>
          <a:stretch/>
        </p:blipFill>
        <p:spPr>
          <a:xfrm>
            <a:off x="1838160" y="1890720"/>
            <a:ext cx="5467680" cy="30765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2 – El mon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0" y="190440"/>
            <a:ext cx="91440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Arial"/>
              </a:rPr>
              <a:t>Una regla práctica para fijar el precio</a:t>
            </a:r>
            <a:endParaRPr b="1" lang="en-US" sz="4000" spc="-1" strike="noStrike">
              <a:solidFill>
                <a:srgbClr val="7f7f7f"/>
              </a:solidFill>
              <a:latin typeface="Arial"/>
            </a:endParaRPr>
          </a:p>
        </p:txBody>
      </p:sp>
      <p:pic>
        <p:nvPicPr>
          <p:cNvPr id="970" name="Picture 2" descr=""/>
          <p:cNvPicPr/>
          <p:nvPr/>
        </p:nvPicPr>
        <p:blipFill>
          <a:blip r:embed="rId1"/>
          <a:stretch/>
        </p:blipFill>
        <p:spPr>
          <a:xfrm>
            <a:off x="1204920" y="1509840"/>
            <a:ext cx="6734160" cy="38383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2 – El mon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Rectangle 3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Rectangle 4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0" y="190440"/>
            <a:ext cx="91440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Arial"/>
              </a:rPr>
              <a:t>Una regla práctica para fijar el precio</a:t>
            </a:r>
            <a:endParaRPr b="1" lang="en-US" sz="4000" spc="-1" strike="noStrike">
              <a:solidFill>
                <a:srgbClr val="7f7f7f"/>
              </a:solidFill>
              <a:latin typeface="Arial"/>
            </a:endParaRPr>
          </a:p>
        </p:txBody>
      </p:sp>
      <p:pic>
        <p:nvPicPr>
          <p:cNvPr id="975" name="Picture 3" descr=""/>
          <p:cNvPicPr/>
          <p:nvPr/>
        </p:nvPicPr>
        <p:blipFill>
          <a:blip r:embed="rId1"/>
          <a:stretch/>
        </p:blipFill>
        <p:spPr>
          <a:xfrm>
            <a:off x="571680" y="1247760"/>
            <a:ext cx="8001000" cy="43624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2 – El mon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0" y="190440"/>
            <a:ext cx="91440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Arial"/>
              </a:rPr>
              <a:t>Una regla práctica para fijar el precio</a:t>
            </a:r>
            <a:endParaRPr b="1" lang="en-US" sz="4000" spc="-1" strike="noStrike">
              <a:solidFill>
                <a:srgbClr val="7f7f7f"/>
              </a:solidFill>
              <a:latin typeface="Arial"/>
            </a:endParaRPr>
          </a:p>
        </p:txBody>
      </p:sp>
      <p:pic>
        <p:nvPicPr>
          <p:cNvPr id="980" name="Picture 2" descr=""/>
          <p:cNvPicPr/>
          <p:nvPr/>
        </p:nvPicPr>
        <p:blipFill>
          <a:blip r:embed="rId1"/>
          <a:stretch/>
        </p:blipFill>
        <p:spPr>
          <a:xfrm>
            <a:off x="1104840" y="1252440"/>
            <a:ext cx="6934320" cy="43531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2 – El mon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0" y="190440"/>
            <a:ext cx="91440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Arial"/>
              </a:rPr>
              <a:t>Una regla práctica para fijar el precio</a:t>
            </a:r>
            <a:endParaRPr b="1" lang="en-US" sz="4000" spc="-1" strike="noStrike">
              <a:solidFill>
                <a:srgbClr val="7f7f7f"/>
              </a:solidFill>
              <a:latin typeface="Arial"/>
            </a:endParaRPr>
          </a:p>
        </p:txBody>
      </p:sp>
      <p:pic>
        <p:nvPicPr>
          <p:cNvPr id="985" name="Picture 2" descr=""/>
          <p:cNvPicPr/>
          <p:nvPr/>
        </p:nvPicPr>
        <p:blipFill>
          <a:blip r:embed="rId1"/>
          <a:srcRect l="16621" t="18056" r="63951" b="18652"/>
          <a:stretch/>
        </p:blipFill>
        <p:spPr>
          <a:xfrm>
            <a:off x="262080" y="1349280"/>
            <a:ext cx="2757240" cy="505152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3" descr=""/>
          <p:cNvPicPr/>
          <p:nvPr/>
        </p:nvPicPr>
        <p:blipFill>
          <a:blip r:embed="rId2"/>
          <a:srcRect l="16401" t="51602" r="57047" b="25580"/>
          <a:stretch/>
        </p:blipFill>
        <p:spPr>
          <a:xfrm>
            <a:off x="5791320" y="1233360"/>
            <a:ext cx="2960640" cy="143064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2" descr=""/>
          <p:cNvPicPr/>
          <p:nvPr/>
        </p:nvPicPr>
        <p:blipFill>
          <a:blip r:embed="rId3"/>
          <a:srcRect l="56145" t="18056" r="23588" b="18652"/>
          <a:stretch/>
        </p:blipFill>
        <p:spPr>
          <a:xfrm>
            <a:off x="2844720" y="1241280"/>
            <a:ext cx="2876760" cy="50500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2 – El mon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Esbozo del capítulo</a:t>
            </a:r>
            <a:endParaRPr b="1" lang="en-US" sz="3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El monopsonio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El poder de monopsonio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La limitación del poder de mercado: la legislación antimonopolio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2 – El mon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262626"/>
                </a:solidFill>
                <a:latin typeface="Arial"/>
              </a:rPr>
              <a:t>Comparación del precio fijado por el monopolista y el precio competitivo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244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62626"/>
                </a:solidFill>
                <a:latin typeface="Arial"/>
              </a:rPr>
              <a:t>Monopolio: 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2" marL="1162080" indent="0">
              <a:spcBef>
                <a:spcPts val="118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P &gt; CM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Competencia perfecta: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2" marL="1162080" indent="0">
              <a:spcBef>
                <a:spcPts val="118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P = CM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El monopolio</a:t>
            </a:r>
            <a:endParaRPr b="1" lang="en-US" sz="34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2 – El mon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262626"/>
                </a:solidFill>
                <a:latin typeface="Arial"/>
              </a:rPr>
              <a:t>Comparación del precio fijado por el monopolista y el precio competitivo: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62626"/>
                </a:solidFill>
                <a:latin typeface="Arial"/>
              </a:rPr>
              <a:t>Cuanto más elástica sea la demanda, el precio se aproximará más al coste marginal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Si 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E</a:t>
            </a:r>
            <a:r>
              <a:rPr b="0" i="1" lang="en-US" sz="2800" spc="-1" strike="noStrike" baseline="-25000">
                <a:solidFill>
                  <a:srgbClr val="262626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 es un número elevado negativo, el precio será muy cercano al coste marginal. 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El monopolio</a:t>
            </a:r>
            <a:endParaRPr b="1" lang="en-US" sz="34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2 – El mon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0" y="190440"/>
            <a:ext cx="91440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Arial"/>
              </a:rPr>
              <a:t>Astra-Merck fija el precio de Prilosec</a:t>
            </a:r>
            <a:endParaRPr b="1" lang="en-US" sz="4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1143000" y="2233440"/>
            <a:ext cx="7772400" cy="371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1995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Precio de Prilosec = 3,50 dólares por dosis diaria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Precio de Tagamet y Zantac =1,50 - 2,25 dólares por dosis diaria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CM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 de Prolosec = 30 - 40 centavos por dosis diaria. 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Text Box 4"/>
          <p:cNvSpPr/>
          <p:nvPr/>
        </p:nvSpPr>
        <p:spPr>
          <a:xfrm>
            <a:off x="455040" y="1427040"/>
            <a:ext cx="7503480" cy="520560"/>
          </a:xfrm>
          <a:prstGeom prst="rect">
            <a:avLst/>
          </a:prstGeom>
          <a:solidFill>
            <a:srgbClr val="d8c0cb"/>
          </a:solidFill>
          <a:ln w="12600">
            <a:solidFill>
              <a:srgbClr val="37654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 decisión de producción del monopolis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2 – El mon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Line 11"/>
          <p:cNvSpPr/>
          <p:nvPr/>
        </p:nvSpPr>
        <p:spPr>
          <a:xfrm flipH="1">
            <a:off x="3449160" y="3135240"/>
            <a:ext cx="149400" cy="4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Rectangle 12"/>
          <p:cNvSpPr/>
          <p:nvPr/>
        </p:nvSpPr>
        <p:spPr>
          <a:xfrm>
            <a:off x="3309480" y="2851200"/>
            <a:ext cx="178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Rectangle 13"/>
          <p:cNvSpPr/>
          <p:nvPr/>
        </p:nvSpPr>
        <p:spPr>
          <a:xfrm>
            <a:off x="4323600" y="2851200"/>
            <a:ext cx="178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Line 14"/>
          <p:cNvSpPr/>
          <p:nvPr/>
        </p:nvSpPr>
        <p:spPr>
          <a:xfrm>
            <a:off x="2619360" y="3013200"/>
            <a:ext cx="1709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Line 15"/>
          <p:cNvSpPr/>
          <p:nvPr/>
        </p:nvSpPr>
        <p:spPr>
          <a:xfrm flipH="1">
            <a:off x="5652720" y="3135240"/>
            <a:ext cx="149400" cy="46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Rectangle 16"/>
          <p:cNvSpPr/>
          <p:nvPr/>
        </p:nvSpPr>
        <p:spPr>
          <a:xfrm>
            <a:off x="5512680" y="2851200"/>
            <a:ext cx="178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Rectangle 17"/>
          <p:cNvSpPr/>
          <p:nvPr/>
        </p:nvSpPr>
        <p:spPr>
          <a:xfrm>
            <a:off x="6787440" y="2851200"/>
            <a:ext cx="178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Line 18"/>
          <p:cNvSpPr/>
          <p:nvPr/>
        </p:nvSpPr>
        <p:spPr>
          <a:xfrm>
            <a:off x="4822920" y="3013200"/>
            <a:ext cx="1969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Line 21"/>
          <p:cNvSpPr/>
          <p:nvPr/>
        </p:nvSpPr>
        <p:spPr>
          <a:xfrm>
            <a:off x="1698480" y="4398840"/>
            <a:ext cx="1949760" cy="1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Line 22"/>
          <p:cNvSpPr/>
          <p:nvPr/>
        </p:nvSpPr>
        <p:spPr>
          <a:xfrm flipV="1">
            <a:off x="4067280" y="4362480"/>
            <a:ext cx="70632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Rectangle 25"/>
          <p:cNvSpPr/>
          <p:nvPr/>
        </p:nvSpPr>
        <p:spPr>
          <a:xfrm>
            <a:off x="5313240" y="3986280"/>
            <a:ext cx="105732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700" spc="-1" strike="noStrike">
                <a:solidFill>
                  <a:srgbClr val="000000"/>
                </a:solidFill>
                <a:latin typeface="Times New Roman"/>
              </a:rPr>
              <a:t>3,89$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27"/>
          <p:cNvSpPr/>
          <p:nvPr/>
        </p:nvSpPr>
        <p:spPr>
          <a:xfrm>
            <a:off x="4013280" y="4435560"/>
            <a:ext cx="82224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700" spc="-1" strike="noStrike">
                <a:solidFill>
                  <a:srgbClr val="000000"/>
                </a:solidFill>
                <a:latin typeface="Times New Roman"/>
              </a:rPr>
              <a:t>0,09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Rectangle 29"/>
          <p:cNvSpPr/>
          <p:nvPr/>
        </p:nvSpPr>
        <p:spPr>
          <a:xfrm>
            <a:off x="4016520" y="3781440"/>
            <a:ext cx="82224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700" spc="-1" strike="noStrike">
                <a:solidFill>
                  <a:srgbClr val="000000"/>
                </a:solidFill>
                <a:latin typeface="Times New Roman"/>
              </a:rPr>
              <a:t>0,35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Rectangle 31"/>
          <p:cNvSpPr/>
          <p:nvPr/>
        </p:nvSpPr>
        <p:spPr>
          <a:xfrm>
            <a:off x="2414880" y="4406760"/>
            <a:ext cx="129312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700" spc="-1" strike="noStrike">
                <a:solidFill>
                  <a:srgbClr val="000000"/>
                </a:solidFill>
                <a:latin typeface="Times New Roman"/>
              </a:rPr>
              <a:t>(-0,91)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Rectangle 33"/>
          <p:cNvSpPr/>
          <p:nvPr/>
        </p:nvSpPr>
        <p:spPr>
          <a:xfrm>
            <a:off x="1919160" y="4435560"/>
            <a:ext cx="23544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7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Rectangle 36"/>
          <p:cNvSpPr/>
          <p:nvPr/>
        </p:nvSpPr>
        <p:spPr>
          <a:xfrm>
            <a:off x="6119640" y="3078000"/>
            <a:ext cx="58752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700" spc="-1" strike="noStrike">
                <a:solidFill>
                  <a:srgbClr val="000000"/>
                </a:solidFill>
                <a:latin typeface="Times New Roman"/>
              </a:rPr>
              <a:t>1,1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Rectangle 37"/>
          <p:cNvSpPr/>
          <p:nvPr/>
        </p:nvSpPr>
        <p:spPr>
          <a:xfrm>
            <a:off x="5568840" y="3078000"/>
            <a:ext cx="23544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7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Rectangle 38"/>
          <p:cNvSpPr/>
          <p:nvPr/>
        </p:nvSpPr>
        <p:spPr>
          <a:xfrm>
            <a:off x="4898880" y="3078000"/>
            <a:ext cx="23544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7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Rectangle 39"/>
          <p:cNvSpPr/>
          <p:nvPr/>
        </p:nvSpPr>
        <p:spPr>
          <a:xfrm>
            <a:off x="5370480" y="2422440"/>
            <a:ext cx="82224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700" spc="-1" strike="noStrike">
                <a:solidFill>
                  <a:srgbClr val="000000"/>
                </a:solidFill>
                <a:latin typeface="Times New Roman"/>
              </a:rPr>
              <a:t>0,35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Rectangle 41"/>
          <p:cNvSpPr/>
          <p:nvPr/>
        </p:nvSpPr>
        <p:spPr>
          <a:xfrm>
            <a:off x="3365280" y="3078000"/>
            <a:ext cx="23544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7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Rectangle 42"/>
          <p:cNvSpPr/>
          <p:nvPr/>
        </p:nvSpPr>
        <p:spPr>
          <a:xfrm>
            <a:off x="2695320" y="3078000"/>
            <a:ext cx="23544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7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Rectangle 43"/>
          <p:cNvSpPr/>
          <p:nvPr/>
        </p:nvSpPr>
        <p:spPr>
          <a:xfrm>
            <a:off x="4874040" y="4019400"/>
            <a:ext cx="37404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7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Rectangle 44"/>
          <p:cNvSpPr/>
          <p:nvPr/>
        </p:nvSpPr>
        <p:spPr>
          <a:xfrm>
            <a:off x="3778560" y="4019400"/>
            <a:ext cx="37404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7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Rectangle 46"/>
          <p:cNvSpPr/>
          <p:nvPr/>
        </p:nvSpPr>
        <p:spPr>
          <a:xfrm>
            <a:off x="2224440" y="4381560"/>
            <a:ext cx="27504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7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Rectangle 47"/>
          <p:cNvSpPr/>
          <p:nvPr/>
        </p:nvSpPr>
        <p:spPr>
          <a:xfrm>
            <a:off x="6999480" y="2662200"/>
            <a:ext cx="37404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7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Rectangle 48"/>
          <p:cNvSpPr/>
          <p:nvPr/>
        </p:nvSpPr>
        <p:spPr>
          <a:xfrm>
            <a:off x="6027120" y="3024360"/>
            <a:ext cx="15624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7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Rectangle 49"/>
          <p:cNvSpPr/>
          <p:nvPr/>
        </p:nvSpPr>
        <p:spPr>
          <a:xfrm>
            <a:off x="5204160" y="3024360"/>
            <a:ext cx="27504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7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Rectangle 50"/>
          <p:cNvSpPr/>
          <p:nvPr/>
        </p:nvSpPr>
        <p:spPr>
          <a:xfrm>
            <a:off x="4535640" y="2662200"/>
            <a:ext cx="37404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7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Rectangle 51"/>
          <p:cNvSpPr/>
          <p:nvPr/>
        </p:nvSpPr>
        <p:spPr>
          <a:xfrm>
            <a:off x="3000960" y="3024360"/>
            <a:ext cx="27504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7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Rectangle 52"/>
          <p:cNvSpPr/>
          <p:nvPr/>
        </p:nvSpPr>
        <p:spPr>
          <a:xfrm>
            <a:off x="2332440" y="2662200"/>
            <a:ext cx="37404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7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Rectangle 53"/>
          <p:cNvSpPr/>
          <p:nvPr/>
        </p:nvSpPr>
        <p:spPr>
          <a:xfrm>
            <a:off x="2354400" y="3781440"/>
            <a:ext cx="76356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700" spc="-1" strike="noStrike">
                <a:solidFill>
                  <a:srgbClr val="000000"/>
                </a:solidFill>
                <a:latin typeface="Times New Roman"/>
              </a:rPr>
              <a:t>CM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Rectangle 54"/>
          <p:cNvSpPr/>
          <p:nvPr/>
        </p:nvSpPr>
        <p:spPr>
          <a:xfrm>
            <a:off x="3638520" y="3078000"/>
            <a:ext cx="4654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7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s-ES" sz="37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Rectangle 55"/>
          <p:cNvSpPr/>
          <p:nvPr/>
        </p:nvSpPr>
        <p:spPr>
          <a:xfrm>
            <a:off x="3122640" y="2422440"/>
            <a:ext cx="96372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700" spc="-1" strike="noStrike">
                <a:solidFill>
                  <a:srgbClr val="000000"/>
                </a:solidFill>
                <a:latin typeface="Times New Roman"/>
              </a:rPr>
              <a:t>CM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Rectangle 56"/>
          <p:cNvSpPr/>
          <p:nvPr/>
        </p:nvSpPr>
        <p:spPr>
          <a:xfrm>
            <a:off x="1943640" y="2716200"/>
            <a:ext cx="28728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7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Text Box 7"/>
          <p:cNvSpPr/>
          <p:nvPr/>
        </p:nvSpPr>
        <p:spPr>
          <a:xfrm>
            <a:off x="1303200" y="5235480"/>
            <a:ext cx="649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 precio 3,50 dólares es consecuente c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 regla práctica para fijar el precio”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Text Box 8"/>
          <p:cNvSpPr/>
          <p:nvPr/>
        </p:nvSpPr>
        <p:spPr>
          <a:xfrm>
            <a:off x="455040" y="1427040"/>
            <a:ext cx="7503480" cy="520560"/>
          </a:xfrm>
          <a:prstGeom prst="rect">
            <a:avLst/>
          </a:prstGeom>
          <a:solidFill>
            <a:srgbClr val="d8c0cb"/>
          </a:solidFill>
          <a:ln w="12600">
            <a:solidFill>
              <a:srgbClr val="37654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 decisión de producción del monopolis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0" y="190440"/>
            <a:ext cx="91440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Arial"/>
              </a:rPr>
              <a:t>Astra-Merck fija el precio de Prilosec</a:t>
            </a:r>
            <a:endParaRPr b="1" lang="en-US" sz="4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2 – El mon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Los desplazamientos de la demanda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En un mercado competitivo, el coste marginal determina la curva de oferta de mercado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En un mercado monopolístico, la decisión de producción depende no sólo del coste marginal sino también de la forma de la curva de demanda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El monopolio</a:t>
            </a:r>
            <a:endParaRPr b="1" lang="en-US" sz="34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2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2 – El mon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6" name="Group 30"/>
          <p:cNvGrpSpPr/>
          <p:nvPr/>
        </p:nvGrpSpPr>
        <p:grpSpPr>
          <a:xfrm>
            <a:off x="2236680" y="3760920"/>
            <a:ext cx="4050360" cy="1664280"/>
            <a:chOff x="2236680" y="3760920"/>
            <a:chExt cx="4050360" cy="1664280"/>
          </a:xfrm>
        </p:grpSpPr>
        <p:sp>
          <p:nvSpPr>
            <p:cNvPr id="1047" name="Line 2"/>
            <p:cNvSpPr/>
            <p:nvPr/>
          </p:nvSpPr>
          <p:spPr>
            <a:xfrm>
              <a:off x="2236680" y="3760920"/>
              <a:ext cx="3529080" cy="1395360"/>
            </a:xfrm>
            <a:prstGeom prst="line">
              <a:avLst/>
            </a:prstGeom>
            <a:ln w="50760">
              <a:solidFill>
                <a:srgbClr val="99cc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Line 17"/>
            <p:cNvSpPr/>
            <p:nvPr/>
          </p:nvSpPr>
          <p:spPr>
            <a:xfrm>
              <a:off x="2236680" y="3760920"/>
              <a:ext cx="3757680" cy="633240"/>
            </a:xfrm>
            <a:prstGeom prst="line">
              <a:avLst/>
            </a:prstGeom>
            <a:ln w="50760">
              <a:solidFill>
                <a:srgbClr val="33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Rectangle 25"/>
            <p:cNvSpPr/>
            <p:nvPr/>
          </p:nvSpPr>
          <p:spPr>
            <a:xfrm>
              <a:off x="5868000" y="3957480"/>
              <a:ext cx="4190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Rectangle 26"/>
            <p:cNvSpPr/>
            <p:nvPr/>
          </p:nvSpPr>
          <p:spPr>
            <a:xfrm>
              <a:off x="5715360" y="5024520"/>
              <a:ext cx="5090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M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Group 27"/>
          <p:cNvGrpSpPr/>
          <p:nvPr/>
        </p:nvGrpSpPr>
        <p:grpSpPr>
          <a:xfrm>
            <a:off x="2236680" y="2313000"/>
            <a:ext cx="4202640" cy="3416760"/>
            <a:chOff x="2236680" y="2313000"/>
            <a:chExt cx="4202640" cy="3416760"/>
          </a:xfrm>
        </p:grpSpPr>
        <p:sp>
          <p:nvSpPr>
            <p:cNvPr id="1052" name="Line 4"/>
            <p:cNvSpPr/>
            <p:nvPr/>
          </p:nvSpPr>
          <p:spPr>
            <a:xfrm>
              <a:off x="2236680" y="2313000"/>
              <a:ext cx="2538360" cy="322416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Line 13"/>
            <p:cNvSpPr/>
            <p:nvPr/>
          </p:nvSpPr>
          <p:spPr>
            <a:xfrm>
              <a:off x="2236680" y="2313000"/>
              <a:ext cx="3757680" cy="238608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Rectangle 23"/>
            <p:cNvSpPr/>
            <p:nvPr/>
          </p:nvSpPr>
          <p:spPr>
            <a:xfrm>
              <a:off x="6020280" y="4491000"/>
              <a:ext cx="4190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Rectangle 24"/>
            <p:cNvSpPr/>
            <p:nvPr/>
          </p:nvSpPr>
          <p:spPr>
            <a:xfrm>
              <a:off x="4800960" y="5329080"/>
              <a:ext cx="5090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M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Arial"/>
              </a:rPr>
              <a:t>Los desplazamientos de la demanda provocan variaciones de los precios sin que varíe el nivel de producción</a:t>
            </a:r>
            <a:endParaRPr b="1" lang="en-US" sz="2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057" name="Rectangle 5"/>
          <p:cNvSpPr/>
          <p:nvPr/>
        </p:nvSpPr>
        <p:spPr>
          <a:xfrm>
            <a:off x="3124080" y="6235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Line 6"/>
          <p:cNvSpPr/>
          <p:nvPr/>
        </p:nvSpPr>
        <p:spPr>
          <a:xfrm>
            <a:off x="2209680" y="1716120"/>
            <a:ext cx="0" cy="426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Line 7"/>
          <p:cNvSpPr/>
          <p:nvPr/>
        </p:nvSpPr>
        <p:spPr>
          <a:xfrm>
            <a:off x="2203560" y="5989680"/>
            <a:ext cx="4276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Rectangle 8"/>
          <p:cNvSpPr/>
          <p:nvPr/>
        </p:nvSpPr>
        <p:spPr>
          <a:xfrm>
            <a:off x="6451200" y="5900760"/>
            <a:ext cx="1047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tida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1" name="Group 33"/>
          <p:cNvGrpSpPr/>
          <p:nvPr/>
        </p:nvGrpSpPr>
        <p:grpSpPr>
          <a:xfrm>
            <a:off x="2201760" y="2128680"/>
            <a:ext cx="4044960" cy="3864240"/>
            <a:chOff x="2201760" y="2128680"/>
            <a:chExt cx="4044960" cy="3864240"/>
          </a:xfrm>
        </p:grpSpPr>
        <p:sp>
          <p:nvSpPr>
            <p:cNvPr id="1062" name="Line 10"/>
            <p:cNvSpPr/>
            <p:nvPr/>
          </p:nvSpPr>
          <p:spPr>
            <a:xfrm flipV="1">
              <a:off x="2201760" y="2508120"/>
              <a:ext cx="3675240" cy="3484800"/>
            </a:xfrm>
            <a:prstGeom prst="line">
              <a:avLst/>
            </a:prstGeom>
            <a:ln w="507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Rectangle 12"/>
            <p:cNvSpPr/>
            <p:nvPr/>
          </p:nvSpPr>
          <p:spPr>
            <a:xfrm>
              <a:off x="5710320" y="2128680"/>
              <a:ext cx="5364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M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Oval 11"/>
            <p:cNvSpPr/>
            <p:nvPr/>
          </p:nvSpPr>
          <p:spPr>
            <a:xfrm>
              <a:off x="3809880" y="43434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5" name="Rectangle 16"/>
          <p:cNvSpPr/>
          <p:nvPr/>
        </p:nvSpPr>
        <p:spPr>
          <a:xfrm>
            <a:off x="1887480" y="167004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6" name="Group 31"/>
          <p:cNvGrpSpPr/>
          <p:nvPr/>
        </p:nvGrpSpPr>
        <p:grpSpPr>
          <a:xfrm>
            <a:off x="1753200" y="3846600"/>
            <a:ext cx="2209320" cy="400680"/>
            <a:chOff x="1753200" y="3846600"/>
            <a:chExt cx="2209320" cy="400680"/>
          </a:xfrm>
        </p:grpSpPr>
        <p:sp>
          <p:nvSpPr>
            <p:cNvPr id="1067" name="Line 18"/>
            <p:cNvSpPr/>
            <p:nvPr/>
          </p:nvSpPr>
          <p:spPr>
            <a:xfrm>
              <a:off x="2224080" y="4038480"/>
              <a:ext cx="16495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Rectangle 19"/>
            <p:cNvSpPr/>
            <p:nvPr/>
          </p:nvSpPr>
          <p:spPr>
            <a:xfrm>
              <a:off x="1753200" y="3846600"/>
              <a:ext cx="4068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Oval 20"/>
            <p:cNvSpPr/>
            <p:nvPr/>
          </p:nvSpPr>
          <p:spPr>
            <a:xfrm>
              <a:off x="3809880" y="396252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0" name="Group 29"/>
          <p:cNvGrpSpPr/>
          <p:nvPr/>
        </p:nvGrpSpPr>
        <p:grpSpPr>
          <a:xfrm>
            <a:off x="1753200" y="3160800"/>
            <a:ext cx="2486880" cy="3150000"/>
            <a:chOff x="1753200" y="3160800"/>
            <a:chExt cx="2486880" cy="3150000"/>
          </a:xfrm>
        </p:grpSpPr>
        <p:sp>
          <p:nvSpPr>
            <p:cNvPr id="1071" name="Line 9"/>
            <p:cNvSpPr/>
            <p:nvPr/>
          </p:nvSpPr>
          <p:spPr>
            <a:xfrm>
              <a:off x="2224080" y="3352680"/>
              <a:ext cx="16495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Line 14"/>
            <p:cNvSpPr/>
            <p:nvPr/>
          </p:nvSpPr>
          <p:spPr>
            <a:xfrm flipV="1">
              <a:off x="3886200" y="3463560"/>
              <a:ext cx="0" cy="25686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Rectangle 15"/>
            <p:cNvSpPr/>
            <p:nvPr/>
          </p:nvSpPr>
          <p:spPr>
            <a:xfrm>
              <a:off x="1753200" y="3160800"/>
              <a:ext cx="4068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Oval 21"/>
            <p:cNvSpPr/>
            <p:nvPr/>
          </p:nvSpPr>
          <p:spPr>
            <a:xfrm>
              <a:off x="3809880" y="327672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Rectangle 22"/>
            <p:cNvSpPr/>
            <p:nvPr/>
          </p:nvSpPr>
          <p:spPr>
            <a:xfrm>
              <a:off x="3438360" y="5945040"/>
              <a:ext cx="80172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= Q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2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2 – El mon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7" name="Group 29"/>
          <p:cNvGrpSpPr/>
          <p:nvPr/>
        </p:nvGrpSpPr>
        <p:grpSpPr>
          <a:xfrm>
            <a:off x="2236680" y="2313000"/>
            <a:ext cx="4202640" cy="3416760"/>
            <a:chOff x="2236680" y="2313000"/>
            <a:chExt cx="4202640" cy="3416760"/>
          </a:xfrm>
        </p:grpSpPr>
        <p:sp>
          <p:nvSpPr>
            <p:cNvPr id="1078" name="Line 4"/>
            <p:cNvSpPr/>
            <p:nvPr/>
          </p:nvSpPr>
          <p:spPr>
            <a:xfrm>
              <a:off x="2236680" y="2313000"/>
              <a:ext cx="2538360" cy="322416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Line 13"/>
            <p:cNvSpPr/>
            <p:nvPr/>
          </p:nvSpPr>
          <p:spPr>
            <a:xfrm>
              <a:off x="2236680" y="2313000"/>
              <a:ext cx="3757680" cy="238608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Rectangle 14"/>
            <p:cNvSpPr/>
            <p:nvPr/>
          </p:nvSpPr>
          <p:spPr>
            <a:xfrm>
              <a:off x="6020280" y="4491000"/>
              <a:ext cx="4190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Rectangle 15"/>
            <p:cNvSpPr/>
            <p:nvPr/>
          </p:nvSpPr>
          <p:spPr>
            <a:xfrm>
              <a:off x="4800960" y="5329080"/>
              <a:ext cx="5090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M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2" name="Line 6"/>
          <p:cNvSpPr/>
          <p:nvPr/>
        </p:nvSpPr>
        <p:spPr>
          <a:xfrm>
            <a:off x="2209680" y="1716120"/>
            <a:ext cx="0" cy="426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Line 7"/>
          <p:cNvSpPr/>
          <p:nvPr/>
        </p:nvSpPr>
        <p:spPr>
          <a:xfrm>
            <a:off x="2220840" y="5972040"/>
            <a:ext cx="4276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4" name="Group 31"/>
          <p:cNvGrpSpPr/>
          <p:nvPr/>
        </p:nvGrpSpPr>
        <p:grpSpPr>
          <a:xfrm>
            <a:off x="2219400" y="2128680"/>
            <a:ext cx="4027320" cy="3827160"/>
            <a:chOff x="2219400" y="2128680"/>
            <a:chExt cx="4027320" cy="3827160"/>
          </a:xfrm>
        </p:grpSpPr>
        <p:sp>
          <p:nvSpPr>
            <p:cNvPr id="1085" name="Line 10"/>
            <p:cNvSpPr/>
            <p:nvPr/>
          </p:nvSpPr>
          <p:spPr>
            <a:xfrm flipV="1">
              <a:off x="2219400" y="2542680"/>
              <a:ext cx="3676680" cy="3413160"/>
            </a:xfrm>
            <a:prstGeom prst="line">
              <a:avLst/>
            </a:prstGeom>
            <a:ln w="507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Oval 11"/>
            <p:cNvSpPr/>
            <p:nvPr/>
          </p:nvSpPr>
          <p:spPr>
            <a:xfrm>
              <a:off x="3809880" y="43434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Rectangle 12"/>
            <p:cNvSpPr/>
            <p:nvPr/>
          </p:nvSpPr>
          <p:spPr>
            <a:xfrm>
              <a:off x="5710320" y="2128680"/>
              <a:ext cx="5364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M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8" name="Rectangle 18"/>
          <p:cNvSpPr/>
          <p:nvPr/>
        </p:nvSpPr>
        <p:spPr>
          <a:xfrm>
            <a:off x="1887480" y="167004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9" name="Group 32"/>
          <p:cNvGrpSpPr/>
          <p:nvPr/>
        </p:nvGrpSpPr>
        <p:grpSpPr>
          <a:xfrm>
            <a:off x="2236680" y="2770200"/>
            <a:ext cx="4583880" cy="1587960"/>
            <a:chOff x="2236680" y="2770200"/>
            <a:chExt cx="4583880" cy="1587960"/>
          </a:xfrm>
        </p:grpSpPr>
        <p:sp>
          <p:nvSpPr>
            <p:cNvPr id="1090" name="Line 2"/>
            <p:cNvSpPr/>
            <p:nvPr/>
          </p:nvSpPr>
          <p:spPr>
            <a:xfrm>
              <a:off x="2236680" y="2846520"/>
              <a:ext cx="3529080" cy="1242720"/>
            </a:xfrm>
            <a:prstGeom prst="line">
              <a:avLst/>
            </a:prstGeom>
            <a:ln w="50760">
              <a:solidFill>
                <a:srgbClr val="99cc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Rectangle 21"/>
            <p:cNvSpPr/>
            <p:nvPr/>
          </p:nvSpPr>
          <p:spPr>
            <a:xfrm>
              <a:off x="6019920" y="3957480"/>
              <a:ext cx="5090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M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Line 22"/>
            <p:cNvSpPr/>
            <p:nvPr/>
          </p:nvSpPr>
          <p:spPr>
            <a:xfrm>
              <a:off x="2236680" y="2770200"/>
              <a:ext cx="4138560" cy="938160"/>
            </a:xfrm>
            <a:prstGeom prst="line">
              <a:avLst/>
            </a:prstGeom>
            <a:ln w="50760">
              <a:solidFill>
                <a:srgbClr val="33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Rectangle 23"/>
            <p:cNvSpPr/>
            <p:nvPr/>
          </p:nvSpPr>
          <p:spPr>
            <a:xfrm>
              <a:off x="6401520" y="3348000"/>
              <a:ext cx="4190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4" name="Group 33"/>
          <p:cNvGrpSpPr/>
          <p:nvPr/>
        </p:nvGrpSpPr>
        <p:grpSpPr>
          <a:xfrm>
            <a:off x="1224360" y="3160800"/>
            <a:ext cx="3601080" cy="3150000"/>
            <a:chOff x="1224360" y="3160800"/>
            <a:chExt cx="3601080" cy="3150000"/>
          </a:xfrm>
        </p:grpSpPr>
        <p:sp>
          <p:nvSpPr>
            <p:cNvPr id="1095" name="Line 9"/>
            <p:cNvSpPr/>
            <p:nvPr/>
          </p:nvSpPr>
          <p:spPr>
            <a:xfrm>
              <a:off x="2224080" y="3352680"/>
              <a:ext cx="24112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Line 16"/>
            <p:cNvSpPr/>
            <p:nvPr/>
          </p:nvSpPr>
          <p:spPr>
            <a:xfrm flipV="1">
              <a:off x="3886200" y="3428640"/>
              <a:ext cx="0" cy="25686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Rectangle 17"/>
            <p:cNvSpPr/>
            <p:nvPr/>
          </p:nvSpPr>
          <p:spPr>
            <a:xfrm>
              <a:off x="1224360" y="3160800"/>
              <a:ext cx="8942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= P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Oval 19"/>
            <p:cNvSpPr/>
            <p:nvPr/>
          </p:nvSpPr>
          <p:spPr>
            <a:xfrm>
              <a:off x="3809880" y="327672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Rectangle 20"/>
            <p:cNvSpPr/>
            <p:nvPr/>
          </p:nvSpPr>
          <p:spPr>
            <a:xfrm>
              <a:off x="3735720" y="5945040"/>
              <a:ext cx="40392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Line 24"/>
            <p:cNvSpPr/>
            <p:nvPr/>
          </p:nvSpPr>
          <p:spPr>
            <a:xfrm flipV="1">
              <a:off x="4648320" y="3341160"/>
              <a:ext cx="0" cy="25844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Oval 25"/>
            <p:cNvSpPr/>
            <p:nvPr/>
          </p:nvSpPr>
          <p:spPr>
            <a:xfrm>
              <a:off x="4572000" y="35812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Oval 26"/>
            <p:cNvSpPr/>
            <p:nvPr/>
          </p:nvSpPr>
          <p:spPr>
            <a:xfrm>
              <a:off x="4572000" y="32767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Rectangle 27"/>
            <p:cNvSpPr/>
            <p:nvPr/>
          </p:nvSpPr>
          <p:spPr>
            <a:xfrm>
              <a:off x="4421520" y="5945040"/>
              <a:ext cx="40392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4" name="Rectangle 28"/>
          <p:cNvSpPr/>
          <p:nvPr/>
        </p:nvSpPr>
        <p:spPr>
          <a:xfrm>
            <a:off x="6451200" y="5900760"/>
            <a:ext cx="1047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tida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Arial"/>
              </a:rPr>
              <a:t>Los desplazamientos de la demanda provocan variaciones de los precios sin que varíe el nivel de producción</a:t>
            </a:r>
            <a:endParaRPr b="1" lang="en-US" sz="24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2 – El mon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Observaciones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819000" indent="-285480">
              <a:spcBef>
                <a:spcPts val="244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Los desplazamientos de la demanda normalmente provocan que tanto el precio como la cantidad varíen. 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819000" indent="-285480">
              <a:spcBef>
                <a:spcPts val="244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Un mercado monopolístico no tiene una curva de oferta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El monopolio</a:t>
            </a:r>
            <a:endParaRPr b="1" lang="en-US" sz="34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2 – El mon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1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Observaciones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244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El monopolista puede ofrecer varias cantidades diferentes al mismo precio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244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El monopolista puede ofrecer la misma cantidad a diferentes precios. 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El monopolio</a:t>
            </a:r>
            <a:endParaRPr b="1" lang="en-US" sz="34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2 – El mon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/>
          </p:nvPr>
        </p:nvSpPr>
        <p:spPr>
          <a:xfrm>
            <a:off x="909360" y="1285560"/>
            <a:ext cx="8234280" cy="50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El efecto de un impuesto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35480" indent="-28296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En el monopolio, el precio puede subir a veces en una cuantía 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superior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 a la del impuesto. 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marL="339480" indent="-33948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Análisis del efecto que produce un impuesto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35480" indent="-28296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t = impuesto específico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35480" indent="-28296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CM = CM + t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35480" indent="-28296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IM = CM + t : decisión óptima de producción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El monopolio</a:t>
            </a:r>
            <a:endParaRPr b="1" lang="en-US" sz="34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2 – El mon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50440" y="190440"/>
            <a:ext cx="807876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7f7f"/>
                </a:solidFill>
                <a:latin typeface="Arial"/>
              </a:rPr>
              <a:t>Mercado perfectamente competitivo</a:t>
            </a:r>
            <a:endParaRPr b="1" lang="en-US" sz="36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996480" y="1199880"/>
            <a:ext cx="8147160" cy="508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Análisis del mercado perfectamente competitivo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P = CML = CMeL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62626"/>
                </a:solidFill>
                <a:latin typeface="Arial"/>
              </a:rPr>
              <a:t>Beneficios normales o beneficios económicos nulos a largo plazo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Gran número de vendedores y de compradores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27920" indent="-28008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62626"/>
                </a:solidFill>
                <a:latin typeface="Arial"/>
              </a:rPr>
              <a:t>Productos homogéneos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27920" indent="-28008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62626"/>
                </a:solidFill>
                <a:latin typeface="Arial"/>
              </a:rPr>
              <a:t>Información perfecta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Empresas precio-aceptantes. 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2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2 – El mon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0" y="190440"/>
            <a:ext cx="91440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Arial"/>
              </a:rPr>
              <a:t>Influencia de un impuesto sobre consumos específicos en el monopolista</a:t>
            </a:r>
            <a:endParaRPr b="1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123" name="Rectangle 5"/>
          <p:cNvSpPr/>
          <p:nvPr/>
        </p:nvSpPr>
        <p:spPr>
          <a:xfrm>
            <a:off x="3124080" y="6183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Line 6"/>
          <p:cNvSpPr/>
          <p:nvPr/>
        </p:nvSpPr>
        <p:spPr>
          <a:xfrm>
            <a:off x="2209680" y="1698480"/>
            <a:ext cx="0" cy="426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Line 7"/>
          <p:cNvSpPr/>
          <p:nvPr/>
        </p:nvSpPr>
        <p:spPr>
          <a:xfrm>
            <a:off x="2203560" y="5954760"/>
            <a:ext cx="4276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Rectangle 8"/>
          <p:cNvSpPr/>
          <p:nvPr/>
        </p:nvSpPr>
        <p:spPr>
          <a:xfrm>
            <a:off x="6484680" y="5900760"/>
            <a:ext cx="1159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tida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Rectangle 9"/>
          <p:cNvSpPr/>
          <p:nvPr/>
        </p:nvSpPr>
        <p:spPr>
          <a:xfrm>
            <a:off x="1631520" y="1617840"/>
            <a:ext cx="550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/Q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8" name="Group 36"/>
          <p:cNvGrpSpPr/>
          <p:nvPr/>
        </p:nvGrpSpPr>
        <p:grpSpPr>
          <a:xfrm>
            <a:off x="2200320" y="4995720"/>
            <a:ext cx="4808160" cy="363240"/>
            <a:chOff x="2200320" y="4995720"/>
            <a:chExt cx="4808160" cy="363240"/>
          </a:xfrm>
        </p:grpSpPr>
        <p:sp>
          <p:nvSpPr>
            <p:cNvPr id="1129" name="Line 3"/>
            <p:cNvSpPr/>
            <p:nvPr/>
          </p:nvSpPr>
          <p:spPr>
            <a:xfrm>
              <a:off x="2200320" y="5235480"/>
              <a:ext cx="4297320" cy="11160"/>
            </a:xfrm>
            <a:prstGeom prst="line">
              <a:avLst/>
            </a:prstGeom>
            <a:ln w="507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Rectangle 17"/>
            <p:cNvSpPr/>
            <p:nvPr/>
          </p:nvSpPr>
          <p:spPr>
            <a:xfrm>
              <a:off x="6472080" y="4995720"/>
              <a:ext cx="5364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M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1" name="Group 35"/>
          <p:cNvGrpSpPr/>
          <p:nvPr/>
        </p:nvGrpSpPr>
        <p:grpSpPr>
          <a:xfrm>
            <a:off x="2341440" y="1940040"/>
            <a:ext cx="5119200" cy="3746160"/>
            <a:chOff x="2341440" y="1940040"/>
            <a:chExt cx="5119200" cy="3746160"/>
          </a:xfrm>
        </p:grpSpPr>
        <p:sp>
          <p:nvSpPr>
            <p:cNvPr id="1132" name="Freeform 32"/>
            <p:cNvSpPr/>
            <p:nvPr/>
          </p:nvSpPr>
          <p:spPr>
            <a:xfrm>
              <a:off x="2576520" y="1940040"/>
              <a:ext cx="3774960" cy="2981160"/>
            </a:xfrm>
            <a:custGeom>
              <a:avLst/>
              <a:gdLst>
                <a:gd name="textAreaLeft" fmla="*/ 0 w 3774960"/>
                <a:gd name="textAreaRight" fmla="*/ 3775320 w 3774960"/>
                <a:gd name="textAreaTop" fmla="*/ 0 h 2981160"/>
                <a:gd name="textAreaBottom" fmla="*/ 2981520 h 2981160"/>
              </a:gdLst>
              <a:ahLst/>
              <a:rect l="textAreaLeft" t="textAreaTop" r="textAreaRight" b="textAreaBottom"/>
              <a:pathLst>
                <a:path w="2279" h="1645">
                  <a:moveTo>
                    <a:pt x="0" y="0"/>
                  </a:moveTo>
                  <a:cubicBezTo>
                    <a:pt x="109" y="364"/>
                    <a:pt x="219" y="728"/>
                    <a:pt x="367" y="967"/>
                  </a:cubicBezTo>
                  <a:cubicBezTo>
                    <a:pt x="515" y="1206"/>
                    <a:pt x="570" y="1321"/>
                    <a:pt x="889" y="1434"/>
                  </a:cubicBezTo>
                  <a:cubicBezTo>
                    <a:pt x="1208" y="1547"/>
                    <a:pt x="1743" y="1596"/>
                    <a:pt x="2279" y="1645"/>
                  </a:cubicBezTo>
                </a:path>
              </a:pathLst>
            </a:custGeom>
            <a:noFill/>
            <a:ln w="572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Rectangle 11"/>
            <p:cNvSpPr/>
            <p:nvPr/>
          </p:nvSpPr>
          <p:spPr>
            <a:xfrm>
              <a:off x="6471360" y="4708440"/>
              <a:ext cx="989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 = IM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Freeform 18"/>
            <p:cNvSpPr/>
            <p:nvPr/>
          </p:nvSpPr>
          <p:spPr>
            <a:xfrm>
              <a:off x="2341440" y="2475000"/>
              <a:ext cx="4097520" cy="2928960"/>
            </a:xfrm>
            <a:custGeom>
              <a:avLst/>
              <a:gdLst>
                <a:gd name="textAreaLeft" fmla="*/ 0 w 4097520"/>
                <a:gd name="textAreaRight" fmla="*/ 4097880 w 4097520"/>
                <a:gd name="textAreaTop" fmla="*/ 0 h 2928960"/>
                <a:gd name="textAreaBottom" fmla="*/ 2929320 h 2928960"/>
              </a:gdLst>
              <a:ahLst/>
              <a:rect l="textAreaLeft" t="textAreaTop" r="textAreaRight" b="textAreaBottom"/>
              <a:pathLst>
                <a:path w="2570" h="1612">
                  <a:moveTo>
                    <a:pt x="0" y="0"/>
                  </a:moveTo>
                  <a:lnTo>
                    <a:pt x="6" y="33"/>
                  </a:lnTo>
                  <a:lnTo>
                    <a:pt x="13" y="72"/>
                  </a:lnTo>
                  <a:lnTo>
                    <a:pt x="19" y="121"/>
                  </a:lnTo>
                  <a:lnTo>
                    <a:pt x="19" y="176"/>
                  </a:lnTo>
                  <a:lnTo>
                    <a:pt x="32" y="297"/>
                  </a:lnTo>
                  <a:lnTo>
                    <a:pt x="45" y="429"/>
                  </a:lnTo>
                  <a:lnTo>
                    <a:pt x="65" y="566"/>
                  </a:lnTo>
                  <a:lnTo>
                    <a:pt x="91" y="704"/>
                  </a:lnTo>
                  <a:lnTo>
                    <a:pt x="123" y="825"/>
                  </a:lnTo>
                  <a:lnTo>
                    <a:pt x="142" y="880"/>
                  </a:lnTo>
                  <a:lnTo>
                    <a:pt x="168" y="929"/>
                  </a:lnTo>
                  <a:lnTo>
                    <a:pt x="214" y="1023"/>
                  </a:lnTo>
                  <a:lnTo>
                    <a:pt x="259" y="1111"/>
                  </a:lnTo>
                  <a:lnTo>
                    <a:pt x="311" y="1188"/>
                  </a:lnTo>
                  <a:lnTo>
                    <a:pt x="363" y="1265"/>
                  </a:lnTo>
                  <a:lnTo>
                    <a:pt x="434" y="1331"/>
                  </a:lnTo>
                  <a:lnTo>
                    <a:pt x="519" y="1391"/>
                  </a:lnTo>
                  <a:lnTo>
                    <a:pt x="571" y="1419"/>
                  </a:lnTo>
                  <a:lnTo>
                    <a:pt x="629" y="1446"/>
                  </a:lnTo>
                  <a:lnTo>
                    <a:pt x="694" y="1468"/>
                  </a:lnTo>
                  <a:lnTo>
                    <a:pt x="765" y="1490"/>
                  </a:lnTo>
                  <a:lnTo>
                    <a:pt x="850" y="1512"/>
                  </a:lnTo>
                  <a:lnTo>
                    <a:pt x="941" y="1529"/>
                  </a:lnTo>
                  <a:lnTo>
                    <a:pt x="1051" y="1540"/>
                  </a:lnTo>
                  <a:lnTo>
                    <a:pt x="1161" y="1556"/>
                  </a:lnTo>
                  <a:lnTo>
                    <a:pt x="1284" y="1562"/>
                  </a:lnTo>
                  <a:lnTo>
                    <a:pt x="1414" y="1573"/>
                  </a:lnTo>
                  <a:lnTo>
                    <a:pt x="1680" y="1584"/>
                  </a:lnTo>
                  <a:lnTo>
                    <a:pt x="1940" y="1589"/>
                  </a:lnTo>
                  <a:lnTo>
                    <a:pt x="2063" y="1595"/>
                  </a:lnTo>
                  <a:lnTo>
                    <a:pt x="2186" y="1595"/>
                  </a:lnTo>
                  <a:lnTo>
                    <a:pt x="2297" y="1600"/>
                  </a:lnTo>
                  <a:lnTo>
                    <a:pt x="2400" y="1606"/>
                  </a:lnTo>
                  <a:lnTo>
                    <a:pt x="2491" y="1606"/>
                  </a:lnTo>
                  <a:lnTo>
                    <a:pt x="2569" y="1611"/>
                  </a:lnTo>
                </a:path>
              </a:pathLst>
            </a:custGeom>
            <a:noFill/>
            <a:ln cap="rnd" w="507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Rectangle 19"/>
            <p:cNvSpPr/>
            <p:nvPr/>
          </p:nvSpPr>
          <p:spPr>
            <a:xfrm>
              <a:off x="6471720" y="5322960"/>
              <a:ext cx="43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M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6" name="Group 47"/>
          <p:cNvGrpSpPr/>
          <p:nvPr/>
        </p:nvGrpSpPr>
        <p:grpSpPr>
          <a:xfrm>
            <a:off x="1660680" y="4156200"/>
            <a:ext cx="2340360" cy="2154600"/>
            <a:chOff x="1660680" y="4156200"/>
            <a:chExt cx="2340360" cy="2154600"/>
          </a:xfrm>
        </p:grpSpPr>
        <p:sp>
          <p:nvSpPr>
            <p:cNvPr id="1137" name="Rectangle 15"/>
            <p:cNvSpPr/>
            <p:nvPr/>
          </p:nvSpPr>
          <p:spPr>
            <a:xfrm>
              <a:off x="3539160" y="5875200"/>
              <a:ext cx="46188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Line 12"/>
            <p:cNvSpPr/>
            <p:nvPr/>
          </p:nvSpPr>
          <p:spPr>
            <a:xfrm>
              <a:off x="2224080" y="4365720"/>
              <a:ext cx="14605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Rectangle 13"/>
            <p:cNvSpPr/>
            <p:nvPr/>
          </p:nvSpPr>
          <p:spPr>
            <a:xfrm>
              <a:off x="1660680" y="4156200"/>
              <a:ext cx="43308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Line 14"/>
            <p:cNvSpPr/>
            <p:nvPr/>
          </p:nvSpPr>
          <p:spPr>
            <a:xfrm>
              <a:off x="3735360" y="4402080"/>
              <a:ext cx="0" cy="155268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Oval 16"/>
            <p:cNvSpPr/>
            <p:nvPr/>
          </p:nvSpPr>
          <p:spPr>
            <a:xfrm>
              <a:off x="3656160" y="42894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Oval 20"/>
            <p:cNvSpPr/>
            <p:nvPr/>
          </p:nvSpPr>
          <p:spPr>
            <a:xfrm>
              <a:off x="3656160" y="517032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3" name="Line 21"/>
          <p:cNvSpPr/>
          <p:nvPr/>
        </p:nvSpPr>
        <p:spPr>
          <a:xfrm flipV="1">
            <a:off x="2271600" y="4514400"/>
            <a:ext cx="4173480" cy="3240"/>
          </a:xfrm>
          <a:prstGeom prst="line">
            <a:avLst/>
          </a:prstGeom>
          <a:ln w="50760">
            <a:solidFill>
              <a:srgbClr val="cc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Rectangle 22"/>
          <p:cNvSpPr/>
          <p:nvPr/>
        </p:nvSpPr>
        <p:spPr>
          <a:xfrm>
            <a:off x="6472080" y="4343400"/>
            <a:ext cx="1121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M +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Line 30"/>
          <p:cNvSpPr/>
          <p:nvPr/>
        </p:nvSpPr>
        <p:spPr>
          <a:xfrm>
            <a:off x="1820880" y="4646520"/>
            <a:ext cx="1440" cy="5191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Rectangle 31"/>
          <p:cNvSpPr/>
          <p:nvPr/>
        </p:nvSpPr>
        <p:spPr>
          <a:xfrm>
            <a:off x="1495800" y="4748040"/>
            <a:ext cx="248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Line 2"/>
          <p:cNvSpPr/>
          <p:nvPr/>
        </p:nvSpPr>
        <p:spPr>
          <a:xfrm>
            <a:off x="2744640" y="2523960"/>
            <a:ext cx="0" cy="3430800"/>
          </a:xfrm>
          <a:prstGeom prst="line">
            <a:avLst/>
          </a:prstGeom>
          <a:ln w="25560">
            <a:solidFill>
              <a:srgbClr val="fc012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Rectangle 24"/>
          <p:cNvSpPr/>
          <p:nvPr/>
        </p:nvSpPr>
        <p:spPr>
          <a:xfrm>
            <a:off x="2512080" y="5875200"/>
            <a:ext cx="46188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Q</a:t>
            </a:r>
            <a:r>
              <a:rPr b="1" i="1" lang="en-US" sz="2000" spc="-1" strike="noStrike" baseline="-25000">
                <a:solidFill>
                  <a:srgbClr val="ff33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Line 25"/>
          <p:cNvSpPr/>
          <p:nvPr/>
        </p:nvSpPr>
        <p:spPr>
          <a:xfrm>
            <a:off x="2224080" y="2486160"/>
            <a:ext cx="395280" cy="0"/>
          </a:xfrm>
          <a:prstGeom prst="line">
            <a:avLst/>
          </a:prstGeom>
          <a:ln w="25560">
            <a:solidFill>
              <a:srgbClr val="fc012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Rectangle 27"/>
          <p:cNvSpPr/>
          <p:nvPr/>
        </p:nvSpPr>
        <p:spPr>
          <a:xfrm>
            <a:off x="1660680" y="2217600"/>
            <a:ext cx="43308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1" i="1" lang="en-US" sz="2000" spc="-1" strike="noStrike" baseline="-25000">
                <a:solidFill>
                  <a:srgbClr val="ff33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1" name="Object 2"/>
              <p:cNvSpPr txBox="1"/>
              <p:nvPr/>
            </p:nvSpPr>
            <p:spPr>
              <a:xfrm>
                <a:off x="1103400" y="3166920"/>
                <a:ext cx="5461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2" name="Oval 26"/>
          <p:cNvSpPr/>
          <p:nvPr/>
        </p:nvSpPr>
        <p:spPr>
          <a:xfrm>
            <a:off x="2679840" y="2409840"/>
            <a:ext cx="152280" cy="15228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Text Box 42"/>
          <p:cNvSpPr/>
          <p:nvPr/>
        </p:nvSpPr>
        <p:spPr>
          <a:xfrm>
            <a:off x="3239640" y="1960560"/>
            <a:ext cx="5633640" cy="4406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ida del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 aumento del impuest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Oval 44"/>
          <p:cNvSpPr/>
          <p:nvPr/>
        </p:nvSpPr>
        <p:spPr>
          <a:xfrm>
            <a:off x="2679840" y="4437000"/>
            <a:ext cx="152280" cy="1526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Line 48"/>
          <p:cNvSpPr/>
          <p:nvPr/>
        </p:nvSpPr>
        <p:spPr>
          <a:xfrm>
            <a:off x="1863720" y="2570040"/>
            <a:ext cx="0" cy="1657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2 – El mon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1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Pregunta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Supongamos: 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E</a:t>
            </a:r>
            <a:r>
              <a:rPr b="0" i="1" lang="en-US" sz="2800" spc="-1" strike="noStrike" baseline="-25000">
                <a:solidFill>
                  <a:srgbClr val="262626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 = -2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¿Cuánto varía el precio?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 type="title"/>
          </p:nvPr>
        </p:nvSpPr>
        <p:spPr>
          <a:xfrm>
            <a:off x="0" y="190440"/>
            <a:ext cx="91440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Influencia de un impuesto sobre consumos específicos en el monopolista</a:t>
            </a:r>
            <a:endParaRPr b="1" lang="en-US" sz="29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2 – El mon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0" y="190440"/>
            <a:ext cx="91440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Influencia de un impuesto sobre consumos específicos en el monopolista</a:t>
            </a:r>
            <a:endParaRPr b="1" lang="en-US" sz="2900" spc="-1" strike="noStrike">
              <a:solidFill>
                <a:srgbClr val="7f7f7f"/>
              </a:solidFill>
              <a:latin typeface="Arial"/>
            </a:endParaRPr>
          </a:p>
        </p:txBody>
      </p:sp>
      <p:pic>
        <p:nvPicPr>
          <p:cNvPr id="1161" name="Picture 2" descr=""/>
          <p:cNvPicPr/>
          <p:nvPr/>
        </p:nvPicPr>
        <p:blipFill>
          <a:blip r:embed="rId1"/>
          <a:stretch/>
        </p:blipFill>
        <p:spPr>
          <a:xfrm>
            <a:off x="638280" y="1238400"/>
            <a:ext cx="7867440" cy="43812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2 – El mon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1"/>
          <p:cNvSpPr>
            <a:spLocks noGrp="1"/>
          </p:cNvSpPr>
          <p:nvPr>
            <p:ph/>
          </p:nvPr>
        </p:nvSpPr>
        <p:spPr>
          <a:xfrm>
            <a:off x="914040" y="1719360"/>
            <a:ext cx="80010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La empresa que tiene más de una planta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En muchas empresas, la producción tiene lugar en dos o más plantas, por lo que los costes de funcionamiento pueden ser diferentes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El monopolio</a:t>
            </a:r>
            <a:endParaRPr b="1" lang="en-US" sz="34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2 – El mon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1"/>
          <p:cNvSpPr>
            <a:spLocks noGrp="1"/>
          </p:cNvSpPr>
          <p:nvPr>
            <p:ph/>
          </p:nvPr>
        </p:nvSpPr>
        <p:spPr>
          <a:xfrm>
            <a:off x="933480" y="1719360"/>
            <a:ext cx="798192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La empresa que tiene más de una planta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Si se realiza el cálculo del nivel total de producción y de cuánto debe producirse en cada planta: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2" marL="1143000" indent="-228600">
              <a:spcBef>
                <a:spcPts val="1188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El coste marginal debe ser el mismo en cada planta. 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2" marL="1143000" indent="-228600">
              <a:spcBef>
                <a:spcPts val="1188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El coste marginal debe ser igual al ingreso marginal en cada planta. 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El monopolio</a:t>
            </a:r>
            <a:endParaRPr b="1" lang="en-US" sz="34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2 – El mon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1"/>
          <p:cNvSpPr>
            <a:spLocks noGrp="1"/>
          </p:cNvSpPr>
          <p:nvPr>
            <p:ph/>
          </p:nvPr>
        </p:nvSpPr>
        <p:spPr>
          <a:xfrm>
            <a:off x="647640" y="2232000"/>
            <a:ext cx="8267760" cy="371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Algebraicamente se expresa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5" name="Rectangle 17"/>
          <p:cNvSpPr/>
          <p:nvPr/>
        </p:nvSpPr>
        <p:spPr>
          <a:xfrm>
            <a:off x="2682720" y="4572000"/>
            <a:ext cx="120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Rectangle 23"/>
          <p:cNvSpPr/>
          <p:nvPr/>
        </p:nvSpPr>
        <p:spPr>
          <a:xfrm>
            <a:off x="5695560" y="3843360"/>
            <a:ext cx="120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Rectangle 31"/>
          <p:cNvSpPr/>
          <p:nvPr/>
        </p:nvSpPr>
        <p:spPr>
          <a:xfrm>
            <a:off x="5589360" y="3116160"/>
            <a:ext cx="120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Text Box 7"/>
          <p:cNvSpPr/>
          <p:nvPr/>
        </p:nvSpPr>
        <p:spPr>
          <a:xfrm>
            <a:off x="435240" y="1407960"/>
            <a:ext cx="7017480" cy="520560"/>
          </a:xfrm>
          <a:prstGeom prst="rect">
            <a:avLst/>
          </a:prstGeom>
          <a:solidFill>
            <a:srgbClr val="d8c0cb"/>
          </a:solidFill>
          <a:ln w="12600">
            <a:solidFill>
              <a:srgbClr val="37654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 empresa que tiene más de una plan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El monopolio</a:t>
            </a:r>
            <a:endParaRPr b="1" lang="en-US" sz="3400" spc="-1" strike="noStrike">
              <a:solidFill>
                <a:srgbClr val="7f7f7f"/>
              </a:solidFill>
              <a:latin typeface="Arial"/>
            </a:endParaRPr>
          </a:p>
        </p:txBody>
      </p:sp>
      <p:grpSp>
        <p:nvGrpSpPr>
          <p:cNvPr id="1180" name="Group 50"/>
          <p:cNvGrpSpPr/>
          <p:nvPr/>
        </p:nvGrpSpPr>
        <p:grpSpPr>
          <a:xfrm>
            <a:off x="704880" y="3078000"/>
            <a:ext cx="8439120" cy="2209680"/>
            <a:chOff x="704880" y="3078000"/>
            <a:chExt cx="8439120" cy="2209680"/>
          </a:xfrm>
        </p:grpSpPr>
        <p:sp>
          <p:nvSpPr>
            <p:cNvPr id="1181" name="Rectangle 18"/>
            <p:cNvSpPr/>
            <p:nvPr/>
          </p:nvSpPr>
          <p:spPr>
            <a:xfrm>
              <a:off x="966240" y="4591080"/>
              <a:ext cx="28857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00000"/>
                  </a:solidFill>
                  <a:latin typeface="Times New Roman"/>
                </a:rPr>
                <a:t>Producción total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Rectangle 35"/>
            <p:cNvSpPr/>
            <p:nvPr/>
          </p:nvSpPr>
          <p:spPr>
            <a:xfrm>
              <a:off x="5640480" y="4591080"/>
              <a:ext cx="1655640" cy="69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72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3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s-ES" sz="3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s-E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</a:t>
              </a:r>
              <a:r>
                <a:rPr b="1" i="1" lang="es-ES" sz="3600" spc="-1" strike="noStrike">
                  <a:solidFill>
                    <a:srgbClr val="000000"/>
                  </a:solidFill>
                  <a:latin typeface="Times New Roman"/>
                </a:rPr>
                <a:t> Q</a:t>
              </a:r>
              <a:r>
                <a:rPr b="1" lang="es-E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Rectangle 37"/>
            <p:cNvSpPr/>
            <p:nvPr/>
          </p:nvSpPr>
          <p:spPr>
            <a:xfrm>
              <a:off x="4516200" y="4572000"/>
              <a:ext cx="508320" cy="69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72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3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s-ES" sz="36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Rectangle 41"/>
            <p:cNvSpPr/>
            <p:nvPr/>
          </p:nvSpPr>
          <p:spPr>
            <a:xfrm>
              <a:off x="800280" y="3078000"/>
              <a:ext cx="8343720" cy="69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72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3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s-ES" sz="3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" sz="3600" spc="-1" strike="noStrike">
                  <a:solidFill>
                    <a:srgbClr val="000000"/>
                  </a:solidFill>
                  <a:latin typeface="Times New Roman"/>
                </a:rPr>
                <a:t>y </a:t>
              </a:r>
              <a:r>
                <a:rPr b="1" i="1" lang="es-ES" sz="3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es-ES" sz="3600" spc="-1" strike="noStrike" baseline="-25000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1" lang="es-E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</a:t>
              </a:r>
              <a:r>
                <a:rPr b="1" lang="es-ES" sz="2400" spc="-1" strike="noStrike">
                  <a:solidFill>
                    <a:srgbClr val="000000"/>
                  </a:solidFill>
                  <a:latin typeface="Times New Roman"/>
                </a:rPr>
                <a:t>Nivel de producción y coste de la planta 1</a:t>
              </a: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Rectangle 44"/>
            <p:cNvSpPr/>
            <p:nvPr/>
          </p:nvSpPr>
          <p:spPr>
            <a:xfrm>
              <a:off x="5115600" y="4516560"/>
              <a:ext cx="3636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Rectangle 45"/>
            <p:cNvSpPr/>
            <p:nvPr/>
          </p:nvSpPr>
          <p:spPr>
            <a:xfrm>
              <a:off x="4083840" y="4516560"/>
              <a:ext cx="3636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Text Box 49"/>
            <p:cNvSpPr/>
            <p:nvPr/>
          </p:nvSpPr>
          <p:spPr>
            <a:xfrm>
              <a:off x="704880" y="3743280"/>
              <a:ext cx="843912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3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s-E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" sz="3600" spc="-1" strike="noStrike">
                  <a:solidFill>
                    <a:srgbClr val="000000"/>
                  </a:solidFill>
                  <a:latin typeface="Times New Roman"/>
                </a:rPr>
                <a:t>y </a:t>
              </a:r>
              <a:r>
                <a:rPr b="1" i="1" lang="es-ES" sz="3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es-ES" sz="3600" spc="-1" strike="noStrike" baseline="-25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1" lang="es-E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</a:t>
              </a:r>
              <a:r>
                <a:rPr b="1" lang="es-ES" sz="2400" spc="-1" strike="noStrike">
                  <a:solidFill>
                    <a:srgbClr val="000000"/>
                  </a:solidFill>
                  <a:latin typeface="Times New Roman"/>
                </a:rPr>
                <a:t>Nivel de producción y coste de la planta 2</a:t>
              </a: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2 – El mon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1"/>
          <p:cNvSpPr>
            <a:spLocks noGrp="1"/>
          </p:cNvSpPr>
          <p:nvPr>
            <p:ph/>
          </p:nvPr>
        </p:nvSpPr>
        <p:spPr>
          <a:xfrm>
            <a:off x="1143000" y="2249280"/>
            <a:ext cx="7772400" cy="369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Algebraicamente se expresa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2" name="Object 2"/>
              <p:cNvSpPr txBox="1"/>
              <p:nvPr/>
            </p:nvSpPr>
            <p:spPr>
              <a:xfrm>
                <a:off x="1655640" y="3014640"/>
                <a:ext cx="5538960" cy="226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π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f>
                          <m:num>
                            <m:r>
                              <m:t xml:space="preserve">Δπ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Δ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Δ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Q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Δ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Δ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Δ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93" name="PlaceHolder 2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El monopolio</a:t>
            </a:r>
            <a:endParaRPr b="1" lang="en-US" sz="3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194" name="Text Box 10"/>
          <p:cNvSpPr/>
          <p:nvPr/>
        </p:nvSpPr>
        <p:spPr>
          <a:xfrm>
            <a:off x="435240" y="1407960"/>
            <a:ext cx="7017480" cy="520560"/>
          </a:xfrm>
          <a:prstGeom prst="rect">
            <a:avLst/>
          </a:prstGeom>
          <a:solidFill>
            <a:srgbClr val="d8c0cb"/>
          </a:solidFill>
          <a:ln w="12600">
            <a:solidFill>
              <a:srgbClr val="37654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 empresa que tiene más de una plan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2 – El mon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1"/>
          <p:cNvSpPr>
            <a:spLocks noGrp="1"/>
          </p:cNvSpPr>
          <p:nvPr>
            <p:ph/>
          </p:nvPr>
        </p:nvSpPr>
        <p:spPr>
          <a:xfrm>
            <a:off x="1143000" y="2249280"/>
            <a:ext cx="7772400" cy="369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Algebraicamente se expresa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9" name="Line 11"/>
          <p:cNvSpPr/>
          <p:nvPr/>
        </p:nvSpPr>
        <p:spPr>
          <a:xfrm>
            <a:off x="2708280" y="3664080"/>
            <a:ext cx="15271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Line 12"/>
          <p:cNvSpPr/>
          <p:nvPr/>
        </p:nvSpPr>
        <p:spPr>
          <a:xfrm>
            <a:off x="5789520" y="3664080"/>
            <a:ext cx="7984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Rectangle 14"/>
          <p:cNvSpPr/>
          <p:nvPr/>
        </p:nvSpPr>
        <p:spPr>
          <a:xfrm>
            <a:off x="6459480" y="401004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Rectangle 15"/>
          <p:cNvSpPr/>
          <p:nvPr/>
        </p:nvSpPr>
        <p:spPr>
          <a:xfrm>
            <a:off x="6454800" y="336384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Rectangle 16"/>
          <p:cNvSpPr/>
          <p:nvPr/>
        </p:nvSpPr>
        <p:spPr>
          <a:xfrm>
            <a:off x="3741480" y="401004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Rectangle 17"/>
          <p:cNvSpPr/>
          <p:nvPr/>
        </p:nvSpPr>
        <p:spPr>
          <a:xfrm>
            <a:off x="7166160" y="3370320"/>
            <a:ext cx="229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Rectangle 18"/>
          <p:cNvSpPr/>
          <p:nvPr/>
        </p:nvSpPr>
        <p:spPr>
          <a:xfrm>
            <a:off x="5657400" y="3370320"/>
            <a:ext cx="153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Rectangle 19"/>
          <p:cNvSpPr/>
          <p:nvPr/>
        </p:nvSpPr>
        <p:spPr>
          <a:xfrm>
            <a:off x="4752720" y="3370320"/>
            <a:ext cx="153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Rectangle 20"/>
          <p:cNvSpPr/>
          <p:nvPr/>
        </p:nvSpPr>
        <p:spPr>
          <a:xfrm>
            <a:off x="4152600" y="3081240"/>
            <a:ext cx="153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Rectangle 21"/>
          <p:cNvSpPr/>
          <p:nvPr/>
        </p:nvSpPr>
        <p:spPr>
          <a:xfrm>
            <a:off x="3133440" y="3081240"/>
            <a:ext cx="153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Rectangle 22"/>
          <p:cNvSpPr/>
          <p:nvPr/>
        </p:nvSpPr>
        <p:spPr>
          <a:xfrm>
            <a:off x="2576160" y="3370320"/>
            <a:ext cx="153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Rectangle 23"/>
          <p:cNvSpPr/>
          <p:nvPr/>
        </p:nvSpPr>
        <p:spPr>
          <a:xfrm>
            <a:off x="1715760" y="3370320"/>
            <a:ext cx="153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Rectangle 24"/>
          <p:cNvSpPr/>
          <p:nvPr/>
        </p:nvSpPr>
        <p:spPr>
          <a:xfrm>
            <a:off x="2792520" y="4422600"/>
            <a:ext cx="84492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es-E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Rectangle 25"/>
          <p:cNvSpPr/>
          <p:nvPr/>
        </p:nvSpPr>
        <p:spPr>
          <a:xfrm>
            <a:off x="1635120" y="4422600"/>
            <a:ext cx="8762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0000"/>
                </a:solidFill>
                <a:latin typeface="Times New Roman"/>
              </a:rPr>
              <a:t>I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Rectangle 26"/>
          <p:cNvSpPr/>
          <p:nvPr/>
        </p:nvSpPr>
        <p:spPr>
          <a:xfrm>
            <a:off x="6201720" y="3727440"/>
            <a:ext cx="3315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Rectangle 27"/>
          <p:cNvSpPr/>
          <p:nvPr/>
        </p:nvSpPr>
        <p:spPr>
          <a:xfrm>
            <a:off x="6204240" y="3081240"/>
            <a:ext cx="3056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Rectangle 28"/>
          <p:cNvSpPr/>
          <p:nvPr/>
        </p:nvSpPr>
        <p:spPr>
          <a:xfrm>
            <a:off x="4834080" y="3370320"/>
            <a:ext cx="933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0000"/>
                </a:solidFill>
                <a:latin typeface="Times New Roman"/>
              </a:rPr>
              <a:t>C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Rectangle 29"/>
          <p:cNvSpPr/>
          <p:nvPr/>
        </p:nvSpPr>
        <p:spPr>
          <a:xfrm>
            <a:off x="3483720" y="3727440"/>
            <a:ext cx="3315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Rectangle 30"/>
          <p:cNvSpPr/>
          <p:nvPr/>
        </p:nvSpPr>
        <p:spPr>
          <a:xfrm>
            <a:off x="3320640" y="3081240"/>
            <a:ext cx="6102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0000"/>
                </a:solidFill>
                <a:latin typeface="Times New Roman"/>
              </a:rPr>
              <a:t>PQ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Rectangle 31"/>
          <p:cNvSpPr/>
          <p:nvPr/>
        </p:nvSpPr>
        <p:spPr>
          <a:xfrm>
            <a:off x="1769040" y="3370320"/>
            <a:ext cx="586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0000"/>
                </a:solidFill>
                <a:latin typeface="Times New Roman"/>
              </a:rPr>
              <a:t>I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Rectangle 32"/>
          <p:cNvSpPr/>
          <p:nvPr/>
        </p:nvSpPr>
        <p:spPr>
          <a:xfrm>
            <a:off x="3866760" y="3365640"/>
            <a:ext cx="163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Rectangle 33"/>
          <p:cNvSpPr/>
          <p:nvPr/>
        </p:nvSpPr>
        <p:spPr>
          <a:xfrm>
            <a:off x="2509920" y="4370400"/>
            <a:ext cx="3636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Rectangle 34"/>
          <p:cNvSpPr/>
          <p:nvPr/>
        </p:nvSpPr>
        <p:spPr>
          <a:xfrm>
            <a:off x="6797520" y="3317760"/>
            <a:ext cx="3636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Rectangle 35"/>
          <p:cNvSpPr/>
          <p:nvPr/>
        </p:nvSpPr>
        <p:spPr>
          <a:xfrm>
            <a:off x="5963040" y="3675240"/>
            <a:ext cx="281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Rectangle 36"/>
          <p:cNvSpPr/>
          <p:nvPr/>
        </p:nvSpPr>
        <p:spPr>
          <a:xfrm>
            <a:off x="5966280" y="3029040"/>
            <a:ext cx="281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Rectangle 37"/>
          <p:cNvSpPr/>
          <p:nvPr/>
        </p:nvSpPr>
        <p:spPr>
          <a:xfrm>
            <a:off x="4519800" y="3317760"/>
            <a:ext cx="153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Rectangle 38"/>
          <p:cNvSpPr/>
          <p:nvPr/>
        </p:nvSpPr>
        <p:spPr>
          <a:xfrm>
            <a:off x="3245400" y="3675240"/>
            <a:ext cx="281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Rectangle 39"/>
          <p:cNvSpPr/>
          <p:nvPr/>
        </p:nvSpPr>
        <p:spPr>
          <a:xfrm>
            <a:off x="2881800" y="3029040"/>
            <a:ext cx="281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El monopolio</a:t>
            </a:r>
            <a:endParaRPr b="1" lang="en-US" sz="3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228" name="Text Box 10"/>
          <p:cNvSpPr/>
          <p:nvPr/>
        </p:nvSpPr>
        <p:spPr>
          <a:xfrm>
            <a:off x="435240" y="1407960"/>
            <a:ext cx="7017480" cy="520560"/>
          </a:xfrm>
          <a:prstGeom prst="rect">
            <a:avLst/>
          </a:prstGeom>
          <a:solidFill>
            <a:srgbClr val="d8c0cb"/>
          </a:solidFill>
          <a:ln w="12600">
            <a:solidFill>
              <a:srgbClr val="37654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 empresa que tiene más de una plan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2 – El mon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1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Algebraicamente se expresa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El monopolio</a:t>
            </a:r>
            <a:endParaRPr b="1" lang="en-US" sz="3400" spc="-1" strike="noStrike">
              <a:solidFill>
                <a:srgbClr val="7f7f7f"/>
              </a:solidFill>
              <a:latin typeface="Arial"/>
            </a:endParaRPr>
          </a:p>
        </p:txBody>
      </p:sp>
      <p:grpSp>
        <p:nvGrpSpPr>
          <p:cNvPr id="1234" name="Group 27"/>
          <p:cNvGrpSpPr/>
          <p:nvPr/>
        </p:nvGrpSpPr>
        <p:grpSpPr>
          <a:xfrm>
            <a:off x="1392120" y="2995560"/>
            <a:ext cx="4042080" cy="2040840"/>
            <a:chOff x="1392120" y="2995560"/>
            <a:chExt cx="4042080" cy="2040840"/>
          </a:xfrm>
        </p:grpSpPr>
        <p:sp>
          <p:nvSpPr>
            <p:cNvPr id="1235" name="Rectangle 19"/>
            <p:cNvSpPr/>
            <p:nvPr/>
          </p:nvSpPr>
          <p:spPr>
            <a:xfrm>
              <a:off x="1606320" y="2995560"/>
              <a:ext cx="2208960" cy="65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3800" spc="-1" strike="noStrike">
                  <a:solidFill>
                    <a:srgbClr val="000000"/>
                  </a:solidFill>
                  <a:latin typeface="Times New Roman"/>
                </a:rPr>
                <a:t>IM </a:t>
              </a:r>
              <a:r>
                <a:rPr b="1" lang="es-ES" sz="3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</a:t>
              </a:r>
              <a:r>
                <a:rPr b="1" i="1" lang="es-ES" sz="3600" spc="-1" strike="noStrike">
                  <a:solidFill>
                    <a:srgbClr val="000000"/>
                  </a:solidFill>
                  <a:latin typeface="Times New Roman"/>
                </a:rPr>
                <a:t>CM</a:t>
              </a:r>
              <a:r>
                <a:rPr b="1" lang="es-ES" sz="3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Rectangle 24"/>
            <p:cNvSpPr/>
            <p:nvPr/>
          </p:nvSpPr>
          <p:spPr>
            <a:xfrm>
              <a:off x="1557000" y="3738600"/>
              <a:ext cx="2208960" cy="65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3800" spc="-1" strike="noStrike">
                  <a:solidFill>
                    <a:srgbClr val="000000"/>
                  </a:solidFill>
                  <a:latin typeface="Times New Roman"/>
                </a:rPr>
                <a:t>IM </a:t>
              </a:r>
              <a:r>
                <a:rPr b="1" lang="es-ES" sz="3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</a:t>
              </a:r>
              <a:r>
                <a:rPr b="1" i="1" lang="es-ES" sz="3600" spc="-1" strike="noStrike">
                  <a:solidFill>
                    <a:srgbClr val="000000"/>
                  </a:solidFill>
                  <a:latin typeface="Times New Roman"/>
                </a:rPr>
                <a:t>CM</a:t>
              </a:r>
              <a:r>
                <a:rPr b="1" lang="es-E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Rectangle 26"/>
            <p:cNvSpPr/>
            <p:nvPr/>
          </p:nvSpPr>
          <p:spPr>
            <a:xfrm>
              <a:off x="1392120" y="4386240"/>
              <a:ext cx="4042080" cy="65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3800" spc="-1" strike="noStrike">
                  <a:solidFill>
                    <a:srgbClr val="000000"/>
                  </a:solidFill>
                  <a:latin typeface="Times New Roman"/>
                </a:rPr>
                <a:t>IM </a:t>
              </a:r>
              <a:r>
                <a:rPr b="1" lang="es-ES" sz="3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</a:t>
              </a:r>
              <a:r>
                <a:rPr b="1" i="1" lang="es-ES" sz="3600" spc="-1" strike="noStrike">
                  <a:solidFill>
                    <a:srgbClr val="000000"/>
                  </a:solidFill>
                  <a:latin typeface="Times New Roman"/>
                </a:rPr>
                <a:t>CM</a:t>
              </a:r>
              <a:r>
                <a:rPr b="1" lang="es-ES" sz="3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s-ES" sz="3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" sz="3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</a:t>
              </a:r>
              <a:r>
                <a:rPr b="1" i="1" lang="es-ES" sz="3600" spc="-1" strike="noStrike">
                  <a:solidFill>
                    <a:srgbClr val="000000"/>
                  </a:solidFill>
                  <a:latin typeface="Times New Roman"/>
                </a:rPr>
                <a:t>CM</a:t>
              </a:r>
              <a:r>
                <a:rPr b="1" lang="es-E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s-ES" sz="3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1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2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2 – El mon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50800" y="190440"/>
            <a:ext cx="85932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Arial"/>
              </a:rPr>
              <a:t>La producción con dos plantas</a:t>
            </a: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240" name="Rectangle 4"/>
          <p:cNvSpPr/>
          <p:nvPr/>
        </p:nvSpPr>
        <p:spPr>
          <a:xfrm>
            <a:off x="3124080" y="6235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Line 5"/>
          <p:cNvSpPr/>
          <p:nvPr/>
        </p:nvSpPr>
        <p:spPr>
          <a:xfrm>
            <a:off x="2209680" y="1751040"/>
            <a:ext cx="0" cy="426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Line 6"/>
          <p:cNvSpPr/>
          <p:nvPr/>
        </p:nvSpPr>
        <p:spPr>
          <a:xfrm>
            <a:off x="2220840" y="5989680"/>
            <a:ext cx="4276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Rectangle 7"/>
          <p:cNvSpPr/>
          <p:nvPr/>
        </p:nvSpPr>
        <p:spPr>
          <a:xfrm>
            <a:off x="6592320" y="5881680"/>
            <a:ext cx="1047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tida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Rectangle 8"/>
          <p:cNvSpPr/>
          <p:nvPr/>
        </p:nvSpPr>
        <p:spPr>
          <a:xfrm>
            <a:off x="1520280" y="1593720"/>
            <a:ext cx="507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/Q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5" name="Group 33"/>
          <p:cNvGrpSpPr/>
          <p:nvPr/>
        </p:nvGrpSpPr>
        <p:grpSpPr>
          <a:xfrm>
            <a:off x="2389320" y="2084400"/>
            <a:ext cx="5604840" cy="3607920"/>
            <a:chOff x="2389320" y="2084400"/>
            <a:chExt cx="5604840" cy="3607920"/>
          </a:xfrm>
        </p:grpSpPr>
        <p:sp>
          <p:nvSpPr>
            <p:cNvPr id="1246" name="Line 9"/>
            <p:cNvSpPr/>
            <p:nvPr/>
          </p:nvSpPr>
          <p:spPr>
            <a:xfrm>
              <a:off x="2389320" y="2084400"/>
              <a:ext cx="4519440" cy="223344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Rectangle 10"/>
            <p:cNvSpPr/>
            <p:nvPr/>
          </p:nvSpPr>
          <p:spPr>
            <a:xfrm>
              <a:off x="7004880" y="4338720"/>
              <a:ext cx="989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D = IM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Line 11"/>
            <p:cNvSpPr/>
            <p:nvPr/>
          </p:nvSpPr>
          <p:spPr>
            <a:xfrm>
              <a:off x="2389320" y="2313000"/>
              <a:ext cx="3147840" cy="299556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Rectangle 12"/>
            <p:cNvSpPr/>
            <p:nvPr/>
          </p:nvSpPr>
          <p:spPr>
            <a:xfrm>
              <a:off x="5633640" y="5329080"/>
              <a:ext cx="43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IM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0" name="Group 34"/>
          <p:cNvGrpSpPr/>
          <p:nvPr/>
        </p:nvGrpSpPr>
        <p:grpSpPr>
          <a:xfrm>
            <a:off x="2787480" y="1671480"/>
            <a:ext cx="2379960" cy="3589560"/>
            <a:chOff x="2787480" y="1671480"/>
            <a:chExt cx="2379960" cy="3589560"/>
          </a:xfrm>
        </p:grpSpPr>
        <p:sp>
          <p:nvSpPr>
            <p:cNvPr id="1251" name="Freeform 13"/>
            <p:cNvSpPr/>
            <p:nvPr/>
          </p:nvSpPr>
          <p:spPr>
            <a:xfrm>
              <a:off x="2787480" y="2136600"/>
              <a:ext cx="1143000" cy="3124440"/>
            </a:xfrm>
            <a:custGeom>
              <a:avLst/>
              <a:gdLst>
                <a:gd name="textAreaLeft" fmla="*/ 0 w 1143000"/>
                <a:gd name="textAreaRight" fmla="*/ 1143360 w 1143000"/>
                <a:gd name="textAreaTop" fmla="*/ 0 h 3124440"/>
                <a:gd name="textAreaBottom" fmla="*/ 3124800 h 3124440"/>
              </a:gdLst>
              <a:ahLst/>
              <a:rect l="textAreaLeft" t="textAreaTop" r="textAreaRight" b="textAreaBottom"/>
              <a:pathLst>
                <a:path w="720" h="1968">
                  <a:moveTo>
                    <a:pt x="0" y="1967"/>
                  </a:moveTo>
                  <a:lnTo>
                    <a:pt x="136" y="1691"/>
                  </a:lnTo>
                  <a:lnTo>
                    <a:pt x="264" y="1426"/>
                  </a:lnTo>
                  <a:lnTo>
                    <a:pt x="323" y="1294"/>
                  </a:lnTo>
                  <a:lnTo>
                    <a:pt x="379" y="1161"/>
                  </a:lnTo>
                  <a:lnTo>
                    <a:pt x="431" y="1034"/>
                  </a:lnTo>
                  <a:lnTo>
                    <a:pt x="479" y="912"/>
                  </a:lnTo>
                  <a:lnTo>
                    <a:pt x="523" y="790"/>
                  </a:lnTo>
                  <a:lnTo>
                    <a:pt x="559" y="674"/>
                  </a:lnTo>
                  <a:lnTo>
                    <a:pt x="591" y="557"/>
                  </a:lnTo>
                  <a:lnTo>
                    <a:pt x="623" y="440"/>
                  </a:lnTo>
                  <a:lnTo>
                    <a:pt x="675" y="218"/>
                  </a:lnTo>
                  <a:lnTo>
                    <a:pt x="719" y="0"/>
                  </a:lnTo>
                </a:path>
              </a:pathLst>
            </a:custGeom>
            <a:noFill/>
            <a:ln cap="rnd" w="507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Rectangle 14"/>
            <p:cNvSpPr/>
            <p:nvPr/>
          </p:nvSpPr>
          <p:spPr>
            <a:xfrm>
              <a:off x="3652920" y="1671480"/>
              <a:ext cx="7524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CM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15"/>
            <p:cNvSpPr/>
            <p:nvPr/>
          </p:nvSpPr>
          <p:spPr>
            <a:xfrm>
              <a:off x="3639960" y="2136600"/>
              <a:ext cx="1146240" cy="3124440"/>
            </a:xfrm>
            <a:custGeom>
              <a:avLst/>
              <a:gdLst>
                <a:gd name="textAreaLeft" fmla="*/ 0 w 1146240"/>
                <a:gd name="textAreaRight" fmla="*/ 1146600 w 1146240"/>
                <a:gd name="textAreaTop" fmla="*/ 0 h 3124440"/>
                <a:gd name="textAreaBottom" fmla="*/ 3124800 h 3124440"/>
              </a:gdLst>
              <a:ahLst/>
              <a:rect l="textAreaLeft" t="textAreaTop" r="textAreaRight" b="textAreaBottom"/>
              <a:pathLst>
                <a:path w="722" h="1968">
                  <a:moveTo>
                    <a:pt x="0" y="1967"/>
                  </a:moveTo>
                  <a:lnTo>
                    <a:pt x="135" y="1691"/>
                  </a:lnTo>
                  <a:lnTo>
                    <a:pt x="261" y="1426"/>
                  </a:lnTo>
                  <a:lnTo>
                    <a:pt x="377" y="1161"/>
                  </a:lnTo>
                  <a:lnTo>
                    <a:pt x="431" y="1034"/>
                  </a:lnTo>
                  <a:lnTo>
                    <a:pt x="479" y="912"/>
                  </a:lnTo>
                  <a:lnTo>
                    <a:pt x="523" y="790"/>
                  </a:lnTo>
                  <a:lnTo>
                    <a:pt x="561" y="674"/>
                  </a:lnTo>
                  <a:lnTo>
                    <a:pt x="624" y="440"/>
                  </a:lnTo>
                  <a:lnTo>
                    <a:pt x="673" y="218"/>
                  </a:lnTo>
                  <a:lnTo>
                    <a:pt x="721" y="0"/>
                  </a:lnTo>
                </a:path>
              </a:pathLst>
            </a:custGeom>
            <a:noFill/>
            <a:ln cap="rnd" w="507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Rectangle 16"/>
            <p:cNvSpPr/>
            <p:nvPr/>
          </p:nvSpPr>
          <p:spPr>
            <a:xfrm>
              <a:off x="4414680" y="1671480"/>
              <a:ext cx="7527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CM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Group 36"/>
          <p:cNvGrpSpPr/>
          <p:nvPr/>
        </p:nvGrpSpPr>
        <p:grpSpPr>
          <a:xfrm>
            <a:off x="1506240" y="2128680"/>
            <a:ext cx="5737680" cy="4199760"/>
            <a:chOff x="1506240" y="2128680"/>
            <a:chExt cx="5737680" cy="4199760"/>
          </a:xfrm>
        </p:grpSpPr>
        <p:sp>
          <p:nvSpPr>
            <p:cNvPr id="1256" name="Line 19"/>
            <p:cNvSpPr/>
            <p:nvPr/>
          </p:nvSpPr>
          <p:spPr>
            <a:xfrm flipH="1">
              <a:off x="2198520" y="4572000"/>
              <a:ext cx="25387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17"/>
            <p:cNvSpPr/>
            <p:nvPr/>
          </p:nvSpPr>
          <p:spPr>
            <a:xfrm>
              <a:off x="4111560" y="2664000"/>
              <a:ext cx="2444760" cy="2368440"/>
            </a:xfrm>
            <a:custGeom>
              <a:avLst/>
              <a:gdLst>
                <a:gd name="textAreaLeft" fmla="*/ 0 w 2444760"/>
                <a:gd name="textAreaRight" fmla="*/ 2445120 w 2444760"/>
                <a:gd name="textAreaTop" fmla="*/ 0 h 2368440"/>
                <a:gd name="textAreaBottom" fmla="*/ 2368440 h 2368440"/>
              </a:gdLst>
              <a:ahLst/>
              <a:rect l="textAreaLeft" t="textAreaTop" r="textAreaRight" b="textAreaBottom"/>
              <a:pathLst>
                <a:path w="1540" h="1492">
                  <a:moveTo>
                    <a:pt x="0" y="1491"/>
                  </a:moveTo>
                  <a:lnTo>
                    <a:pt x="284" y="1283"/>
                  </a:lnTo>
                  <a:lnTo>
                    <a:pt x="561" y="1080"/>
                  </a:lnTo>
                  <a:lnTo>
                    <a:pt x="693" y="979"/>
                  </a:lnTo>
                  <a:lnTo>
                    <a:pt x="812" y="883"/>
                  </a:lnTo>
                  <a:lnTo>
                    <a:pt x="925" y="786"/>
                  </a:lnTo>
                  <a:lnTo>
                    <a:pt x="1024" y="690"/>
                  </a:lnTo>
                  <a:lnTo>
                    <a:pt x="1116" y="599"/>
                  </a:lnTo>
                  <a:lnTo>
                    <a:pt x="1195" y="512"/>
                  </a:lnTo>
                  <a:lnTo>
                    <a:pt x="1268" y="426"/>
                  </a:lnTo>
                  <a:lnTo>
                    <a:pt x="1328" y="340"/>
                  </a:lnTo>
                  <a:lnTo>
                    <a:pt x="1440" y="168"/>
                  </a:lnTo>
                  <a:lnTo>
                    <a:pt x="1539" y="0"/>
                  </a:lnTo>
                </a:path>
              </a:pathLst>
            </a:custGeom>
            <a:noFill/>
            <a:ln cap="rnd" w="50760">
              <a:solidFill>
                <a:srgbClr val="cc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Rectangle 18"/>
            <p:cNvSpPr/>
            <p:nvPr/>
          </p:nvSpPr>
          <p:spPr>
            <a:xfrm>
              <a:off x="6243480" y="2128680"/>
              <a:ext cx="10004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CM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Oval 20"/>
            <p:cNvSpPr/>
            <p:nvPr/>
          </p:nvSpPr>
          <p:spPr>
            <a:xfrm>
              <a:off x="4665600" y="4495680"/>
              <a:ext cx="15264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Oval 21"/>
            <p:cNvSpPr/>
            <p:nvPr/>
          </p:nvSpPr>
          <p:spPr>
            <a:xfrm>
              <a:off x="3886200" y="44956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Oval 22"/>
            <p:cNvSpPr/>
            <p:nvPr/>
          </p:nvSpPr>
          <p:spPr>
            <a:xfrm>
              <a:off x="3054240" y="4495680"/>
              <a:ext cx="15264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Rectangle 23"/>
            <p:cNvSpPr/>
            <p:nvPr/>
          </p:nvSpPr>
          <p:spPr>
            <a:xfrm>
              <a:off x="1506240" y="4414680"/>
              <a:ext cx="52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M*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Line 24"/>
            <p:cNvSpPr/>
            <p:nvPr/>
          </p:nvSpPr>
          <p:spPr>
            <a:xfrm>
              <a:off x="3130560" y="4586400"/>
              <a:ext cx="0" cy="14205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Line 25"/>
            <p:cNvSpPr/>
            <p:nvPr/>
          </p:nvSpPr>
          <p:spPr>
            <a:xfrm>
              <a:off x="3962520" y="4691160"/>
              <a:ext cx="0" cy="13158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Line 26"/>
            <p:cNvSpPr/>
            <p:nvPr/>
          </p:nvSpPr>
          <p:spPr>
            <a:xfrm>
              <a:off x="4741920" y="3290760"/>
              <a:ext cx="0" cy="27162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Rectangle 27"/>
            <p:cNvSpPr/>
            <p:nvPr/>
          </p:nvSpPr>
          <p:spPr>
            <a:xfrm>
              <a:off x="2956320" y="5927760"/>
              <a:ext cx="432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Rectangle 28"/>
            <p:cNvSpPr/>
            <p:nvPr/>
          </p:nvSpPr>
          <p:spPr>
            <a:xfrm>
              <a:off x="3733920" y="5927760"/>
              <a:ext cx="432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Rectangle 29"/>
            <p:cNvSpPr/>
            <p:nvPr/>
          </p:nvSpPr>
          <p:spPr>
            <a:xfrm>
              <a:off x="4496040" y="5927760"/>
              <a:ext cx="432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Oval 30"/>
            <p:cNvSpPr/>
            <p:nvPr/>
          </p:nvSpPr>
          <p:spPr>
            <a:xfrm>
              <a:off x="4648320" y="32004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Line 31"/>
            <p:cNvSpPr/>
            <p:nvPr/>
          </p:nvSpPr>
          <p:spPr>
            <a:xfrm flipH="1">
              <a:off x="2198520" y="3276720"/>
              <a:ext cx="25387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Rectangle 32"/>
            <p:cNvSpPr/>
            <p:nvPr/>
          </p:nvSpPr>
          <p:spPr>
            <a:xfrm>
              <a:off x="1735200" y="3043080"/>
              <a:ext cx="422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*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Line 5"/>
          <p:cNvSpPr/>
          <p:nvPr/>
        </p:nvSpPr>
        <p:spPr>
          <a:xfrm>
            <a:off x="762120" y="2071800"/>
            <a:ext cx="0" cy="3935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6"/>
          <p:cNvSpPr/>
          <p:nvPr/>
        </p:nvSpPr>
        <p:spPr>
          <a:xfrm>
            <a:off x="5029200" y="2071800"/>
            <a:ext cx="0" cy="3935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7"/>
          <p:cNvSpPr/>
          <p:nvPr/>
        </p:nvSpPr>
        <p:spPr>
          <a:xfrm>
            <a:off x="776160" y="6019920"/>
            <a:ext cx="3935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8"/>
          <p:cNvSpPr/>
          <p:nvPr/>
        </p:nvSpPr>
        <p:spPr>
          <a:xfrm>
            <a:off x="5043600" y="6037200"/>
            <a:ext cx="3935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9"/>
          <p:cNvSpPr/>
          <p:nvPr/>
        </p:nvSpPr>
        <p:spPr>
          <a:xfrm>
            <a:off x="4414320" y="5962680"/>
            <a:ext cx="359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12"/>
          <p:cNvSpPr/>
          <p:nvPr/>
        </p:nvSpPr>
        <p:spPr>
          <a:xfrm>
            <a:off x="8733960" y="5997600"/>
            <a:ext cx="359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14"/>
          <p:cNvSpPr/>
          <p:nvPr/>
        </p:nvSpPr>
        <p:spPr>
          <a:xfrm>
            <a:off x="452520" y="1903320"/>
            <a:ext cx="350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15"/>
          <p:cNvSpPr/>
          <p:nvPr/>
        </p:nvSpPr>
        <p:spPr>
          <a:xfrm>
            <a:off x="4643280" y="1903320"/>
            <a:ext cx="350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16"/>
          <p:cNvSpPr/>
          <p:nvPr/>
        </p:nvSpPr>
        <p:spPr>
          <a:xfrm>
            <a:off x="2127600" y="1900080"/>
            <a:ext cx="1228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Mercad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17"/>
          <p:cNvSpPr/>
          <p:nvPr/>
        </p:nvSpPr>
        <p:spPr>
          <a:xfrm>
            <a:off x="5709240" y="1900080"/>
            <a:ext cx="1256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Empres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Group 37"/>
          <p:cNvGrpSpPr/>
          <p:nvPr/>
        </p:nvGrpSpPr>
        <p:grpSpPr>
          <a:xfrm>
            <a:off x="1039680" y="2246400"/>
            <a:ext cx="2973600" cy="3290760"/>
            <a:chOff x="1039680" y="2246400"/>
            <a:chExt cx="2973600" cy="3290760"/>
          </a:xfrm>
        </p:grpSpPr>
        <p:sp>
          <p:nvSpPr>
            <p:cNvPr id="593" name="Line 18"/>
            <p:cNvSpPr/>
            <p:nvPr/>
          </p:nvSpPr>
          <p:spPr>
            <a:xfrm>
              <a:off x="1170000" y="2693880"/>
              <a:ext cx="2843280" cy="284328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Line 19"/>
            <p:cNvSpPr/>
            <p:nvPr/>
          </p:nvSpPr>
          <p:spPr>
            <a:xfrm flipV="1">
              <a:off x="1170000" y="2642760"/>
              <a:ext cx="2690640" cy="2792520"/>
            </a:xfrm>
            <a:prstGeom prst="line">
              <a:avLst/>
            </a:prstGeom>
            <a:ln w="507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Rectangle 20"/>
            <p:cNvSpPr/>
            <p:nvPr/>
          </p:nvSpPr>
          <p:spPr>
            <a:xfrm>
              <a:off x="1039680" y="224640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Rectangle 21"/>
            <p:cNvSpPr/>
            <p:nvPr/>
          </p:nvSpPr>
          <p:spPr>
            <a:xfrm>
              <a:off x="3652920" y="2246400"/>
              <a:ext cx="350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Group 40"/>
          <p:cNvGrpSpPr/>
          <p:nvPr/>
        </p:nvGrpSpPr>
        <p:grpSpPr>
          <a:xfrm>
            <a:off x="380880" y="3805200"/>
            <a:ext cx="8509680" cy="2529720"/>
            <a:chOff x="380880" y="3805200"/>
            <a:chExt cx="8509680" cy="2529720"/>
          </a:xfrm>
        </p:grpSpPr>
        <p:sp>
          <p:nvSpPr>
            <p:cNvPr id="598" name="Rectangle 10"/>
            <p:cNvSpPr/>
            <p:nvPr/>
          </p:nvSpPr>
          <p:spPr>
            <a:xfrm>
              <a:off x="2363760" y="5934240"/>
              <a:ext cx="6192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Rectangle 11"/>
            <p:cNvSpPr/>
            <p:nvPr/>
          </p:nvSpPr>
          <p:spPr>
            <a:xfrm>
              <a:off x="380880" y="3805200"/>
              <a:ext cx="43308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Line 22"/>
            <p:cNvSpPr/>
            <p:nvPr/>
          </p:nvSpPr>
          <p:spPr>
            <a:xfrm flipH="1">
              <a:off x="750600" y="4038480"/>
              <a:ext cx="38336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Line 23"/>
            <p:cNvSpPr/>
            <p:nvPr/>
          </p:nvSpPr>
          <p:spPr>
            <a:xfrm>
              <a:off x="2514600" y="4129200"/>
              <a:ext cx="0" cy="18777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Oval 24"/>
            <p:cNvSpPr/>
            <p:nvPr/>
          </p:nvSpPr>
          <p:spPr>
            <a:xfrm>
              <a:off x="2438280" y="396252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Rectangle 25"/>
            <p:cNvSpPr/>
            <p:nvPr/>
          </p:nvSpPr>
          <p:spPr>
            <a:xfrm>
              <a:off x="4648320" y="3805200"/>
              <a:ext cx="43308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Line 26"/>
            <p:cNvSpPr/>
            <p:nvPr/>
          </p:nvSpPr>
          <p:spPr>
            <a:xfrm>
              <a:off x="5056200" y="4038480"/>
              <a:ext cx="3452760" cy="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Rectangle 27"/>
            <p:cNvSpPr/>
            <p:nvPr/>
          </p:nvSpPr>
          <p:spPr>
            <a:xfrm>
              <a:off x="7613280" y="4110120"/>
              <a:ext cx="1277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 = IM = P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Group 39"/>
          <p:cNvGrpSpPr/>
          <p:nvPr/>
        </p:nvGrpSpPr>
        <p:grpSpPr>
          <a:xfrm>
            <a:off x="5091120" y="2475000"/>
            <a:ext cx="3763440" cy="3818520"/>
            <a:chOff x="5091120" y="2475000"/>
            <a:chExt cx="3763440" cy="3818520"/>
          </a:xfrm>
        </p:grpSpPr>
        <p:sp>
          <p:nvSpPr>
            <p:cNvPr id="607" name="Rectangle 13"/>
            <p:cNvSpPr/>
            <p:nvPr/>
          </p:nvSpPr>
          <p:spPr>
            <a:xfrm>
              <a:off x="6629760" y="5892840"/>
              <a:ext cx="3945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28"/>
            <p:cNvSpPr/>
            <p:nvPr/>
          </p:nvSpPr>
          <p:spPr>
            <a:xfrm>
              <a:off x="5091120" y="2898720"/>
              <a:ext cx="3217680" cy="1143000"/>
            </a:xfrm>
            <a:custGeom>
              <a:avLst/>
              <a:gdLst>
                <a:gd name="textAreaLeft" fmla="*/ 0 w 3217680"/>
                <a:gd name="textAreaRight" fmla="*/ 3218040 w 3217680"/>
                <a:gd name="textAreaTop" fmla="*/ 0 h 1143000"/>
                <a:gd name="textAreaBottom" fmla="*/ 1143360 h 1143000"/>
              </a:gdLst>
              <a:ahLst/>
              <a:rect l="textAreaLeft" t="textAreaTop" r="textAreaRight" b="textAreaBottom"/>
              <a:pathLst>
                <a:path w="2027" h="720">
                  <a:moveTo>
                    <a:pt x="8" y="0"/>
                  </a:moveTo>
                  <a:lnTo>
                    <a:pt x="0" y="4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17" y="41"/>
                  </a:lnTo>
                  <a:lnTo>
                    <a:pt x="33" y="65"/>
                  </a:lnTo>
                  <a:lnTo>
                    <a:pt x="58" y="94"/>
                  </a:lnTo>
                  <a:lnTo>
                    <a:pt x="92" y="135"/>
                  </a:lnTo>
                  <a:lnTo>
                    <a:pt x="134" y="184"/>
                  </a:lnTo>
                  <a:lnTo>
                    <a:pt x="184" y="241"/>
                  </a:lnTo>
                  <a:lnTo>
                    <a:pt x="234" y="306"/>
                  </a:lnTo>
                  <a:lnTo>
                    <a:pt x="293" y="368"/>
                  </a:lnTo>
                  <a:lnTo>
                    <a:pt x="360" y="429"/>
                  </a:lnTo>
                  <a:lnTo>
                    <a:pt x="418" y="482"/>
                  </a:lnTo>
                  <a:lnTo>
                    <a:pt x="485" y="527"/>
                  </a:lnTo>
                  <a:lnTo>
                    <a:pt x="619" y="600"/>
                  </a:lnTo>
                  <a:lnTo>
                    <a:pt x="695" y="629"/>
                  </a:lnTo>
                  <a:lnTo>
                    <a:pt x="770" y="658"/>
                  </a:lnTo>
                  <a:lnTo>
                    <a:pt x="845" y="682"/>
                  </a:lnTo>
                  <a:lnTo>
                    <a:pt x="921" y="698"/>
                  </a:lnTo>
                  <a:lnTo>
                    <a:pt x="996" y="711"/>
                  </a:lnTo>
                  <a:lnTo>
                    <a:pt x="1063" y="719"/>
                  </a:lnTo>
                  <a:lnTo>
                    <a:pt x="1130" y="719"/>
                  </a:lnTo>
                  <a:lnTo>
                    <a:pt x="1189" y="715"/>
                  </a:lnTo>
                  <a:lnTo>
                    <a:pt x="1247" y="707"/>
                  </a:lnTo>
                  <a:lnTo>
                    <a:pt x="1306" y="694"/>
                  </a:lnTo>
                  <a:lnTo>
                    <a:pt x="1365" y="674"/>
                  </a:lnTo>
                  <a:lnTo>
                    <a:pt x="1423" y="649"/>
                  </a:lnTo>
                  <a:lnTo>
                    <a:pt x="1490" y="617"/>
                  </a:lnTo>
                  <a:lnTo>
                    <a:pt x="1549" y="576"/>
                  </a:lnTo>
                  <a:lnTo>
                    <a:pt x="1607" y="527"/>
                  </a:lnTo>
                  <a:lnTo>
                    <a:pt x="1666" y="466"/>
                  </a:lnTo>
                  <a:lnTo>
                    <a:pt x="1725" y="400"/>
                  </a:lnTo>
                  <a:lnTo>
                    <a:pt x="1792" y="327"/>
                  </a:lnTo>
                  <a:lnTo>
                    <a:pt x="1850" y="249"/>
                  </a:lnTo>
                  <a:lnTo>
                    <a:pt x="1909" y="167"/>
                  </a:lnTo>
                  <a:lnTo>
                    <a:pt x="2026" y="0"/>
                  </a:lnTo>
                </a:path>
              </a:pathLst>
            </a:custGeom>
            <a:noFill/>
            <a:ln cap="rnd" w="5076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Rectangle 29"/>
            <p:cNvSpPr/>
            <p:nvPr/>
          </p:nvSpPr>
          <p:spPr>
            <a:xfrm>
              <a:off x="7979760" y="2475000"/>
              <a:ext cx="874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MeL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30"/>
            <p:cNvSpPr/>
            <p:nvPr/>
          </p:nvSpPr>
          <p:spPr>
            <a:xfrm>
              <a:off x="5559480" y="3052800"/>
              <a:ext cx="1606320" cy="2287440"/>
            </a:xfrm>
            <a:custGeom>
              <a:avLst/>
              <a:gdLst>
                <a:gd name="textAreaLeft" fmla="*/ 0 w 1606320"/>
                <a:gd name="textAreaRight" fmla="*/ 1606680 w 1606320"/>
                <a:gd name="textAreaTop" fmla="*/ 0 h 2287440"/>
                <a:gd name="textAreaBottom" fmla="*/ 2287800 h 2287440"/>
              </a:gdLst>
              <a:ahLst/>
              <a:rect l="textAreaLeft" t="textAreaTop" r="textAreaRight" b="textAreaBottom"/>
              <a:pathLst>
                <a:path w="1012" h="1441">
                  <a:moveTo>
                    <a:pt x="0" y="1197"/>
                  </a:moveTo>
                  <a:lnTo>
                    <a:pt x="58" y="1294"/>
                  </a:lnTo>
                  <a:lnTo>
                    <a:pt x="80" y="1337"/>
                  </a:lnTo>
                  <a:lnTo>
                    <a:pt x="116" y="1375"/>
                  </a:lnTo>
                  <a:lnTo>
                    <a:pt x="145" y="1408"/>
                  </a:lnTo>
                  <a:lnTo>
                    <a:pt x="173" y="1430"/>
                  </a:lnTo>
                  <a:lnTo>
                    <a:pt x="209" y="1440"/>
                  </a:lnTo>
                  <a:lnTo>
                    <a:pt x="246" y="1435"/>
                  </a:lnTo>
                  <a:lnTo>
                    <a:pt x="282" y="1424"/>
                  </a:lnTo>
                  <a:lnTo>
                    <a:pt x="318" y="1402"/>
                  </a:lnTo>
                  <a:lnTo>
                    <a:pt x="361" y="1370"/>
                  </a:lnTo>
                  <a:lnTo>
                    <a:pt x="397" y="1327"/>
                  </a:lnTo>
                  <a:lnTo>
                    <a:pt x="441" y="1272"/>
                  </a:lnTo>
                  <a:lnTo>
                    <a:pt x="484" y="1213"/>
                  </a:lnTo>
                  <a:lnTo>
                    <a:pt x="527" y="1137"/>
                  </a:lnTo>
                  <a:lnTo>
                    <a:pt x="578" y="1050"/>
                  </a:lnTo>
                  <a:lnTo>
                    <a:pt x="628" y="953"/>
                  </a:lnTo>
                  <a:lnTo>
                    <a:pt x="679" y="845"/>
                  </a:lnTo>
                  <a:lnTo>
                    <a:pt x="729" y="720"/>
                  </a:lnTo>
                  <a:lnTo>
                    <a:pt x="787" y="590"/>
                  </a:lnTo>
                  <a:lnTo>
                    <a:pt x="845" y="449"/>
                  </a:lnTo>
                  <a:lnTo>
                    <a:pt x="895" y="303"/>
                  </a:lnTo>
                  <a:lnTo>
                    <a:pt x="1011" y="0"/>
                  </a:lnTo>
                </a:path>
              </a:pathLst>
            </a:custGeom>
            <a:noFill/>
            <a:ln cap="rnd" w="507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Rectangle 31"/>
            <p:cNvSpPr/>
            <p:nvPr/>
          </p:nvSpPr>
          <p:spPr>
            <a:xfrm>
              <a:off x="6624360" y="2475000"/>
              <a:ext cx="732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ML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Line 32"/>
            <p:cNvSpPr/>
            <p:nvPr/>
          </p:nvSpPr>
          <p:spPr>
            <a:xfrm>
              <a:off x="6781680" y="4129200"/>
              <a:ext cx="0" cy="18237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3" name="Line 33"/>
          <p:cNvSpPr/>
          <p:nvPr/>
        </p:nvSpPr>
        <p:spPr>
          <a:xfrm>
            <a:off x="349200" y="1047600"/>
            <a:ext cx="8358120" cy="0"/>
          </a:xfrm>
          <a:prstGeom prst="line">
            <a:avLst/>
          </a:prstGeom>
          <a:ln w="38160">
            <a:solidFill>
              <a:srgbClr val="3765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34"/>
          <p:cNvSpPr/>
          <p:nvPr/>
        </p:nvSpPr>
        <p:spPr>
          <a:xfrm>
            <a:off x="519120" y="1206360"/>
            <a:ext cx="8356680" cy="0"/>
          </a:xfrm>
          <a:prstGeom prst="line">
            <a:avLst/>
          </a:prstGeom>
          <a:ln w="38160">
            <a:solidFill>
              <a:srgbClr val="3765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50440" y="190440"/>
            <a:ext cx="807876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7f7f"/>
                </a:solidFill>
                <a:latin typeface="Arial"/>
              </a:rPr>
              <a:t>Mercado perfectamente competitivo</a:t>
            </a:r>
            <a:endParaRPr b="1" lang="en-US" sz="36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4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2 – El mon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/>
          </p:nvPr>
        </p:nvSpPr>
        <p:spPr>
          <a:xfrm>
            <a:off x="0" y="1549440"/>
            <a:ext cx="4495680" cy="530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Observaciones: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1)</a:t>
            </a: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C</a:t>
            </a:r>
            <a:r>
              <a:rPr b="0" i="1" lang="en-US" sz="2400" spc="-1" strike="noStrike">
                <a:solidFill>
                  <a:srgbClr val="262626"/>
                </a:solidFill>
                <a:latin typeface="Arial"/>
              </a:rPr>
              <a:t>M</a:t>
            </a:r>
            <a:r>
              <a:rPr b="0" i="1" lang="en-US" sz="2400" spc="-1" strike="noStrike" baseline="-25000">
                <a:solidFill>
                  <a:srgbClr val="262626"/>
                </a:solidFill>
                <a:latin typeface="Arial"/>
              </a:rPr>
              <a:t>T</a:t>
            </a:r>
            <a:r>
              <a:rPr b="0" i="1" lang="en-US" sz="2400" spc="-1" strike="noStrike">
                <a:solidFill>
                  <a:srgbClr val="262626"/>
                </a:solidFill>
                <a:latin typeface="Arial"/>
              </a:rPr>
              <a:t> = CM</a:t>
            </a:r>
            <a:r>
              <a:rPr b="0" i="1" lang="en-US" sz="2400" spc="-1" strike="noStrike" baseline="-25000">
                <a:solidFill>
                  <a:srgbClr val="262626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262626"/>
                </a:solidFill>
                <a:latin typeface="Arial"/>
              </a:rPr>
              <a:t> + CM</a:t>
            </a:r>
            <a:r>
              <a:rPr b="0" i="1" lang="en-US" sz="2400" spc="-1" strike="noStrike" baseline="-25000">
                <a:solidFill>
                  <a:srgbClr val="26262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2)</a:t>
            </a: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Niveles de producción que maximizan los beneficios: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2" marL="1162080" indent="-228600">
              <a:lnSpc>
                <a:spcPct val="90000"/>
              </a:lnSpc>
              <a:spcBef>
                <a:spcPts val="850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CM</a:t>
            </a:r>
            <a:r>
              <a:rPr b="0" lang="en-US" sz="2000" spc="-1" strike="noStrike" baseline="-25000">
                <a:solidFill>
                  <a:srgbClr val="262626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 = IM para Q</a:t>
            </a:r>
            <a:r>
              <a:rPr b="0" lang="en-US" sz="2000" spc="-1" strike="noStrike" baseline="-25000">
                <a:solidFill>
                  <a:srgbClr val="262626"/>
                </a:solidFill>
                <a:latin typeface="Arial"/>
              </a:rPr>
              <a:t>T 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y P </a:t>
            </a:r>
            <a:r>
              <a:rPr b="0" lang="en-US" sz="2000" spc="-1" strike="noStrike" baseline="30000">
                <a:solidFill>
                  <a:srgbClr val="262626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1162080" indent="-228600">
              <a:lnSpc>
                <a:spcPct val="90000"/>
              </a:lnSpc>
              <a:spcBef>
                <a:spcPts val="850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IM = IM*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1162080" indent="-228600">
              <a:lnSpc>
                <a:spcPct val="90000"/>
              </a:lnSpc>
              <a:spcBef>
                <a:spcPts val="850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IM* = CM</a:t>
            </a:r>
            <a:r>
              <a:rPr b="0" lang="en-US" sz="2000" spc="-1" strike="noStrike" baseline="-25000">
                <a:solidFill>
                  <a:srgbClr val="262626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 para Q</a:t>
            </a:r>
            <a:r>
              <a:rPr b="0" lang="en-US" sz="2000" spc="-1" strike="noStrike" baseline="-25000">
                <a:solidFill>
                  <a:srgbClr val="262626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, CM* = CM</a:t>
            </a:r>
            <a:r>
              <a:rPr b="0" lang="en-US" sz="2000" spc="-1" strike="noStrike" baseline="-25000">
                <a:solidFill>
                  <a:srgbClr val="262626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 para Q</a:t>
            </a:r>
            <a:r>
              <a:rPr b="0" lang="en-US" sz="2000" spc="-1" strike="noStrike" baseline="-25000">
                <a:solidFill>
                  <a:srgbClr val="262626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1162080" indent="-228600">
              <a:lnSpc>
                <a:spcPct val="90000"/>
              </a:lnSpc>
              <a:spcBef>
                <a:spcPts val="850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CM</a:t>
            </a:r>
            <a:r>
              <a:rPr b="0" lang="en-US" sz="2000" spc="-1" strike="noStrike" baseline="-25000">
                <a:solidFill>
                  <a:srgbClr val="262626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 + CM</a:t>
            </a:r>
            <a:r>
              <a:rPr b="0" lang="en-US" sz="2000" spc="-1" strike="noStrike" baseline="-25000">
                <a:solidFill>
                  <a:srgbClr val="262626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 = CM</a:t>
            </a:r>
            <a:r>
              <a:rPr b="0" lang="en-US" sz="2000" spc="-1" strike="noStrike" baseline="-25000">
                <a:solidFill>
                  <a:srgbClr val="262626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, Q</a:t>
            </a:r>
            <a:r>
              <a:rPr b="0" lang="en-US" sz="2000" spc="-1" strike="noStrike" baseline="-25000">
                <a:solidFill>
                  <a:srgbClr val="262626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 + Q</a:t>
            </a:r>
            <a:r>
              <a:rPr b="0" lang="en-US" sz="2000" spc="-1" strike="noStrike" baseline="-25000">
                <a:solidFill>
                  <a:srgbClr val="262626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 = Q</a:t>
            </a:r>
            <a:r>
              <a:rPr b="0" lang="en-US" sz="2000" spc="-1" strike="noStrike" baseline="-25000">
                <a:solidFill>
                  <a:srgbClr val="262626"/>
                </a:solidFill>
                <a:latin typeface="Arial"/>
              </a:rPr>
              <a:t>T,  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1162080"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e IM = CM</a:t>
            </a:r>
            <a:r>
              <a:rPr b="0" lang="en-US" sz="2000" spc="-1" strike="noStrike" baseline="-25000">
                <a:solidFill>
                  <a:srgbClr val="262626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 + CM</a:t>
            </a:r>
            <a:r>
              <a:rPr b="0" lang="en-US" sz="2000" spc="-1" strike="noStrike" baseline="-25000">
                <a:solidFill>
                  <a:srgbClr val="262626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4" name="Rectangle 5"/>
          <p:cNvSpPr/>
          <p:nvPr/>
        </p:nvSpPr>
        <p:spPr>
          <a:xfrm>
            <a:off x="5916600" y="5857920"/>
            <a:ext cx="22114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Line 6"/>
          <p:cNvSpPr/>
          <p:nvPr/>
        </p:nvSpPr>
        <p:spPr>
          <a:xfrm>
            <a:off x="5218200" y="2425680"/>
            <a:ext cx="0" cy="3252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Line 7"/>
          <p:cNvSpPr/>
          <p:nvPr/>
        </p:nvSpPr>
        <p:spPr>
          <a:xfrm>
            <a:off x="5208480" y="5683320"/>
            <a:ext cx="3260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Rectangle 8"/>
          <p:cNvSpPr/>
          <p:nvPr/>
        </p:nvSpPr>
        <p:spPr>
          <a:xfrm>
            <a:off x="7886520" y="5964120"/>
            <a:ext cx="941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ntida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Rectangle 9"/>
          <p:cNvSpPr/>
          <p:nvPr/>
        </p:nvSpPr>
        <p:spPr>
          <a:xfrm>
            <a:off x="4611960" y="2309760"/>
            <a:ext cx="469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/Q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Line 10"/>
          <p:cNvSpPr/>
          <p:nvPr/>
        </p:nvSpPr>
        <p:spPr>
          <a:xfrm>
            <a:off x="5361120" y="2692440"/>
            <a:ext cx="3440160" cy="1693800"/>
          </a:xfrm>
          <a:prstGeom prst="line">
            <a:avLst/>
          </a:prstGeom>
          <a:ln w="507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Rectangle 11"/>
          <p:cNvSpPr/>
          <p:nvPr/>
        </p:nvSpPr>
        <p:spPr>
          <a:xfrm>
            <a:off x="8324280" y="4503600"/>
            <a:ext cx="897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 = IM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Line 12"/>
          <p:cNvSpPr/>
          <p:nvPr/>
        </p:nvSpPr>
        <p:spPr>
          <a:xfrm>
            <a:off x="5361120" y="2867040"/>
            <a:ext cx="2392200" cy="2276640"/>
          </a:xfrm>
          <a:prstGeom prst="line">
            <a:avLst/>
          </a:prstGeom>
          <a:ln w="507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Rectangle 13"/>
          <p:cNvSpPr/>
          <p:nvPr/>
        </p:nvSpPr>
        <p:spPr>
          <a:xfrm>
            <a:off x="7831080" y="5261040"/>
            <a:ext cx="522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Freeform 14"/>
          <p:cNvSpPr/>
          <p:nvPr/>
        </p:nvSpPr>
        <p:spPr>
          <a:xfrm>
            <a:off x="5686560" y="2725560"/>
            <a:ext cx="873000" cy="2387880"/>
          </a:xfrm>
          <a:custGeom>
            <a:avLst/>
            <a:gdLst>
              <a:gd name="textAreaLeft" fmla="*/ 0 w 873000"/>
              <a:gd name="textAreaRight" fmla="*/ 873360 w 873000"/>
              <a:gd name="textAreaTop" fmla="*/ 0 h 2387880"/>
              <a:gd name="textAreaBottom" fmla="*/ 2388240 h 2387880"/>
            </a:gdLst>
            <a:ahLst/>
            <a:rect l="textAreaLeft" t="textAreaTop" r="textAreaRight" b="textAreaBottom"/>
            <a:pathLst>
              <a:path w="550" h="1504">
                <a:moveTo>
                  <a:pt x="0" y="1503"/>
                </a:moveTo>
                <a:lnTo>
                  <a:pt x="100" y="1292"/>
                </a:lnTo>
                <a:lnTo>
                  <a:pt x="199" y="1086"/>
                </a:lnTo>
                <a:lnTo>
                  <a:pt x="285" y="886"/>
                </a:lnTo>
                <a:lnTo>
                  <a:pt x="364" y="696"/>
                </a:lnTo>
                <a:lnTo>
                  <a:pt x="423" y="511"/>
                </a:lnTo>
                <a:lnTo>
                  <a:pt x="476" y="337"/>
                </a:lnTo>
                <a:lnTo>
                  <a:pt x="516" y="168"/>
                </a:lnTo>
                <a:lnTo>
                  <a:pt x="549" y="0"/>
                </a:lnTo>
              </a:path>
            </a:pathLst>
          </a:custGeom>
          <a:noFill/>
          <a:ln cap="rnd" w="507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Rectangle 15"/>
          <p:cNvSpPr/>
          <p:nvPr/>
        </p:nvSpPr>
        <p:spPr>
          <a:xfrm>
            <a:off x="6318360" y="2293920"/>
            <a:ext cx="5760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79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Freeform 16"/>
          <p:cNvSpPr/>
          <p:nvPr/>
        </p:nvSpPr>
        <p:spPr>
          <a:xfrm>
            <a:off x="6324480" y="2725560"/>
            <a:ext cx="876600" cy="2387880"/>
          </a:xfrm>
          <a:custGeom>
            <a:avLst/>
            <a:gdLst>
              <a:gd name="textAreaLeft" fmla="*/ 0 w 876600"/>
              <a:gd name="textAreaRight" fmla="*/ 876960 w 876600"/>
              <a:gd name="textAreaTop" fmla="*/ 0 h 2387880"/>
              <a:gd name="textAreaBottom" fmla="*/ 2388240 h 2387880"/>
            </a:gdLst>
            <a:ahLst/>
            <a:rect l="textAreaLeft" t="textAreaTop" r="textAreaRight" b="textAreaBottom"/>
            <a:pathLst>
              <a:path w="552" h="1504">
                <a:moveTo>
                  <a:pt x="0" y="1503"/>
                </a:moveTo>
                <a:lnTo>
                  <a:pt x="101" y="1292"/>
                </a:lnTo>
                <a:lnTo>
                  <a:pt x="203" y="1086"/>
                </a:lnTo>
                <a:lnTo>
                  <a:pt x="290" y="886"/>
                </a:lnTo>
                <a:lnTo>
                  <a:pt x="370" y="696"/>
                </a:lnTo>
                <a:lnTo>
                  <a:pt x="428" y="511"/>
                </a:lnTo>
                <a:lnTo>
                  <a:pt x="478" y="337"/>
                </a:lnTo>
                <a:lnTo>
                  <a:pt x="515" y="168"/>
                </a:lnTo>
                <a:lnTo>
                  <a:pt x="551" y="0"/>
                </a:lnTo>
              </a:path>
            </a:pathLst>
          </a:custGeom>
          <a:noFill/>
          <a:ln cap="rnd" w="507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Rectangle 17"/>
          <p:cNvSpPr/>
          <p:nvPr/>
        </p:nvSpPr>
        <p:spPr>
          <a:xfrm>
            <a:off x="6899400" y="2370240"/>
            <a:ext cx="57780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Freeform 18"/>
          <p:cNvSpPr/>
          <p:nvPr/>
        </p:nvSpPr>
        <p:spPr>
          <a:xfrm>
            <a:off x="6680160" y="3132000"/>
            <a:ext cx="1859040" cy="1806840"/>
          </a:xfrm>
          <a:custGeom>
            <a:avLst/>
            <a:gdLst>
              <a:gd name="textAreaLeft" fmla="*/ 0 w 1859040"/>
              <a:gd name="textAreaRight" fmla="*/ 1859400 w 1859040"/>
              <a:gd name="textAreaTop" fmla="*/ 0 h 1806840"/>
              <a:gd name="textAreaBottom" fmla="*/ 1807200 h 1806840"/>
            </a:gdLst>
            <a:ahLst/>
            <a:rect l="textAreaLeft" t="textAreaTop" r="textAreaRight" b="textAreaBottom"/>
            <a:pathLst>
              <a:path w="1171" h="1138">
                <a:moveTo>
                  <a:pt x="0" y="1137"/>
                </a:moveTo>
                <a:lnTo>
                  <a:pt x="215" y="979"/>
                </a:lnTo>
                <a:lnTo>
                  <a:pt x="430" y="826"/>
                </a:lnTo>
                <a:lnTo>
                  <a:pt x="611" y="673"/>
                </a:lnTo>
                <a:lnTo>
                  <a:pt x="697" y="596"/>
                </a:lnTo>
                <a:lnTo>
                  <a:pt x="774" y="525"/>
                </a:lnTo>
                <a:lnTo>
                  <a:pt x="843" y="454"/>
                </a:lnTo>
                <a:lnTo>
                  <a:pt x="903" y="387"/>
                </a:lnTo>
                <a:lnTo>
                  <a:pt x="1007" y="255"/>
                </a:lnTo>
                <a:lnTo>
                  <a:pt x="1093" y="127"/>
                </a:lnTo>
                <a:lnTo>
                  <a:pt x="1170" y="0"/>
                </a:lnTo>
              </a:path>
            </a:pathLst>
          </a:custGeom>
          <a:noFill/>
          <a:ln cap="rnd" w="507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Rectangle 19"/>
          <p:cNvSpPr/>
          <p:nvPr/>
        </p:nvSpPr>
        <p:spPr>
          <a:xfrm>
            <a:off x="8296200" y="2719440"/>
            <a:ext cx="76680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Line 20"/>
          <p:cNvSpPr/>
          <p:nvPr/>
        </p:nvSpPr>
        <p:spPr>
          <a:xfrm flipH="1">
            <a:off x="5207040" y="4586400"/>
            <a:ext cx="194472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Oval 21"/>
          <p:cNvSpPr/>
          <p:nvPr/>
        </p:nvSpPr>
        <p:spPr>
          <a:xfrm>
            <a:off x="7080120" y="4527720"/>
            <a:ext cx="117720" cy="1173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Oval 22"/>
          <p:cNvSpPr/>
          <p:nvPr/>
        </p:nvSpPr>
        <p:spPr>
          <a:xfrm>
            <a:off x="6499080" y="4527720"/>
            <a:ext cx="115920" cy="1173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Oval 23"/>
          <p:cNvSpPr/>
          <p:nvPr/>
        </p:nvSpPr>
        <p:spPr>
          <a:xfrm>
            <a:off x="5916600" y="4527720"/>
            <a:ext cx="115920" cy="1173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Rectangle 24"/>
          <p:cNvSpPr/>
          <p:nvPr/>
        </p:nvSpPr>
        <p:spPr>
          <a:xfrm>
            <a:off x="4572360" y="4562640"/>
            <a:ext cx="486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*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Line 25"/>
          <p:cNvSpPr/>
          <p:nvPr/>
        </p:nvSpPr>
        <p:spPr>
          <a:xfrm>
            <a:off x="5975280" y="4600440"/>
            <a:ext cx="0" cy="10796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Line 26"/>
          <p:cNvSpPr/>
          <p:nvPr/>
        </p:nvSpPr>
        <p:spPr>
          <a:xfrm>
            <a:off x="6556320" y="4600440"/>
            <a:ext cx="0" cy="10796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Line 27"/>
          <p:cNvSpPr/>
          <p:nvPr/>
        </p:nvSpPr>
        <p:spPr>
          <a:xfrm>
            <a:off x="7139160" y="3611520"/>
            <a:ext cx="0" cy="20685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Rectangle 28"/>
          <p:cNvSpPr/>
          <p:nvPr/>
        </p:nvSpPr>
        <p:spPr>
          <a:xfrm>
            <a:off x="5788440" y="5757840"/>
            <a:ext cx="4039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Rectangle 29"/>
          <p:cNvSpPr/>
          <p:nvPr/>
        </p:nvSpPr>
        <p:spPr>
          <a:xfrm>
            <a:off x="6382080" y="5757840"/>
            <a:ext cx="4039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Rectangle 30"/>
          <p:cNvSpPr/>
          <p:nvPr/>
        </p:nvSpPr>
        <p:spPr>
          <a:xfrm>
            <a:off x="6964920" y="5757840"/>
            <a:ext cx="4039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Oval 31"/>
          <p:cNvSpPr/>
          <p:nvPr/>
        </p:nvSpPr>
        <p:spPr>
          <a:xfrm>
            <a:off x="7080120" y="3538440"/>
            <a:ext cx="117720" cy="115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Line 32"/>
          <p:cNvSpPr/>
          <p:nvPr/>
        </p:nvSpPr>
        <p:spPr>
          <a:xfrm flipH="1">
            <a:off x="5207040" y="3597120"/>
            <a:ext cx="194472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Rectangle 33"/>
          <p:cNvSpPr/>
          <p:nvPr/>
        </p:nvSpPr>
        <p:spPr>
          <a:xfrm>
            <a:off x="4746240" y="3514680"/>
            <a:ext cx="396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*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 type="title"/>
          </p:nvPr>
        </p:nvSpPr>
        <p:spPr>
          <a:xfrm>
            <a:off x="550800" y="190440"/>
            <a:ext cx="85932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Arial"/>
              </a:rPr>
              <a:t>La producción con dos plantas</a:t>
            </a: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2 – El mon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El poder de monopolio</a:t>
            </a:r>
            <a:endParaRPr b="1" lang="en-US" sz="3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El monopolio puro es un caso raro.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in embargo, un mercado formado por varias empresas, en el que cada una se enfrente a una curva de demanda de pendiente negativa producirá hasta el punto en el que el precio sea superior al coste marginal.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2 – El mon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1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Caso práctico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62626"/>
                </a:solidFill>
                <a:latin typeface="Arial"/>
              </a:rPr>
              <a:t>Cuatro empresas producen un total de 20.000 cepillos de dientes diarios (5.000 al día cada una) a un precio de 1, 50 dólares cada uno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El poder de monopolio</a:t>
            </a:r>
            <a:endParaRPr b="1" lang="en-US" sz="34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Line 6"/>
          <p:cNvSpPr/>
          <p:nvPr/>
        </p:nvSpPr>
        <p:spPr>
          <a:xfrm>
            <a:off x="762120" y="1897200"/>
            <a:ext cx="0" cy="3935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Line 7"/>
          <p:cNvSpPr/>
          <p:nvPr/>
        </p:nvSpPr>
        <p:spPr>
          <a:xfrm>
            <a:off x="5029200" y="1897200"/>
            <a:ext cx="0" cy="3935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Line 8"/>
          <p:cNvSpPr/>
          <p:nvPr/>
        </p:nvSpPr>
        <p:spPr>
          <a:xfrm>
            <a:off x="776160" y="5845320"/>
            <a:ext cx="3935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Line 9"/>
          <p:cNvSpPr/>
          <p:nvPr/>
        </p:nvSpPr>
        <p:spPr>
          <a:xfrm>
            <a:off x="5043600" y="5845320"/>
            <a:ext cx="3935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Rectangle 10"/>
          <p:cNvSpPr/>
          <p:nvPr/>
        </p:nvSpPr>
        <p:spPr>
          <a:xfrm>
            <a:off x="3882600" y="5854680"/>
            <a:ext cx="1047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tida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Rectangle 11"/>
          <p:cNvSpPr/>
          <p:nvPr/>
        </p:nvSpPr>
        <p:spPr>
          <a:xfrm>
            <a:off x="681120" y="5954760"/>
            <a:ext cx="801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.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Rectangle 12"/>
          <p:cNvSpPr/>
          <p:nvPr/>
        </p:nvSpPr>
        <p:spPr>
          <a:xfrm>
            <a:off x="223920" y="1878120"/>
            <a:ext cx="62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,0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Rectangle 13"/>
          <p:cNvSpPr/>
          <p:nvPr/>
        </p:nvSpPr>
        <p:spPr>
          <a:xfrm>
            <a:off x="8593920" y="5840280"/>
            <a:ext cx="4860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Rectangle 14"/>
          <p:cNvSpPr/>
          <p:nvPr/>
        </p:nvSpPr>
        <p:spPr>
          <a:xfrm>
            <a:off x="-5400" y="1496880"/>
            <a:ext cx="569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Rectangle 15"/>
          <p:cNvSpPr/>
          <p:nvPr/>
        </p:nvSpPr>
        <p:spPr>
          <a:xfrm>
            <a:off x="4413960" y="1496880"/>
            <a:ext cx="569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Rectangle 16"/>
          <p:cNvSpPr/>
          <p:nvPr/>
        </p:nvSpPr>
        <p:spPr>
          <a:xfrm>
            <a:off x="223920" y="3554280"/>
            <a:ext cx="62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,5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Rectangle 17"/>
          <p:cNvSpPr/>
          <p:nvPr/>
        </p:nvSpPr>
        <p:spPr>
          <a:xfrm>
            <a:off x="223920" y="5230800"/>
            <a:ext cx="62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,0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Rectangle 18"/>
          <p:cNvSpPr/>
          <p:nvPr/>
        </p:nvSpPr>
        <p:spPr>
          <a:xfrm>
            <a:off x="1862280" y="5954760"/>
            <a:ext cx="801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.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Rectangle 19"/>
          <p:cNvSpPr/>
          <p:nvPr/>
        </p:nvSpPr>
        <p:spPr>
          <a:xfrm>
            <a:off x="3043080" y="5954760"/>
            <a:ext cx="801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0.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Rectangle 20"/>
          <p:cNvSpPr/>
          <p:nvPr/>
        </p:nvSpPr>
        <p:spPr>
          <a:xfrm>
            <a:off x="5557680" y="5954760"/>
            <a:ext cx="689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Rectangle 21"/>
          <p:cNvSpPr/>
          <p:nvPr/>
        </p:nvSpPr>
        <p:spPr>
          <a:xfrm>
            <a:off x="6472080" y="5954760"/>
            <a:ext cx="689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Rectangle 22"/>
          <p:cNvSpPr/>
          <p:nvPr/>
        </p:nvSpPr>
        <p:spPr>
          <a:xfrm>
            <a:off x="7386480" y="5954760"/>
            <a:ext cx="689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.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Rectangle 23"/>
          <p:cNvSpPr/>
          <p:nvPr/>
        </p:nvSpPr>
        <p:spPr>
          <a:xfrm>
            <a:off x="4415040" y="1878120"/>
            <a:ext cx="62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,0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Rectangle 24"/>
          <p:cNvSpPr/>
          <p:nvPr/>
        </p:nvSpPr>
        <p:spPr>
          <a:xfrm>
            <a:off x="4415040" y="3554280"/>
            <a:ext cx="62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,5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Rectangle 25"/>
          <p:cNvSpPr/>
          <p:nvPr/>
        </p:nvSpPr>
        <p:spPr>
          <a:xfrm>
            <a:off x="4415040" y="5230800"/>
            <a:ext cx="62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0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Rectangle 26"/>
          <p:cNvSpPr/>
          <p:nvPr/>
        </p:nvSpPr>
        <p:spPr>
          <a:xfrm>
            <a:off x="4415040" y="3935520"/>
            <a:ext cx="62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,4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Rectangle 27"/>
          <p:cNvSpPr/>
          <p:nvPr/>
        </p:nvSpPr>
        <p:spPr>
          <a:xfrm>
            <a:off x="4415040" y="3097080"/>
            <a:ext cx="62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,6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Rectangle 2"/>
          <p:cNvSpPr/>
          <p:nvPr/>
        </p:nvSpPr>
        <p:spPr>
          <a:xfrm>
            <a:off x="1411560" y="1487520"/>
            <a:ext cx="3031200" cy="8190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 precio de merc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 1,50 dólares, la elasticida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  la demanda es -1,5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Line 5"/>
          <p:cNvSpPr/>
          <p:nvPr/>
        </p:nvSpPr>
        <p:spPr>
          <a:xfrm>
            <a:off x="1170000" y="2138400"/>
            <a:ext cx="2386080" cy="3529080"/>
          </a:xfrm>
          <a:prstGeom prst="line">
            <a:avLst/>
          </a:prstGeom>
          <a:ln w="507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Rectangle 37"/>
          <p:cNvSpPr/>
          <p:nvPr/>
        </p:nvSpPr>
        <p:spPr>
          <a:xfrm>
            <a:off x="3271680" y="4545000"/>
            <a:ext cx="16675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manda del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rcad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Line 38"/>
          <p:cNvSpPr/>
          <p:nvPr/>
        </p:nvSpPr>
        <p:spPr>
          <a:xfrm flipH="1">
            <a:off x="2960280" y="4702320"/>
            <a:ext cx="405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550800" y="190440"/>
            <a:ext cx="85932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Arial"/>
              </a:rPr>
              <a:t>La demanda de cepillos de dientes</a:t>
            </a:r>
            <a:endParaRPr b="1" lang="en-US" sz="4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337" name="Line 28"/>
          <p:cNvSpPr/>
          <p:nvPr/>
        </p:nvSpPr>
        <p:spPr>
          <a:xfrm>
            <a:off x="776160" y="3787920"/>
            <a:ext cx="36306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Line 30"/>
          <p:cNvSpPr/>
          <p:nvPr/>
        </p:nvSpPr>
        <p:spPr>
          <a:xfrm flipV="1">
            <a:off x="2286000" y="3776400"/>
            <a:ext cx="0" cy="20811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Oval 32"/>
          <p:cNvSpPr/>
          <p:nvPr/>
        </p:nvSpPr>
        <p:spPr>
          <a:xfrm>
            <a:off x="2209680" y="3711600"/>
            <a:ext cx="15264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Rectangle 49"/>
          <p:cNvSpPr/>
          <p:nvPr/>
        </p:nvSpPr>
        <p:spPr>
          <a:xfrm>
            <a:off x="5578560" y="1449360"/>
            <a:ext cx="3112920" cy="13057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 curva de demanda de la empresa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pende tanto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 cuánto se diferencie su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to como de la forma en que compiten las empresa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48"/>
          <p:cNvSpPr/>
          <p:nvPr/>
        </p:nvSpPr>
        <p:spPr>
          <a:xfrm>
            <a:off x="1317960" y="1430280"/>
            <a:ext cx="3031200" cy="8190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 precio de merc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 1,50 dólares, la elasticida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  la demanda es -1,5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Line 3"/>
          <p:cNvSpPr/>
          <p:nvPr/>
        </p:nvSpPr>
        <p:spPr>
          <a:xfrm>
            <a:off x="1170000" y="2138400"/>
            <a:ext cx="2386080" cy="3529080"/>
          </a:xfrm>
          <a:prstGeom prst="line">
            <a:avLst/>
          </a:prstGeom>
          <a:ln w="507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Line 5"/>
          <p:cNvSpPr/>
          <p:nvPr/>
        </p:nvSpPr>
        <p:spPr>
          <a:xfrm>
            <a:off x="762120" y="1897200"/>
            <a:ext cx="0" cy="3935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Line 6"/>
          <p:cNvSpPr/>
          <p:nvPr/>
        </p:nvSpPr>
        <p:spPr>
          <a:xfrm>
            <a:off x="5029200" y="1897200"/>
            <a:ext cx="0" cy="3935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Line 7"/>
          <p:cNvSpPr/>
          <p:nvPr/>
        </p:nvSpPr>
        <p:spPr>
          <a:xfrm>
            <a:off x="776160" y="5845320"/>
            <a:ext cx="3935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Line 8"/>
          <p:cNvSpPr/>
          <p:nvPr/>
        </p:nvSpPr>
        <p:spPr>
          <a:xfrm>
            <a:off x="5043600" y="5845320"/>
            <a:ext cx="3935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Rectangle 9"/>
          <p:cNvSpPr/>
          <p:nvPr/>
        </p:nvSpPr>
        <p:spPr>
          <a:xfrm>
            <a:off x="3882600" y="5854680"/>
            <a:ext cx="1047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tida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Rectangle 10"/>
          <p:cNvSpPr/>
          <p:nvPr/>
        </p:nvSpPr>
        <p:spPr>
          <a:xfrm>
            <a:off x="681120" y="5954760"/>
            <a:ext cx="801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.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Rectangle 11"/>
          <p:cNvSpPr/>
          <p:nvPr/>
        </p:nvSpPr>
        <p:spPr>
          <a:xfrm>
            <a:off x="223920" y="1878120"/>
            <a:ext cx="62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,0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Rectangle 12"/>
          <p:cNvSpPr/>
          <p:nvPr/>
        </p:nvSpPr>
        <p:spPr>
          <a:xfrm>
            <a:off x="8593920" y="5840280"/>
            <a:ext cx="4860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Rectangle 13"/>
          <p:cNvSpPr/>
          <p:nvPr/>
        </p:nvSpPr>
        <p:spPr>
          <a:xfrm>
            <a:off x="-5400" y="1496880"/>
            <a:ext cx="569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Rectangle 14"/>
          <p:cNvSpPr/>
          <p:nvPr/>
        </p:nvSpPr>
        <p:spPr>
          <a:xfrm>
            <a:off x="4413960" y="1496880"/>
            <a:ext cx="569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Rectangle 15"/>
          <p:cNvSpPr/>
          <p:nvPr/>
        </p:nvSpPr>
        <p:spPr>
          <a:xfrm>
            <a:off x="223920" y="3554280"/>
            <a:ext cx="62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,5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Rectangle 16"/>
          <p:cNvSpPr/>
          <p:nvPr/>
        </p:nvSpPr>
        <p:spPr>
          <a:xfrm>
            <a:off x="223920" y="5230800"/>
            <a:ext cx="62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,0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Rectangle 17"/>
          <p:cNvSpPr/>
          <p:nvPr/>
        </p:nvSpPr>
        <p:spPr>
          <a:xfrm>
            <a:off x="1862280" y="5954760"/>
            <a:ext cx="801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.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Rectangle 18"/>
          <p:cNvSpPr/>
          <p:nvPr/>
        </p:nvSpPr>
        <p:spPr>
          <a:xfrm>
            <a:off x="3043080" y="5954760"/>
            <a:ext cx="801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0.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Rectangle 19"/>
          <p:cNvSpPr/>
          <p:nvPr/>
        </p:nvSpPr>
        <p:spPr>
          <a:xfrm>
            <a:off x="5557680" y="5954760"/>
            <a:ext cx="689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Rectangle 20"/>
          <p:cNvSpPr/>
          <p:nvPr/>
        </p:nvSpPr>
        <p:spPr>
          <a:xfrm>
            <a:off x="6472080" y="5954760"/>
            <a:ext cx="689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Rectangle 21"/>
          <p:cNvSpPr/>
          <p:nvPr/>
        </p:nvSpPr>
        <p:spPr>
          <a:xfrm>
            <a:off x="7386480" y="5954760"/>
            <a:ext cx="689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.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Rectangle 22"/>
          <p:cNvSpPr/>
          <p:nvPr/>
        </p:nvSpPr>
        <p:spPr>
          <a:xfrm>
            <a:off x="4415040" y="1878120"/>
            <a:ext cx="62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,0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Rectangle 23"/>
          <p:cNvSpPr/>
          <p:nvPr/>
        </p:nvSpPr>
        <p:spPr>
          <a:xfrm>
            <a:off x="4415040" y="3554280"/>
            <a:ext cx="62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,5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Rectangle 24"/>
          <p:cNvSpPr/>
          <p:nvPr/>
        </p:nvSpPr>
        <p:spPr>
          <a:xfrm>
            <a:off x="4415040" y="5230800"/>
            <a:ext cx="62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,0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Rectangle 25"/>
          <p:cNvSpPr/>
          <p:nvPr/>
        </p:nvSpPr>
        <p:spPr>
          <a:xfrm>
            <a:off x="4415040" y="3935520"/>
            <a:ext cx="62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,4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Rectangle 26"/>
          <p:cNvSpPr/>
          <p:nvPr/>
        </p:nvSpPr>
        <p:spPr>
          <a:xfrm>
            <a:off x="4415040" y="3097080"/>
            <a:ext cx="62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,6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Line 27"/>
          <p:cNvSpPr/>
          <p:nvPr/>
        </p:nvSpPr>
        <p:spPr>
          <a:xfrm>
            <a:off x="776160" y="3787920"/>
            <a:ext cx="36306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Line 29"/>
          <p:cNvSpPr/>
          <p:nvPr/>
        </p:nvSpPr>
        <p:spPr>
          <a:xfrm flipV="1">
            <a:off x="2286000" y="3776400"/>
            <a:ext cx="0" cy="20811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Oval 31"/>
          <p:cNvSpPr/>
          <p:nvPr/>
        </p:nvSpPr>
        <p:spPr>
          <a:xfrm>
            <a:off x="2209680" y="3711600"/>
            <a:ext cx="15264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8" name="Group 50"/>
          <p:cNvGrpSpPr/>
          <p:nvPr/>
        </p:nvGrpSpPr>
        <p:grpSpPr>
          <a:xfrm>
            <a:off x="5208480" y="2824200"/>
            <a:ext cx="3858120" cy="2766960"/>
            <a:chOff x="5208480" y="2824200"/>
            <a:chExt cx="3858120" cy="2766960"/>
          </a:xfrm>
        </p:grpSpPr>
        <p:sp>
          <p:nvSpPr>
            <p:cNvPr id="1369" name="Line 2"/>
            <p:cNvSpPr/>
            <p:nvPr/>
          </p:nvSpPr>
          <p:spPr>
            <a:xfrm>
              <a:off x="5284800" y="2824200"/>
              <a:ext cx="3300480" cy="200484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Rectangle 33"/>
            <p:cNvSpPr/>
            <p:nvPr/>
          </p:nvSpPr>
          <p:spPr>
            <a:xfrm>
              <a:off x="8594280" y="4468680"/>
              <a:ext cx="47232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Line 34"/>
            <p:cNvSpPr/>
            <p:nvPr/>
          </p:nvSpPr>
          <p:spPr>
            <a:xfrm>
              <a:off x="5208480" y="3129120"/>
              <a:ext cx="2766960" cy="246204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Rectangle 35"/>
            <p:cNvSpPr/>
            <p:nvPr/>
          </p:nvSpPr>
          <p:spPr>
            <a:xfrm>
              <a:off x="7925400" y="5154480"/>
              <a:ext cx="56988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M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3" name="Rectangle 36"/>
          <p:cNvSpPr/>
          <p:nvPr/>
        </p:nvSpPr>
        <p:spPr>
          <a:xfrm>
            <a:off x="3271680" y="4545000"/>
            <a:ext cx="1527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manda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l mercad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Line 37"/>
          <p:cNvSpPr/>
          <p:nvPr/>
        </p:nvSpPr>
        <p:spPr>
          <a:xfrm flipH="1">
            <a:off x="2960280" y="4702320"/>
            <a:ext cx="405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Line 28"/>
          <p:cNvSpPr/>
          <p:nvPr/>
        </p:nvSpPr>
        <p:spPr>
          <a:xfrm>
            <a:off x="5119560" y="3787920"/>
            <a:ext cx="172584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Line 30"/>
          <p:cNvSpPr/>
          <p:nvPr/>
        </p:nvSpPr>
        <p:spPr>
          <a:xfrm flipV="1">
            <a:off x="6858000" y="3776400"/>
            <a:ext cx="0" cy="20811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Oval 32"/>
          <p:cNvSpPr/>
          <p:nvPr/>
        </p:nvSpPr>
        <p:spPr>
          <a:xfrm>
            <a:off x="6781680" y="3711600"/>
            <a:ext cx="15264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Rectangle 38"/>
          <p:cNvSpPr/>
          <p:nvPr/>
        </p:nvSpPr>
        <p:spPr>
          <a:xfrm>
            <a:off x="5722920" y="1278000"/>
            <a:ext cx="2892600" cy="16099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 empresa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se enfrenta a una curva de demanda más elástica  debido a la competencia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-0,6.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ún así, la empresa A tiene algún poder de monopolio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 fija un precio superior al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M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9" name="Group 51"/>
          <p:cNvGrpSpPr/>
          <p:nvPr/>
        </p:nvGrpSpPr>
        <p:grpSpPr>
          <a:xfrm>
            <a:off x="5640480" y="3173400"/>
            <a:ext cx="2969280" cy="1836720"/>
            <a:chOff x="5640480" y="3173400"/>
            <a:chExt cx="2969280" cy="1836720"/>
          </a:xfrm>
        </p:grpSpPr>
        <p:sp>
          <p:nvSpPr>
            <p:cNvPr id="1380" name="Freeform 39"/>
            <p:cNvSpPr/>
            <p:nvPr/>
          </p:nvSpPr>
          <p:spPr>
            <a:xfrm>
              <a:off x="5640480" y="3408480"/>
              <a:ext cx="2287440" cy="1601640"/>
            </a:xfrm>
            <a:custGeom>
              <a:avLst/>
              <a:gdLst>
                <a:gd name="textAreaLeft" fmla="*/ 0 w 2287440"/>
                <a:gd name="textAreaRight" fmla="*/ 2287800 w 2287440"/>
                <a:gd name="textAreaTop" fmla="*/ 0 h 1601640"/>
                <a:gd name="textAreaBottom" fmla="*/ 1602000 h 1601640"/>
              </a:gdLst>
              <a:ahLst/>
              <a:rect l="textAreaLeft" t="textAreaTop" r="textAreaRight" b="textAreaBottom"/>
              <a:pathLst>
                <a:path w="1441" h="1009">
                  <a:moveTo>
                    <a:pt x="0" y="1008"/>
                  </a:moveTo>
                  <a:lnTo>
                    <a:pt x="224" y="945"/>
                  </a:lnTo>
                  <a:lnTo>
                    <a:pt x="432" y="883"/>
                  </a:lnTo>
                  <a:lnTo>
                    <a:pt x="632" y="809"/>
                  </a:lnTo>
                  <a:lnTo>
                    <a:pt x="816" y="721"/>
                  </a:lnTo>
                  <a:lnTo>
                    <a:pt x="896" y="668"/>
                  </a:lnTo>
                  <a:lnTo>
                    <a:pt x="976" y="606"/>
                  </a:lnTo>
                  <a:lnTo>
                    <a:pt x="1128" y="475"/>
                  </a:lnTo>
                  <a:lnTo>
                    <a:pt x="1192" y="412"/>
                  </a:lnTo>
                  <a:lnTo>
                    <a:pt x="1248" y="350"/>
                  </a:lnTo>
                  <a:lnTo>
                    <a:pt x="1304" y="292"/>
                  </a:lnTo>
                  <a:lnTo>
                    <a:pt x="1344" y="240"/>
                  </a:lnTo>
                  <a:lnTo>
                    <a:pt x="1376" y="198"/>
                  </a:lnTo>
                  <a:lnTo>
                    <a:pt x="1400" y="162"/>
                  </a:lnTo>
                  <a:lnTo>
                    <a:pt x="1432" y="99"/>
                  </a:lnTo>
                  <a:lnTo>
                    <a:pt x="1440" y="47"/>
                  </a:lnTo>
                  <a:lnTo>
                    <a:pt x="1440" y="0"/>
                  </a:lnTo>
                </a:path>
              </a:pathLst>
            </a:custGeom>
            <a:noFill/>
            <a:ln cap="rnd" w="507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Rectangle 40"/>
            <p:cNvSpPr/>
            <p:nvPr/>
          </p:nvSpPr>
          <p:spPr>
            <a:xfrm>
              <a:off x="7925400" y="3173400"/>
              <a:ext cx="68436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M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550800" y="190440"/>
            <a:ext cx="85932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Arial"/>
              </a:rPr>
              <a:t>La demanda de cepillos de dientes</a:t>
            </a:r>
            <a:endParaRPr b="1" lang="en-US" sz="4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2 – El mon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La medición del poder de monopolio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En una empresa perfectamente competitiva: 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P = IM = CM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En la empresa que tiene poder de monopolio: 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P &gt; CM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El poder de monopolio</a:t>
            </a:r>
            <a:endParaRPr b="1" lang="en-US" sz="34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2 – El mon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/>
          </p:nvPr>
        </p:nvSpPr>
        <p:spPr>
          <a:xfrm>
            <a:off x="818640" y="1490760"/>
            <a:ext cx="83250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Índice de Lerner de poder de monopolio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639000" indent="-24552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L = (P - CM)/P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2" marL="982800" indent="-196560">
              <a:spcBef>
                <a:spcPts val="1188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Cuanto mayor es el valor de 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L 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(entre 0 y 1), mayor es el poder de monopolio. 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639000" indent="-24552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 se expresa por medio de 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E</a:t>
            </a:r>
            <a:r>
              <a:rPr b="0" i="1" lang="en-US" sz="2800" spc="-1" strike="noStrike" baseline="-25000">
                <a:solidFill>
                  <a:srgbClr val="262626"/>
                </a:solidFill>
                <a:latin typeface="Arial"/>
              </a:rPr>
              <a:t>d 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2" marL="982800" indent="-196560">
              <a:spcBef>
                <a:spcPts val="1188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 = 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(P - CM)/P = -1/E</a:t>
            </a:r>
            <a:r>
              <a:rPr b="0" i="1" lang="en-US" sz="2800" spc="-1" strike="noStrike" baseline="-25000">
                <a:solidFill>
                  <a:srgbClr val="262626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2" marL="982800" indent="-196560">
              <a:spcBef>
                <a:spcPts val="1188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E</a:t>
            </a:r>
            <a:r>
              <a:rPr b="0" i="1" lang="en-US" sz="2800" spc="-1" strike="noStrike" baseline="-25000">
                <a:solidFill>
                  <a:srgbClr val="262626"/>
                </a:solidFill>
                <a:latin typeface="Arial"/>
              </a:rPr>
              <a:t>d  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es la elasticidad de la curva de demanda de una empresa y no de la curva de demanda del mercado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El poder de monopolio</a:t>
            </a:r>
            <a:endParaRPr b="1" lang="en-US" sz="34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2 – El mon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262626"/>
                </a:solidFill>
                <a:latin typeface="Arial"/>
              </a:rPr>
              <a:t>El poder de monopolio no garantiza beneficios.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262626"/>
                </a:solidFill>
                <a:latin typeface="Arial"/>
              </a:rPr>
              <a:t>Los beneficios dependen del coste medio en relación con el precio.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0128"/>
                </a:solidFill>
                <a:latin typeface="Arial"/>
              </a:rPr>
              <a:t>Pregunta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¿Puede encontrar alguna dificultad para utilizar el índice Lerner (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) en la política del Estado?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El poder de monopolio</a:t>
            </a:r>
            <a:endParaRPr b="1" lang="en-US" sz="34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1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2 – El mon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La regla práctica para fijar los precios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225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62626"/>
                </a:solidFill>
                <a:latin typeface="Arial"/>
              </a:rPr>
              <a:t>Los precios para cualquier empresa con poder de monopolio se fijan: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2" marL="1162080" indent="-228600">
              <a:spcBef>
                <a:spcPts val="1188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Si 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E</a:t>
            </a:r>
            <a:r>
              <a:rPr b="0" i="1" lang="en-US" sz="2800" spc="-1" strike="noStrike" baseline="-25000">
                <a:solidFill>
                  <a:srgbClr val="262626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  es elevada, el margen será pequeño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2" marL="1162080" indent="-228600">
              <a:spcBef>
                <a:spcPts val="1188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Si 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E</a:t>
            </a:r>
            <a:r>
              <a:rPr b="0" i="1" lang="en-US" sz="2800" spc="-1" strike="noStrike" baseline="-25000">
                <a:solidFill>
                  <a:srgbClr val="262626"/>
                </a:solidFill>
                <a:latin typeface="Arial"/>
              </a:rPr>
              <a:t>d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es baja, el margen será grande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4" name="Line 7"/>
          <p:cNvSpPr/>
          <p:nvPr/>
        </p:nvSpPr>
        <p:spPr>
          <a:xfrm flipH="1">
            <a:off x="4142880" y="2658960"/>
            <a:ext cx="150840" cy="47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Rectangle 8"/>
          <p:cNvSpPr/>
          <p:nvPr/>
        </p:nvSpPr>
        <p:spPr>
          <a:xfrm>
            <a:off x="3959640" y="2395440"/>
            <a:ext cx="238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Rectangle 9"/>
          <p:cNvSpPr/>
          <p:nvPr/>
        </p:nvSpPr>
        <p:spPr>
          <a:xfrm>
            <a:off x="4953600" y="2395440"/>
            <a:ext cx="238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Line 10"/>
          <p:cNvSpPr/>
          <p:nvPr/>
        </p:nvSpPr>
        <p:spPr>
          <a:xfrm flipV="1">
            <a:off x="3290760" y="2527200"/>
            <a:ext cx="162576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Rectangle 11"/>
          <p:cNvSpPr/>
          <p:nvPr/>
        </p:nvSpPr>
        <p:spPr>
          <a:xfrm>
            <a:off x="4692600" y="288612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1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Rectangle 12"/>
          <p:cNvSpPr/>
          <p:nvPr/>
        </p:nvSpPr>
        <p:spPr>
          <a:xfrm>
            <a:off x="4429440" y="2602080"/>
            <a:ext cx="3056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Rectangle 13"/>
          <p:cNvSpPr/>
          <p:nvPr/>
        </p:nvSpPr>
        <p:spPr>
          <a:xfrm>
            <a:off x="3780720" y="1949400"/>
            <a:ext cx="7124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0000"/>
                </a:solidFill>
                <a:latin typeface="Times New Roman"/>
              </a:rPr>
              <a:t>C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Rectangle 14"/>
          <p:cNvSpPr/>
          <p:nvPr/>
        </p:nvSpPr>
        <p:spPr>
          <a:xfrm>
            <a:off x="2621520" y="2239920"/>
            <a:ext cx="279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Rectangle 15"/>
          <p:cNvSpPr/>
          <p:nvPr/>
        </p:nvSpPr>
        <p:spPr>
          <a:xfrm>
            <a:off x="4064400" y="2602080"/>
            <a:ext cx="229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Rectangle 16"/>
          <p:cNvSpPr/>
          <p:nvPr/>
        </p:nvSpPr>
        <p:spPr>
          <a:xfrm>
            <a:off x="3368880" y="2602080"/>
            <a:ext cx="229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Rectangle 17"/>
          <p:cNvSpPr/>
          <p:nvPr/>
        </p:nvSpPr>
        <p:spPr>
          <a:xfrm>
            <a:off x="3677040" y="2548080"/>
            <a:ext cx="267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Rectangle 18"/>
          <p:cNvSpPr/>
          <p:nvPr/>
        </p:nvSpPr>
        <p:spPr>
          <a:xfrm>
            <a:off x="3009960" y="2185920"/>
            <a:ext cx="3636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El poder de monopolio</a:t>
            </a:r>
            <a:endParaRPr b="1" lang="en-US" sz="34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Arial"/>
              </a:rPr>
              <a:t>La elasticidad de la demanda y el margen de los precios sobre los costes</a:t>
            </a:r>
            <a:endParaRPr b="1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408" name="Line 3"/>
          <p:cNvSpPr/>
          <p:nvPr/>
        </p:nvSpPr>
        <p:spPr>
          <a:xfrm>
            <a:off x="762120" y="1967040"/>
            <a:ext cx="0" cy="3935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Line 4"/>
          <p:cNvSpPr/>
          <p:nvPr/>
        </p:nvSpPr>
        <p:spPr>
          <a:xfrm>
            <a:off x="5029200" y="1967040"/>
            <a:ext cx="0" cy="3935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Line 5"/>
          <p:cNvSpPr/>
          <p:nvPr/>
        </p:nvSpPr>
        <p:spPr>
          <a:xfrm>
            <a:off x="776160" y="5915160"/>
            <a:ext cx="3935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Line 6"/>
          <p:cNvSpPr/>
          <p:nvPr/>
        </p:nvSpPr>
        <p:spPr>
          <a:xfrm>
            <a:off x="5043600" y="5915160"/>
            <a:ext cx="3935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Rectangle 7"/>
          <p:cNvSpPr/>
          <p:nvPr/>
        </p:nvSpPr>
        <p:spPr>
          <a:xfrm>
            <a:off x="-5400" y="1566720"/>
            <a:ext cx="569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Rectangle 8"/>
          <p:cNvSpPr/>
          <p:nvPr/>
        </p:nvSpPr>
        <p:spPr>
          <a:xfrm>
            <a:off x="4413960" y="1566720"/>
            <a:ext cx="569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Rectangle 9"/>
          <p:cNvSpPr/>
          <p:nvPr/>
        </p:nvSpPr>
        <p:spPr>
          <a:xfrm>
            <a:off x="3882600" y="5959440"/>
            <a:ext cx="1047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tida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Rectangle 10"/>
          <p:cNvSpPr/>
          <p:nvPr/>
        </p:nvSpPr>
        <p:spPr>
          <a:xfrm>
            <a:off x="7984440" y="5959440"/>
            <a:ext cx="1047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tida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6" name="Group 47"/>
          <p:cNvGrpSpPr/>
          <p:nvPr/>
        </p:nvGrpSpPr>
        <p:grpSpPr>
          <a:xfrm>
            <a:off x="789120" y="1903320"/>
            <a:ext cx="8355960" cy="3805920"/>
            <a:chOff x="789120" y="1903320"/>
            <a:chExt cx="8355960" cy="3805920"/>
          </a:xfrm>
        </p:grpSpPr>
        <p:sp>
          <p:nvSpPr>
            <p:cNvPr id="1417" name="Line 11"/>
            <p:cNvSpPr/>
            <p:nvPr/>
          </p:nvSpPr>
          <p:spPr>
            <a:xfrm>
              <a:off x="789120" y="3198960"/>
              <a:ext cx="3376440" cy="70956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Line 12"/>
            <p:cNvSpPr/>
            <p:nvPr/>
          </p:nvSpPr>
          <p:spPr>
            <a:xfrm>
              <a:off x="789120" y="3198960"/>
              <a:ext cx="2995560" cy="139536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Rectangle 13"/>
            <p:cNvSpPr/>
            <p:nvPr/>
          </p:nvSpPr>
          <p:spPr>
            <a:xfrm>
              <a:off x="4170600" y="3738600"/>
              <a:ext cx="5198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Me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Rectangle 14"/>
            <p:cNvSpPr/>
            <p:nvPr/>
          </p:nvSpPr>
          <p:spPr>
            <a:xfrm>
              <a:off x="3881880" y="4538520"/>
              <a:ext cx="4071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M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Line 15"/>
            <p:cNvSpPr/>
            <p:nvPr/>
          </p:nvSpPr>
          <p:spPr>
            <a:xfrm>
              <a:off x="5742000" y="1903320"/>
              <a:ext cx="2995560" cy="307188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Line 16"/>
            <p:cNvSpPr/>
            <p:nvPr/>
          </p:nvSpPr>
          <p:spPr>
            <a:xfrm>
              <a:off x="5437080" y="2055960"/>
              <a:ext cx="1319400" cy="322416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Rectangle 17"/>
            <p:cNvSpPr/>
            <p:nvPr/>
          </p:nvSpPr>
          <p:spPr>
            <a:xfrm>
              <a:off x="6625080" y="5376960"/>
              <a:ext cx="4071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M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Rectangle 18"/>
            <p:cNvSpPr/>
            <p:nvPr/>
          </p:nvSpPr>
          <p:spPr>
            <a:xfrm>
              <a:off x="8625240" y="4995720"/>
              <a:ext cx="5198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Me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5" name="Group 49"/>
          <p:cNvGrpSpPr/>
          <p:nvPr/>
        </p:nvGrpSpPr>
        <p:grpSpPr>
          <a:xfrm>
            <a:off x="299880" y="1638360"/>
            <a:ext cx="8269200" cy="4676400"/>
            <a:chOff x="299880" y="1638360"/>
            <a:chExt cx="8269200" cy="4676400"/>
          </a:xfrm>
        </p:grpSpPr>
        <p:sp>
          <p:nvSpPr>
            <p:cNvPr id="1426" name="Freeform 19"/>
            <p:cNvSpPr/>
            <p:nvPr/>
          </p:nvSpPr>
          <p:spPr>
            <a:xfrm>
              <a:off x="1219320" y="2946240"/>
              <a:ext cx="2517480" cy="1447920"/>
            </a:xfrm>
            <a:custGeom>
              <a:avLst/>
              <a:gdLst>
                <a:gd name="textAreaLeft" fmla="*/ 0 w 2517480"/>
                <a:gd name="textAreaRight" fmla="*/ 2517840 w 2517480"/>
                <a:gd name="textAreaTop" fmla="*/ 0 h 1447920"/>
                <a:gd name="textAreaBottom" fmla="*/ 1448280 h 1447920"/>
              </a:gdLst>
              <a:ahLst/>
              <a:rect l="textAreaLeft" t="textAreaTop" r="textAreaRight" b="textAreaBottom"/>
              <a:pathLst>
                <a:path w="1586" h="912">
                  <a:moveTo>
                    <a:pt x="0" y="911"/>
                  </a:moveTo>
                  <a:lnTo>
                    <a:pt x="207" y="838"/>
                  </a:lnTo>
                  <a:lnTo>
                    <a:pt x="414" y="766"/>
                  </a:lnTo>
                  <a:lnTo>
                    <a:pt x="617" y="680"/>
                  </a:lnTo>
                  <a:lnTo>
                    <a:pt x="719" y="630"/>
                  </a:lnTo>
                  <a:lnTo>
                    <a:pt x="817" y="576"/>
                  </a:lnTo>
                  <a:lnTo>
                    <a:pt x="915" y="517"/>
                  </a:lnTo>
                  <a:lnTo>
                    <a:pt x="1013" y="449"/>
                  </a:lnTo>
                  <a:lnTo>
                    <a:pt x="1205" y="308"/>
                  </a:lnTo>
                  <a:lnTo>
                    <a:pt x="1397" y="159"/>
                  </a:lnTo>
                  <a:lnTo>
                    <a:pt x="1585" y="0"/>
                  </a:lnTo>
                </a:path>
              </a:pathLst>
            </a:custGeom>
            <a:noFill/>
            <a:ln cap="rnd" w="507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Rectangle 20"/>
            <p:cNvSpPr/>
            <p:nvPr/>
          </p:nvSpPr>
          <p:spPr>
            <a:xfrm>
              <a:off x="3728880" y="2557440"/>
              <a:ext cx="49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M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Freeform 21"/>
            <p:cNvSpPr/>
            <p:nvPr/>
          </p:nvSpPr>
          <p:spPr>
            <a:xfrm>
              <a:off x="5405400" y="2940120"/>
              <a:ext cx="2979720" cy="1911240"/>
            </a:xfrm>
            <a:custGeom>
              <a:avLst/>
              <a:gdLst>
                <a:gd name="textAreaLeft" fmla="*/ 0 w 2979720"/>
                <a:gd name="textAreaRight" fmla="*/ 2980080 w 2979720"/>
                <a:gd name="textAreaTop" fmla="*/ 0 h 1911240"/>
                <a:gd name="textAreaBottom" fmla="*/ 1911600 h 1911240"/>
              </a:gdLst>
              <a:ahLst/>
              <a:rect l="textAreaLeft" t="textAreaTop" r="textAreaRight" b="textAreaBottom"/>
              <a:pathLst>
                <a:path w="1877" h="1204">
                  <a:moveTo>
                    <a:pt x="0" y="1203"/>
                  </a:moveTo>
                  <a:lnTo>
                    <a:pt x="245" y="1113"/>
                  </a:lnTo>
                  <a:lnTo>
                    <a:pt x="490" y="1013"/>
                  </a:lnTo>
                  <a:lnTo>
                    <a:pt x="609" y="953"/>
                  </a:lnTo>
                  <a:lnTo>
                    <a:pt x="727" y="893"/>
                  </a:lnTo>
                  <a:lnTo>
                    <a:pt x="845" y="828"/>
                  </a:lnTo>
                  <a:lnTo>
                    <a:pt x="963" y="759"/>
                  </a:lnTo>
                  <a:lnTo>
                    <a:pt x="1082" y="679"/>
                  </a:lnTo>
                  <a:lnTo>
                    <a:pt x="1200" y="594"/>
                  </a:lnTo>
                  <a:lnTo>
                    <a:pt x="1310" y="504"/>
                  </a:lnTo>
                  <a:lnTo>
                    <a:pt x="1428" y="409"/>
                  </a:lnTo>
                  <a:lnTo>
                    <a:pt x="1656" y="209"/>
                  </a:lnTo>
                  <a:lnTo>
                    <a:pt x="1876" y="0"/>
                  </a:lnTo>
                </a:path>
              </a:pathLst>
            </a:custGeom>
            <a:noFill/>
            <a:ln cap="rnd" w="507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Rectangle 22"/>
            <p:cNvSpPr/>
            <p:nvPr/>
          </p:nvSpPr>
          <p:spPr>
            <a:xfrm>
              <a:off x="8072280" y="2557440"/>
              <a:ext cx="49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M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Oval 23"/>
            <p:cNvSpPr/>
            <p:nvPr/>
          </p:nvSpPr>
          <p:spPr>
            <a:xfrm>
              <a:off x="6324480" y="4390920"/>
              <a:ext cx="15264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Oval 24"/>
            <p:cNvSpPr/>
            <p:nvPr/>
          </p:nvSpPr>
          <p:spPr>
            <a:xfrm>
              <a:off x="6324480" y="2562120"/>
              <a:ext cx="15264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Oval 25"/>
            <p:cNvSpPr/>
            <p:nvPr/>
          </p:nvSpPr>
          <p:spPr>
            <a:xfrm>
              <a:off x="2286000" y="38577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Oval 26"/>
            <p:cNvSpPr/>
            <p:nvPr/>
          </p:nvSpPr>
          <p:spPr>
            <a:xfrm>
              <a:off x="2286000" y="347652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Line 27"/>
            <p:cNvSpPr/>
            <p:nvPr/>
          </p:nvSpPr>
          <p:spPr>
            <a:xfrm>
              <a:off x="2362320" y="3643200"/>
              <a:ext cx="0" cy="22590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Rectangle 28"/>
            <p:cNvSpPr/>
            <p:nvPr/>
          </p:nvSpPr>
          <p:spPr>
            <a:xfrm>
              <a:off x="2189160" y="5951520"/>
              <a:ext cx="4482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Q*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Line 29"/>
            <p:cNvSpPr/>
            <p:nvPr/>
          </p:nvSpPr>
          <p:spPr>
            <a:xfrm>
              <a:off x="6400800" y="2652840"/>
              <a:ext cx="0" cy="32493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Rectangle 30"/>
            <p:cNvSpPr/>
            <p:nvPr/>
          </p:nvSpPr>
          <p:spPr>
            <a:xfrm>
              <a:off x="6227640" y="5951520"/>
              <a:ext cx="4482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Q*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Line 31"/>
            <p:cNvSpPr/>
            <p:nvPr/>
          </p:nvSpPr>
          <p:spPr>
            <a:xfrm flipH="1">
              <a:off x="750600" y="3552840"/>
              <a:ext cx="15476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Line 32"/>
            <p:cNvSpPr/>
            <p:nvPr/>
          </p:nvSpPr>
          <p:spPr>
            <a:xfrm flipH="1">
              <a:off x="750600" y="3933720"/>
              <a:ext cx="15476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Line 33"/>
            <p:cNvSpPr/>
            <p:nvPr/>
          </p:nvSpPr>
          <p:spPr>
            <a:xfrm flipH="1">
              <a:off x="5017680" y="4467240"/>
              <a:ext cx="13194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Line 34"/>
            <p:cNvSpPr/>
            <p:nvPr/>
          </p:nvSpPr>
          <p:spPr>
            <a:xfrm flipH="1">
              <a:off x="5017680" y="2638440"/>
              <a:ext cx="13194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Rectangle 35"/>
            <p:cNvSpPr/>
            <p:nvPr/>
          </p:nvSpPr>
          <p:spPr>
            <a:xfrm>
              <a:off x="299880" y="3319560"/>
              <a:ext cx="449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P*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Rectangle 36"/>
            <p:cNvSpPr/>
            <p:nvPr/>
          </p:nvSpPr>
          <p:spPr>
            <a:xfrm>
              <a:off x="4491000" y="2405160"/>
              <a:ext cx="449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P*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Line 37"/>
            <p:cNvSpPr/>
            <p:nvPr/>
          </p:nvSpPr>
          <p:spPr>
            <a:xfrm>
              <a:off x="1143000" y="3567240"/>
              <a:ext cx="0" cy="35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Rectangle 38"/>
            <p:cNvSpPr/>
            <p:nvPr/>
          </p:nvSpPr>
          <p:spPr>
            <a:xfrm>
              <a:off x="1595520" y="2709720"/>
              <a:ext cx="180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Line 39"/>
            <p:cNvSpPr/>
            <p:nvPr/>
          </p:nvSpPr>
          <p:spPr>
            <a:xfrm>
              <a:off x="5257800" y="2728800"/>
              <a:ext cx="0" cy="172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Rectangle 40"/>
            <p:cNvSpPr/>
            <p:nvPr/>
          </p:nvSpPr>
          <p:spPr>
            <a:xfrm>
              <a:off x="5253120" y="3852720"/>
              <a:ext cx="853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P*-CM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Rectangle 41"/>
            <p:cNvSpPr/>
            <p:nvPr/>
          </p:nvSpPr>
          <p:spPr>
            <a:xfrm>
              <a:off x="1376640" y="1638360"/>
              <a:ext cx="2534400" cy="81900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uanto más elástica sea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a demanda, menor será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l margen.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2 – El mon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El monopolio</a:t>
            </a:r>
            <a:endParaRPr b="1" lang="en-US" sz="3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Monopolio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1) 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Un vendedor, pero muchos compradores.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2)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Un producto (no hay bienes sustitutivos).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3)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262626"/>
                </a:solidFill>
                <a:latin typeface="Arial"/>
              </a:rPr>
              <a:t>Barreras de acceso.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2 – El mon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914400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f7f"/>
                </a:solidFill>
                <a:latin typeface="Arial"/>
              </a:rPr>
              <a:t>La fijación del precio basada en un margen: desde los supermercados hasta los pantalones vaqueros de diseño</a:t>
            </a:r>
            <a:endParaRPr b="1" lang="en-US" sz="2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upermercados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2" name="Line 8"/>
          <p:cNvSpPr/>
          <p:nvPr/>
        </p:nvSpPr>
        <p:spPr>
          <a:xfrm>
            <a:off x="2990880" y="4710240"/>
            <a:ext cx="2130480" cy="28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Line 9"/>
          <p:cNvSpPr/>
          <p:nvPr/>
        </p:nvSpPr>
        <p:spPr>
          <a:xfrm>
            <a:off x="5599080" y="4738680"/>
            <a:ext cx="7081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Rectangle 11"/>
          <p:cNvSpPr/>
          <p:nvPr/>
        </p:nvSpPr>
        <p:spPr>
          <a:xfrm>
            <a:off x="7898760" y="5445000"/>
            <a:ext cx="113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Rectangle 13"/>
          <p:cNvSpPr/>
          <p:nvPr/>
        </p:nvSpPr>
        <p:spPr>
          <a:xfrm>
            <a:off x="6654240" y="5445000"/>
            <a:ext cx="113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Rectangle 17"/>
          <p:cNvSpPr/>
          <p:nvPr/>
        </p:nvSpPr>
        <p:spPr>
          <a:xfrm>
            <a:off x="5054040" y="5445000"/>
            <a:ext cx="113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Rectangle 19"/>
          <p:cNvSpPr/>
          <p:nvPr/>
        </p:nvSpPr>
        <p:spPr>
          <a:xfrm>
            <a:off x="3895200" y="5445000"/>
            <a:ext cx="113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Rectangle 21"/>
          <p:cNvSpPr/>
          <p:nvPr/>
        </p:nvSpPr>
        <p:spPr>
          <a:xfrm>
            <a:off x="3229920" y="5445000"/>
            <a:ext cx="113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Rectangle 23"/>
          <p:cNvSpPr/>
          <p:nvPr/>
        </p:nvSpPr>
        <p:spPr>
          <a:xfrm>
            <a:off x="1991880" y="5445000"/>
            <a:ext cx="113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Rectangle 25"/>
          <p:cNvSpPr/>
          <p:nvPr/>
        </p:nvSpPr>
        <p:spPr>
          <a:xfrm>
            <a:off x="6120720" y="3673440"/>
            <a:ext cx="113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Rectangle 27"/>
          <p:cNvSpPr/>
          <p:nvPr/>
        </p:nvSpPr>
        <p:spPr>
          <a:xfrm>
            <a:off x="4284000" y="3673440"/>
            <a:ext cx="113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Rectangle 29"/>
          <p:cNvSpPr/>
          <p:nvPr/>
        </p:nvSpPr>
        <p:spPr>
          <a:xfrm>
            <a:off x="3422880" y="3673440"/>
            <a:ext cx="4606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ara un supermercado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Rectangle 30"/>
          <p:cNvSpPr/>
          <p:nvPr/>
        </p:nvSpPr>
        <p:spPr>
          <a:xfrm>
            <a:off x="2031480" y="3673440"/>
            <a:ext cx="113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Rectangle 31"/>
          <p:cNvSpPr/>
          <p:nvPr/>
        </p:nvSpPr>
        <p:spPr>
          <a:xfrm>
            <a:off x="1721880" y="3673440"/>
            <a:ext cx="339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Rectangle 33"/>
          <p:cNvSpPr/>
          <p:nvPr/>
        </p:nvSpPr>
        <p:spPr>
          <a:xfrm>
            <a:off x="3441240" y="3075120"/>
            <a:ext cx="113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Rectangle 35"/>
          <p:cNvSpPr/>
          <p:nvPr/>
        </p:nvSpPr>
        <p:spPr>
          <a:xfrm>
            <a:off x="2037960" y="3075120"/>
            <a:ext cx="113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Rectangle 36"/>
          <p:cNvSpPr/>
          <p:nvPr/>
        </p:nvSpPr>
        <p:spPr>
          <a:xfrm>
            <a:off x="1441440" y="3075120"/>
            <a:ext cx="4470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2. Productos idéntico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Rectangle 38"/>
          <p:cNvSpPr/>
          <p:nvPr/>
        </p:nvSpPr>
        <p:spPr>
          <a:xfrm>
            <a:off x="3519000" y="2476440"/>
            <a:ext cx="113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Rectangle 40"/>
          <p:cNvSpPr/>
          <p:nvPr/>
        </p:nvSpPr>
        <p:spPr>
          <a:xfrm>
            <a:off x="1814760" y="2476440"/>
            <a:ext cx="3453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Varias empresa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Rectangle 41"/>
          <p:cNvSpPr/>
          <p:nvPr/>
        </p:nvSpPr>
        <p:spPr>
          <a:xfrm>
            <a:off x="1694880" y="2476440"/>
            <a:ext cx="339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Rectangle 43"/>
          <p:cNvSpPr/>
          <p:nvPr/>
        </p:nvSpPr>
        <p:spPr>
          <a:xfrm>
            <a:off x="1617840" y="5451480"/>
            <a:ext cx="7526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os precios se establecen alrededor de un   10-11% superior al CM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Rectangle 48"/>
          <p:cNvSpPr/>
          <p:nvPr/>
        </p:nvSpPr>
        <p:spPr>
          <a:xfrm>
            <a:off x="6602400" y="4367160"/>
            <a:ext cx="16192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1,11(</a:t>
            </a:r>
            <a:r>
              <a:rPr b="1" i="1" lang="es-ES" sz="32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Rectangle 49"/>
          <p:cNvSpPr/>
          <p:nvPr/>
        </p:nvSpPr>
        <p:spPr>
          <a:xfrm>
            <a:off x="5776920" y="4822920"/>
            <a:ext cx="511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0,9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Rectangle 52"/>
          <p:cNvSpPr/>
          <p:nvPr/>
        </p:nvSpPr>
        <p:spPr>
          <a:xfrm>
            <a:off x="2919960" y="4703760"/>
            <a:ext cx="2331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</a:t>
            </a:r>
            <a:r>
              <a:rPr b="1" lang="es-ES" sz="42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r>
              <a:rPr b="1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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 0,1</a:t>
            </a:r>
            <a:r>
              <a:rPr b="1" lang="es-ES" sz="42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Rectangle 56"/>
          <p:cNvSpPr/>
          <p:nvPr/>
        </p:nvSpPr>
        <p:spPr>
          <a:xfrm>
            <a:off x="1929600" y="4540320"/>
            <a:ext cx="102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Rectangle 57"/>
          <p:cNvSpPr/>
          <p:nvPr/>
        </p:nvSpPr>
        <p:spPr>
          <a:xfrm>
            <a:off x="1721520" y="4540320"/>
            <a:ext cx="204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Rectangle 58"/>
          <p:cNvSpPr/>
          <p:nvPr/>
        </p:nvSpPr>
        <p:spPr>
          <a:xfrm>
            <a:off x="3268800" y="3679920"/>
            <a:ext cx="4093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Rectangle 60"/>
          <p:cNvSpPr/>
          <p:nvPr/>
        </p:nvSpPr>
        <p:spPr>
          <a:xfrm>
            <a:off x="5654160" y="4173480"/>
            <a:ext cx="6332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Times New Roman"/>
              </a:rPr>
              <a:t>C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Rectangle 61"/>
          <p:cNvSpPr/>
          <p:nvPr/>
        </p:nvSpPr>
        <p:spPr>
          <a:xfrm>
            <a:off x="3942720" y="4145040"/>
            <a:ext cx="6332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Times New Roman"/>
              </a:rPr>
              <a:t>C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Rectangle 62"/>
          <p:cNvSpPr/>
          <p:nvPr/>
        </p:nvSpPr>
        <p:spPr>
          <a:xfrm>
            <a:off x="2120040" y="4510080"/>
            <a:ext cx="249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Rectangle 63"/>
          <p:cNvSpPr/>
          <p:nvPr/>
        </p:nvSpPr>
        <p:spPr>
          <a:xfrm>
            <a:off x="2140200" y="3679920"/>
            <a:ext cx="2721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Rectangle 64"/>
          <p:cNvSpPr/>
          <p:nvPr/>
        </p:nvSpPr>
        <p:spPr>
          <a:xfrm>
            <a:off x="2378880" y="392760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Rectangle 65"/>
          <p:cNvSpPr/>
          <p:nvPr/>
        </p:nvSpPr>
        <p:spPr>
          <a:xfrm>
            <a:off x="6255720" y="4437000"/>
            <a:ext cx="3236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Rectangle 66"/>
          <p:cNvSpPr/>
          <p:nvPr/>
        </p:nvSpPr>
        <p:spPr>
          <a:xfrm>
            <a:off x="5127120" y="4408560"/>
            <a:ext cx="3236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Rectangle 69"/>
          <p:cNvSpPr/>
          <p:nvPr/>
        </p:nvSpPr>
        <p:spPr>
          <a:xfrm>
            <a:off x="2518920" y="4406760"/>
            <a:ext cx="3236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Rectangle 70"/>
          <p:cNvSpPr/>
          <p:nvPr/>
        </p:nvSpPr>
        <p:spPr>
          <a:xfrm>
            <a:off x="3120120" y="3633840"/>
            <a:ext cx="136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Rectangle 71"/>
          <p:cNvSpPr/>
          <p:nvPr/>
        </p:nvSpPr>
        <p:spPr>
          <a:xfrm>
            <a:off x="2696400" y="3633840"/>
            <a:ext cx="3236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2 – El mon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Las tiendas pequeñas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0" name="Line 12"/>
          <p:cNvSpPr/>
          <p:nvPr/>
        </p:nvSpPr>
        <p:spPr>
          <a:xfrm>
            <a:off x="2030400" y="4481640"/>
            <a:ext cx="17445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Line 13"/>
          <p:cNvSpPr/>
          <p:nvPr/>
        </p:nvSpPr>
        <p:spPr>
          <a:xfrm>
            <a:off x="4572000" y="4452840"/>
            <a:ext cx="6429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Rectangle 15"/>
          <p:cNvSpPr/>
          <p:nvPr/>
        </p:nvSpPr>
        <p:spPr>
          <a:xfrm>
            <a:off x="6588000" y="5370480"/>
            <a:ext cx="99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Rectangle 17"/>
          <p:cNvSpPr/>
          <p:nvPr/>
        </p:nvSpPr>
        <p:spPr>
          <a:xfrm>
            <a:off x="5459400" y="5370480"/>
            <a:ext cx="99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Rectangle 19"/>
          <p:cNvSpPr/>
          <p:nvPr/>
        </p:nvSpPr>
        <p:spPr>
          <a:xfrm>
            <a:off x="4616280" y="5370480"/>
            <a:ext cx="99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Rectangle 21"/>
          <p:cNvSpPr/>
          <p:nvPr/>
        </p:nvSpPr>
        <p:spPr>
          <a:xfrm>
            <a:off x="3565440" y="5370480"/>
            <a:ext cx="99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Rectangle 23"/>
          <p:cNvSpPr/>
          <p:nvPr/>
        </p:nvSpPr>
        <p:spPr>
          <a:xfrm>
            <a:off x="2962440" y="5370480"/>
            <a:ext cx="99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Rectangle 24"/>
          <p:cNvSpPr/>
          <p:nvPr/>
        </p:nvSpPr>
        <p:spPr>
          <a:xfrm>
            <a:off x="1052640" y="5313240"/>
            <a:ext cx="7629480" cy="7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os precios deben ser alrededor de u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25 por ciento mayores que el C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Rectangle 26"/>
          <p:cNvSpPr/>
          <p:nvPr/>
        </p:nvSpPr>
        <p:spPr>
          <a:xfrm>
            <a:off x="1874880" y="3654360"/>
            <a:ext cx="99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Rectangle 29"/>
          <p:cNvSpPr/>
          <p:nvPr/>
        </p:nvSpPr>
        <p:spPr>
          <a:xfrm>
            <a:off x="6486480" y="3075120"/>
            <a:ext cx="99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Rectangle 32"/>
          <p:cNvSpPr/>
          <p:nvPr/>
        </p:nvSpPr>
        <p:spPr>
          <a:xfrm>
            <a:off x="4205160" y="3075120"/>
            <a:ext cx="99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Rectangle 34"/>
          <p:cNvSpPr/>
          <p:nvPr/>
        </p:nvSpPr>
        <p:spPr>
          <a:xfrm>
            <a:off x="1127160" y="2955960"/>
            <a:ext cx="7377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Resultan más cómodas que los supermercado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Rectangle 39"/>
          <p:cNvSpPr/>
          <p:nvPr/>
        </p:nvSpPr>
        <p:spPr>
          <a:xfrm>
            <a:off x="4981680" y="2494080"/>
            <a:ext cx="99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Rectangle 41"/>
          <p:cNvSpPr/>
          <p:nvPr/>
        </p:nvSpPr>
        <p:spPr>
          <a:xfrm>
            <a:off x="4151160" y="2494080"/>
            <a:ext cx="99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Rectangle 43"/>
          <p:cNvSpPr/>
          <p:nvPr/>
        </p:nvSpPr>
        <p:spPr>
          <a:xfrm>
            <a:off x="3063960" y="2494080"/>
            <a:ext cx="99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Rectangle 44"/>
          <p:cNvSpPr/>
          <p:nvPr/>
        </p:nvSpPr>
        <p:spPr>
          <a:xfrm>
            <a:off x="1035000" y="1927080"/>
            <a:ext cx="7375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ecios más altos que los supermercado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Rectangle 51"/>
          <p:cNvSpPr/>
          <p:nvPr/>
        </p:nvSpPr>
        <p:spPr>
          <a:xfrm>
            <a:off x="5852520" y="4176720"/>
            <a:ext cx="1501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1,25 (</a:t>
            </a:r>
            <a:r>
              <a:rPr b="1" i="1" lang="es-ES" sz="28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Rectangle 54"/>
          <p:cNvSpPr/>
          <p:nvPr/>
        </p:nvSpPr>
        <p:spPr>
          <a:xfrm>
            <a:off x="4573800" y="4535640"/>
            <a:ext cx="445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0,8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Rectangle 59"/>
          <p:cNvSpPr/>
          <p:nvPr/>
        </p:nvSpPr>
        <p:spPr>
          <a:xfrm>
            <a:off x="1983960" y="4533840"/>
            <a:ext cx="1670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</a:t>
            </a:r>
            <a:r>
              <a:rPr b="1" lang="es-ES" sz="36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1/ </a:t>
            </a:r>
            <a:r>
              <a:rPr b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</a:t>
            </a:r>
            <a:r>
              <a:rPr b="1" lang="es-ES" sz="36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Rectangle 61"/>
          <p:cNvSpPr/>
          <p:nvPr/>
        </p:nvSpPr>
        <p:spPr>
          <a:xfrm>
            <a:off x="1052640" y="4205160"/>
            <a:ext cx="1006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i="1" lang="es-E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Rectangle 64"/>
          <p:cNvSpPr/>
          <p:nvPr/>
        </p:nvSpPr>
        <p:spPr>
          <a:xfrm>
            <a:off x="4572000" y="3851280"/>
            <a:ext cx="1311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Times New Roman"/>
              </a:rPr>
              <a:t>C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Rectangle 65"/>
          <p:cNvSpPr/>
          <p:nvPr/>
        </p:nvSpPr>
        <p:spPr>
          <a:xfrm>
            <a:off x="2627280" y="3933720"/>
            <a:ext cx="936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Times New Roman"/>
              </a:rPr>
              <a:t>C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Rectangle 67"/>
          <p:cNvSpPr/>
          <p:nvPr/>
        </p:nvSpPr>
        <p:spPr>
          <a:xfrm>
            <a:off x="1068480" y="3429000"/>
            <a:ext cx="2732040" cy="5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i="1" lang="es-ES" sz="28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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Rectangle 69"/>
          <p:cNvSpPr/>
          <p:nvPr/>
        </p:nvSpPr>
        <p:spPr>
          <a:xfrm>
            <a:off x="5343480" y="4189320"/>
            <a:ext cx="282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Rectangle 70"/>
          <p:cNvSpPr/>
          <p:nvPr/>
        </p:nvSpPr>
        <p:spPr>
          <a:xfrm>
            <a:off x="4081320" y="4132440"/>
            <a:ext cx="282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 type="title"/>
          </p:nvPr>
        </p:nvSpPr>
        <p:spPr>
          <a:xfrm>
            <a:off x="0" y="266400"/>
            <a:ext cx="914400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f7f"/>
                </a:solidFill>
                <a:latin typeface="Arial"/>
              </a:rPr>
              <a:t>La fijación del precio basada en un margen: desde los supermercados hasta los pantalones vaqueros de diseño</a:t>
            </a:r>
            <a:endParaRPr b="1" lang="en-US" sz="2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2 – El mon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PlaceHolder 1"/>
          <p:cNvSpPr>
            <a:spLocks noGrp="1"/>
          </p:cNvSpPr>
          <p:nvPr>
            <p:ph/>
          </p:nvPr>
        </p:nvSpPr>
        <p:spPr>
          <a:xfrm>
            <a:off x="1143000" y="2230560"/>
            <a:ext cx="7772400" cy="371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262626"/>
                </a:solidFill>
                <a:latin typeface="Arial"/>
              </a:rPr>
              <a:t>Las tiendas pequeñas tienen más poder de monopolio.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0128"/>
                </a:solidFill>
                <a:latin typeface="Arial"/>
              </a:rPr>
              <a:t>Pregunta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¿Las tiendas pequeñas obtienen más beneficios que los supermercados? 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8" name="Text Box 6"/>
          <p:cNvSpPr/>
          <p:nvPr/>
        </p:nvSpPr>
        <p:spPr>
          <a:xfrm>
            <a:off x="451800" y="1427040"/>
            <a:ext cx="3696480" cy="520560"/>
          </a:xfrm>
          <a:prstGeom prst="rect">
            <a:avLst/>
          </a:prstGeom>
          <a:solidFill>
            <a:srgbClr val="d8c0cb"/>
          </a:solidFill>
          <a:ln w="12600">
            <a:solidFill>
              <a:srgbClr val="37654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 tiendas pequeñ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 type="title"/>
          </p:nvPr>
        </p:nvSpPr>
        <p:spPr>
          <a:xfrm>
            <a:off x="0" y="266400"/>
            <a:ext cx="914400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f7f"/>
                </a:solidFill>
                <a:latin typeface="Arial"/>
              </a:rPr>
              <a:t>La fijación del precio basada en un margen: desde los supermercados hasta los pantalones vaqueros de diseño</a:t>
            </a:r>
            <a:endParaRPr b="1" lang="en-US" sz="2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2 – El mon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1"/>
          <p:cNvSpPr>
            <a:spLocks noGrp="1"/>
          </p:cNvSpPr>
          <p:nvPr>
            <p:ph/>
          </p:nvPr>
        </p:nvSpPr>
        <p:spPr>
          <a:xfrm>
            <a:off x="1143000" y="2212560"/>
            <a:ext cx="7772400" cy="373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Pantalones vaqueros de diseño: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2" marL="1143000" indent="0">
              <a:spcBef>
                <a:spcPts val="118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E</a:t>
            </a:r>
            <a:r>
              <a:rPr b="0" i="1" lang="en-US" sz="2800" spc="-1" strike="noStrike" baseline="-25000">
                <a:solidFill>
                  <a:srgbClr val="262626"/>
                </a:solidFill>
                <a:latin typeface="Arial"/>
              </a:rPr>
              <a:t>d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  = -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3 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ó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 -4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2" marL="1143000" indent="-228600">
              <a:spcBef>
                <a:spcPts val="1188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Precio 33 - 50% &gt; 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CM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2" marL="1143000" indent="-228600">
              <a:spcBef>
                <a:spcPts val="1188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CM = 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12$ - 18$ el par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2" marL="1143000" indent="-228600">
              <a:spcBef>
                <a:spcPts val="1188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Precio al por mayor = 18$ - 27$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2" name="Text Box 4"/>
          <p:cNvSpPr/>
          <p:nvPr/>
        </p:nvSpPr>
        <p:spPr>
          <a:xfrm>
            <a:off x="424800" y="1370160"/>
            <a:ext cx="5513040" cy="520560"/>
          </a:xfrm>
          <a:prstGeom prst="rect">
            <a:avLst/>
          </a:prstGeom>
          <a:solidFill>
            <a:srgbClr val="d8c0cb"/>
          </a:solidFill>
          <a:ln w="12600">
            <a:solidFill>
              <a:srgbClr val="37654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ntalones vaqueros de diseñ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 type="title"/>
          </p:nvPr>
        </p:nvSpPr>
        <p:spPr>
          <a:xfrm>
            <a:off x="0" y="266400"/>
            <a:ext cx="914400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f7f"/>
                </a:solidFill>
                <a:latin typeface="Arial"/>
              </a:rPr>
              <a:t>La fijación del precio basada en un margen: desde los supermercados hasta los pantalones vaqueros de diseño</a:t>
            </a:r>
            <a:endParaRPr b="1" lang="en-US" sz="2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550440" y="260280"/>
            <a:ext cx="798372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La fijación del precio de las cintas de vídeo pregrabadas</a:t>
            </a:r>
            <a:endParaRPr b="1" lang="en-US" sz="29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525" name="Text Box 4"/>
          <p:cNvSpPr/>
          <p:nvPr/>
        </p:nvSpPr>
        <p:spPr>
          <a:xfrm>
            <a:off x="0" y="13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1714680"/>
                <a:tab algn="ctr" pos="6572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8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Line 5"/>
          <p:cNvSpPr/>
          <p:nvPr/>
        </p:nvSpPr>
        <p:spPr>
          <a:xfrm>
            <a:off x="0" y="17128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Text Box 6"/>
          <p:cNvSpPr/>
          <p:nvPr/>
        </p:nvSpPr>
        <p:spPr>
          <a:xfrm>
            <a:off x="0" y="17175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628560"/>
                <a:tab algn="ctr" pos="3371760"/>
                <a:tab algn="ctr" pos="5143680"/>
                <a:tab algn="ctr" pos="77724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ítulo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    Preci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Título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   Preci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628560"/>
                <a:tab algn="ctr" pos="3371760"/>
                <a:tab algn="ctr" pos="5143680"/>
                <a:tab algn="ctr" pos="77724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 por menor ($)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               al por menor ($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Line 11"/>
          <p:cNvSpPr/>
          <p:nvPr/>
        </p:nvSpPr>
        <p:spPr>
          <a:xfrm>
            <a:off x="0" y="249552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Text Box 12"/>
          <p:cNvSpPr/>
          <p:nvPr/>
        </p:nvSpPr>
        <p:spPr>
          <a:xfrm>
            <a:off x="0" y="2595600"/>
            <a:ext cx="91440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14480"/>
                <a:tab algn="r" pos="4343400"/>
                <a:tab algn="l" pos="4572000"/>
                <a:tab algn="r" pos="851544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rple Ra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9,98$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stin Powe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,49$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14480"/>
                <a:tab algn="r" pos="4343400"/>
                <a:tab algn="l" pos="4572000"/>
                <a:tab algn="r" pos="851544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 busca del arca perdid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4,9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cho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7,9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14480"/>
                <a:tab algn="r" pos="4343400"/>
                <a:tab algn="l" pos="4572000"/>
                <a:tab algn="r" pos="851544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erobic con Jane Fond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9,9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go pasa con Mar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13,9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14480"/>
                <a:tab algn="r" pos="4343400"/>
                <a:tab algn="l" pos="4572000"/>
                <a:tab algn="r" pos="851544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 imperio contraatac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9,98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e-Bo Workou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4,4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14480"/>
                <a:tab algn="r" pos="4343400"/>
                <a:tab algn="l" pos="4572000"/>
                <a:tab algn="r" pos="851544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icial y caballer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4,9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ma letal 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,9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14480"/>
                <a:tab algn="r" pos="4343400"/>
                <a:tab algn="l" pos="4572000"/>
                <a:tab algn="r" pos="851544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 Trek: La películ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4,9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n in Blac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,9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14480"/>
                <a:tab algn="r" pos="4343400"/>
                <a:tab algn="l" pos="4572000"/>
                <a:tab algn="r" pos="851544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guerra de las galaxia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9,98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magedd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,8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¿Deberían bajar los productores el precio de las cintas de vídeo para aumentar las ventas y los ingresos?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 type="title"/>
          </p:nvPr>
        </p:nvSpPr>
        <p:spPr>
          <a:xfrm>
            <a:off x="550440" y="260280"/>
            <a:ext cx="798372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La fijación del precio de las cintas de vídeo pregrabadas</a:t>
            </a:r>
            <a:endParaRPr b="1" lang="en-US" sz="29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2 – El mon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0" y="190440"/>
            <a:ext cx="91440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Arial"/>
              </a:rPr>
              <a:t>Las fuentes del poder de monopolio</a:t>
            </a: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 </a:t>
            </a:r>
            <a:endParaRPr b="1" lang="en-US" sz="3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262626"/>
                </a:solidFill>
                <a:latin typeface="Arial"/>
              </a:rPr>
              <a:t>¿Por qué tienen unas empresas un poder de monopolio considerable y otras poco o ninguno?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262626"/>
                </a:solidFill>
                <a:latin typeface="Arial"/>
              </a:rPr>
              <a:t>El poder de monopolio depende de la elasticidad de la demanda de una empresa.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1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2 – El mon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PlaceHolder 1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La elasticidad de la demanda de una empresa depende de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1)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262626"/>
                </a:solidFill>
                <a:latin typeface="Arial"/>
              </a:rPr>
              <a:t>La elasticidad de la demanda del mercado.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2)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262626"/>
                </a:solidFill>
                <a:latin typeface="Arial"/>
              </a:rPr>
              <a:t>El número de empresas.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3) </a:t>
            </a:r>
            <a:r>
              <a:rPr b="0" lang="es-ES" sz="3200" spc="-1" strike="noStrike">
                <a:solidFill>
                  <a:srgbClr val="262626"/>
                </a:solidFill>
                <a:latin typeface="Arial"/>
              </a:rPr>
              <a:t>La relación entre las empresas.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 type="title"/>
          </p:nvPr>
        </p:nvSpPr>
        <p:spPr>
          <a:xfrm>
            <a:off x="0" y="190440"/>
            <a:ext cx="91440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Arial"/>
              </a:rPr>
              <a:t>Las fuentes del poder de monopolio</a:t>
            </a: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 </a:t>
            </a:r>
            <a:endParaRPr b="1" lang="en-US" sz="34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2 – El mon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Los costes sociales del poder de monopolio</a:t>
            </a:r>
            <a:endParaRPr b="1" lang="en-US" sz="29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Como consecuencia del poder de monopolio, los precios son más altos y la cantidad producida es menor. 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in embargo, ¿mejora o empeora el bienestar de los consumidores y los productores en su conjunto como consecuencia del poder de monopolio? 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1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1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2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2 – El mon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AutoShape 2"/>
          <p:cNvSpPr/>
          <p:nvPr/>
        </p:nvSpPr>
        <p:spPr>
          <a:xfrm>
            <a:off x="4495680" y="3359160"/>
            <a:ext cx="1219320" cy="762120"/>
          </a:xfrm>
          <a:prstGeom prst="rtTriangle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Freeform 3"/>
          <p:cNvSpPr/>
          <p:nvPr/>
        </p:nvSpPr>
        <p:spPr>
          <a:xfrm>
            <a:off x="4495680" y="4121280"/>
            <a:ext cx="1144800" cy="687240"/>
          </a:xfrm>
          <a:custGeom>
            <a:avLst/>
            <a:gdLst>
              <a:gd name="textAreaLeft" fmla="*/ 0 w 1144800"/>
              <a:gd name="textAreaRight" fmla="*/ 1145160 w 1144800"/>
              <a:gd name="textAreaTop" fmla="*/ 0 h 687240"/>
              <a:gd name="textAreaBottom" fmla="*/ 687600 h 687240"/>
            </a:gdLst>
            <a:ahLst/>
            <a:rect l="textAreaLeft" t="textAreaTop" r="textAreaRight" b="textAreaBottom"/>
            <a:pathLst>
              <a:path w="721" h="433">
                <a:moveTo>
                  <a:pt x="0" y="0"/>
                </a:moveTo>
                <a:lnTo>
                  <a:pt x="720" y="0"/>
                </a:lnTo>
                <a:lnTo>
                  <a:pt x="528" y="144"/>
                </a:lnTo>
                <a:lnTo>
                  <a:pt x="288" y="288"/>
                </a:lnTo>
                <a:lnTo>
                  <a:pt x="0" y="432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Rectangle 4"/>
          <p:cNvSpPr/>
          <p:nvPr/>
        </p:nvSpPr>
        <p:spPr>
          <a:xfrm>
            <a:off x="2209680" y="3359160"/>
            <a:ext cx="2286000" cy="7621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Rectangle 28"/>
          <p:cNvSpPr/>
          <p:nvPr/>
        </p:nvSpPr>
        <p:spPr>
          <a:xfrm>
            <a:off x="2880000" y="1982880"/>
            <a:ext cx="3557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cedente del consumidor perdi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Line 29"/>
          <p:cNvSpPr/>
          <p:nvPr/>
        </p:nvSpPr>
        <p:spPr>
          <a:xfrm flipH="1">
            <a:off x="3951000" y="2382840"/>
            <a:ext cx="328680" cy="1192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Line 30"/>
          <p:cNvSpPr/>
          <p:nvPr/>
        </p:nvSpPr>
        <p:spPr>
          <a:xfrm>
            <a:off x="4357800" y="2382840"/>
            <a:ext cx="366480" cy="1344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Rectangle 31"/>
          <p:cNvSpPr/>
          <p:nvPr/>
        </p:nvSpPr>
        <p:spPr>
          <a:xfrm>
            <a:off x="4493160" y="2744640"/>
            <a:ext cx="23227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érdida irrecuper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 eficienc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Line 32"/>
          <p:cNvSpPr/>
          <p:nvPr/>
        </p:nvSpPr>
        <p:spPr>
          <a:xfrm flipH="1">
            <a:off x="5094360" y="3297240"/>
            <a:ext cx="404640" cy="735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Line 33"/>
          <p:cNvSpPr/>
          <p:nvPr/>
        </p:nvSpPr>
        <p:spPr>
          <a:xfrm flipH="1">
            <a:off x="5322600" y="3297240"/>
            <a:ext cx="328680" cy="963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Rectangle 34"/>
          <p:cNvSpPr/>
          <p:nvPr/>
        </p:nvSpPr>
        <p:spPr>
          <a:xfrm>
            <a:off x="6515640" y="1403280"/>
            <a:ext cx="2388240" cy="10623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o el precio es má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to, los consumid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ierden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A+B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y 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tor gana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-C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Rectangle 27"/>
          <p:cNvSpPr/>
          <p:nvPr/>
        </p:nvSpPr>
        <p:spPr>
          <a:xfrm>
            <a:off x="4779720" y="4081320"/>
            <a:ext cx="365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Arial"/>
              </a:rPr>
              <a:t>Pérdida irrecuperable de eficiencia provocada por el poder de monopolio</a:t>
            </a:r>
            <a:endParaRPr b="1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554" name="Rectangle 6"/>
          <p:cNvSpPr/>
          <p:nvPr/>
        </p:nvSpPr>
        <p:spPr>
          <a:xfrm>
            <a:off x="3124080" y="6235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Line 7"/>
          <p:cNvSpPr/>
          <p:nvPr/>
        </p:nvSpPr>
        <p:spPr>
          <a:xfrm>
            <a:off x="2209680" y="1681200"/>
            <a:ext cx="0" cy="426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Line 8"/>
          <p:cNvSpPr/>
          <p:nvPr/>
        </p:nvSpPr>
        <p:spPr>
          <a:xfrm>
            <a:off x="2203560" y="5937120"/>
            <a:ext cx="4276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Rectangle 9"/>
          <p:cNvSpPr/>
          <p:nvPr/>
        </p:nvSpPr>
        <p:spPr>
          <a:xfrm>
            <a:off x="6470280" y="5862600"/>
            <a:ext cx="1159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tida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Line 10"/>
          <p:cNvSpPr/>
          <p:nvPr/>
        </p:nvSpPr>
        <p:spPr>
          <a:xfrm>
            <a:off x="2389320" y="2014560"/>
            <a:ext cx="3985920" cy="2462040"/>
          </a:xfrm>
          <a:prstGeom prst="line">
            <a:avLst/>
          </a:prstGeom>
          <a:ln w="507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Rectangle 11"/>
          <p:cNvSpPr/>
          <p:nvPr/>
        </p:nvSpPr>
        <p:spPr>
          <a:xfrm>
            <a:off x="6471360" y="4421160"/>
            <a:ext cx="605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Line 12"/>
          <p:cNvSpPr/>
          <p:nvPr/>
        </p:nvSpPr>
        <p:spPr>
          <a:xfrm>
            <a:off x="2389320" y="2243160"/>
            <a:ext cx="2690640" cy="3147840"/>
          </a:xfrm>
          <a:prstGeom prst="line">
            <a:avLst/>
          </a:prstGeom>
          <a:ln w="507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Rectangle 13"/>
          <p:cNvSpPr/>
          <p:nvPr/>
        </p:nvSpPr>
        <p:spPr>
          <a:xfrm>
            <a:off x="5100120" y="5335560"/>
            <a:ext cx="463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2" name="Group 37"/>
          <p:cNvGrpSpPr/>
          <p:nvPr/>
        </p:nvGrpSpPr>
        <p:grpSpPr>
          <a:xfrm>
            <a:off x="3352680" y="2516040"/>
            <a:ext cx="3772800" cy="2751120"/>
            <a:chOff x="3352680" y="2516040"/>
            <a:chExt cx="3772800" cy="2751120"/>
          </a:xfrm>
        </p:grpSpPr>
        <p:sp>
          <p:nvSpPr>
            <p:cNvPr id="1563" name="Freeform 14"/>
            <p:cNvSpPr/>
            <p:nvPr/>
          </p:nvSpPr>
          <p:spPr>
            <a:xfrm>
              <a:off x="3352680" y="3046320"/>
              <a:ext cx="3473640" cy="2220840"/>
            </a:xfrm>
            <a:custGeom>
              <a:avLst/>
              <a:gdLst>
                <a:gd name="textAreaLeft" fmla="*/ 0 w 3473640"/>
                <a:gd name="textAreaRight" fmla="*/ 3474000 w 3473640"/>
                <a:gd name="textAreaTop" fmla="*/ 0 h 2220840"/>
                <a:gd name="textAreaBottom" fmla="*/ 2221200 h 2220840"/>
              </a:gdLst>
              <a:ahLst/>
              <a:rect l="textAreaLeft" t="textAreaTop" r="textAreaRight" b="textAreaBottom"/>
              <a:pathLst>
                <a:path w="2188" h="1399">
                  <a:moveTo>
                    <a:pt x="0" y="1398"/>
                  </a:moveTo>
                  <a:lnTo>
                    <a:pt x="295" y="1280"/>
                  </a:lnTo>
                  <a:lnTo>
                    <a:pt x="584" y="1161"/>
                  </a:lnTo>
                  <a:lnTo>
                    <a:pt x="853" y="1043"/>
                  </a:lnTo>
                  <a:lnTo>
                    <a:pt x="976" y="984"/>
                  </a:lnTo>
                  <a:lnTo>
                    <a:pt x="1093" y="919"/>
                  </a:lnTo>
                  <a:lnTo>
                    <a:pt x="1307" y="785"/>
                  </a:lnTo>
                  <a:lnTo>
                    <a:pt x="1499" y="645"/>
                  </a:lnTo>
                  <a:lnTo>
                    <a:pt x="1664" y="511"/>
                  </a:lnTo>
                  <a:lnTo>
                    <a:pt x="1816" y="387"/>
                  </a:lnTo>
                  <a:lnTo>
                    <a:pt x="1939" y="274"/>
                  </a:lnTo>
                  <a:lnTo>
                    <a:pt x="2043" y="167"/>
                  </a:lnTo>
                  <a:lnTo>
                    <a:pt x="2125" y="75"/>
                  </a:lnTo>
                  <a:lnTo>
                    <a:pt x="2159" y="32"/>
                  </a:lnTo>
                  <a:lnTo>
                    <a:pt x="2187" y="0"/>
                  </a:lnTo>
                </a:path>
              </a:pathLst>
            </a:custGeom>
            <a:noFill/>
            <a:ln cap="rnd" w="507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Rectangle 15"/>
            <p:cNvSpPr/>
            <p:nvPr/>
          </p:nvSpPr>
          <p:spPr>
            <a:xfrm>
              <a:off x="6547680" y="2516040"/>
              <a:ext cx="577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MC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5" name="Group 39"/>
          <p:cNvGrpSpPr/>
          <p:nvPr/>
        </p:nvGrpSpPr>
        <p:grpSpPr>
          <a:xfrm>
            <a:off x="1662120" y="3963960"/>
            <a:ext cx="4234680" cy="2340720"/>
            <a:chOff x="1662120" y="3963960"/>
            <a:chExt cx="4234680" cy="2340720"/>
          </a:xfrm>
        </p:grpSpPr>
        <p:sp>
          <p:nvSpPr>
            <p:cNvPr id="1566" name="Rectangle 21"/>
            <p:cNvSpPr/>
            <p:nvPr/>
          </p:nvSpPr>
          <p:spPr>
            <a:xfrm>
              <a:off x="5410800" y="5869080"/>
              <a:ext cx="48600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Line 22"/>
            <p:cNvSpPr/>
            <p:nvPr/>
          </p:nvSpPr>
          <p:spPr>
            <a:xfrm>
              <a:off x="5715000" y="4059360"/>
              <a:ext cx="0" cy="18777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Oval 23"/>
            <p:cNvSpPr/>
            <p:nvPr/>
          </p:nvSpPr>
          <p:spPr>
            <a:xfrm>
              <a:off x="5638680" y="404496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Line 24"/>
            <p:cNvSpPr/>
            <p:nvPr/>
          </p:nvSpPr>
          <p:spPr>
            <a:xfrm flipH="1">
              <a:off x="2198520" y="4121280"/>
              <a:ext cx="34531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Rectangle 25"/>
            <p:cNvSpPr/>
            <p:nvPr/>
          </p:nvSpPr>
          <p:spPr>
            <a:xfrm>
              <a:off x="1662120" y="3963960"/>
              <a:ext cx="45720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1" name="Group 38"/>
          <p:cNvGrpSpPr/>
          <p:nvPr/>
        </p:nvGrpSpPr>
        <p:grpSpPr>
          <a:xfrm>
            <a:off x="1663200" y="3166920"/>
            <a:ext cx="3116160" cy="3137760"/>
            <a:chOff x="1663200" y="3166920"/>
            <a:chExt cx="3116160" cy="3137760"/>
          </a:xfrm>
        </p:grpSpPr>
        <p:sp>
          <p:nvSpPr>
            <p:cNvPr id="1572" name="Line 16"/>
            <p:cNvSpPr/>
            <p:nvPr/>
          </p:nvSpPr>
          <p:spPr>
            <a:xfrm>
              <a:off x="4495680" y="3479760"/>
              <a:ext cx="0" cy="24573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Oval 17"/>
            <p:cNvSpPr/>
            <p:nvPr/>
          </p:nvSpPr>
          <p:spPr>
            <a:xfrm>
              <a:off x="4437000" y="469584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Oval 18"/>
            <p:cNvSpPr/>
            <p:nvPr/>
          </p:nvSpPr>
          <p:spPr>
            <a:xfrm>
              <a:off x="4419720" y="328284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Line 19"/>
            <p:cNvSpPr/>
            <p:nvPr/>
          </p:nvSpPr>
          <p:spPr>
            <a:xfrm flipH="1">
              <a:off x="2198160" y="3359160"/>
              <a:ext cx="22338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Rectangle 20"/>
            <p:cNvSpPr/>
            <p:nvPr/>
          </p:nvSpPr>
          <p:spPr>
            <a:xfrm>
              <a:off x="1663200" y="3166920"/>
              <a:ext cx="48168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Rectangle 26"/>
            <p:cNvSpPr/>
            <p:nvPr/>
          </p:nvSpPr>
          <p:spPr>
            <a:xfrm>
              <a:off x="4268880" y="5869080"/>
              <a:ext cx="51048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8" name="Rectangle 35"/>
          <p:cNvSpPr/>
          <p:nvPr/>
        </p:nvSpPr>
        <p:spPr>
          <a:xfrm>
            <a:off x="1479240" y="1523880"/>
            <a:ext cx="550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/Q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1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2 – El mon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El monopolista es el lado de la oferta del mercado y tiene un control absoluto sobre la cantidad de producción que pone en venta. 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262626"/>
                </a:solidFill>
                <a:latin typeface="Arial"/>
              </a:rPr>
              <a:t>Los beneficios se maximizarán en el nivel de producción, cuando los ingresos marginales sean igual al coste marginal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El monopolio</a:t>
            </a:r>
            <a:endParaRPr b="1" lang="en-US" sz="34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2 – El mon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1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La búsqueda de rentas económicas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Las empresas gastan grandes cantidades de dinero para adquirir su poder de monopolio: 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2" marL="1143000" indent="-228600">
              <a:spcBef>
                <a:spcPts val="1188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La realización de presiones. 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2" marL="1143000" indent="-228600">
              <a:spcBef>
                <a:spcPts val="1188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La publicidad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2" marL="1143000" indent="-228600">
              <a:spcBef>
                <a:spcPts val="1188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La instalación de más capacidad de producción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Los costes sociales del poder de monopolio</a:t>
            </a:r>
            <a:endParaRPr b="1" lang="en-US" sz="29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2 – El mon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PlaceHolder 1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262626"/>
                </a:solidFill>
                <a:latin typeface="Arial"/>
              </a:rPr>
              <a:t>El incentivo económico se determina por las ganancias que proporciona a la empresa el poder de monopolio.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Cuanto mayor sea la transferencia de los consumidores a la empresa, mayor es el coste social del monopolio.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Los costes sociales del poder de monopolio</a:t>
            </a:r>
            <a:endParaRPr b="1" lang="en-US" sz="29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1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1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2 – El mon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PlaceHolder 1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En 1996, la empresa Archer Daniels Midland (ADM) presionó a la administración Clinton para que obligara a producir el etanol a partir del maíz. 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Pregunta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¿Por qué producir sólo a partir del maíz?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Los costes sociales del poder de monopolio</a:t>
            </a:r>
            <a:endParaRPr b="1" lang="en-US" sz="29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1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1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2 – El mon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1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La regulación de los precios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Recuerde que en los mercados competitivos, la regulación de los precios provoca una pérdida irrecuperable de eficiencia. 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0128"/>
                </a:solidFill>
                <a:latin typeface="Arial"/>
              </a:rPr>
              <a:t>Pregunta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¿Qué ocurre en el monopolio?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Los costes sociales del poder de monopolio</a:t>
            </a:r>
            <a:endParaRPr b="1" lang="en-US" sz="29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1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1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1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2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2 – El mon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Line 7"/>
          <p:cNvSpPr/>
          <p:nvPr/>
        </p:nvSpPr>
        <p:spPr>
          <a:xfrm>
            <a:off x="4446720" y="1855800"/>
            <a:ext cx="3605040" cy="2919240"/>
          </a:xfrm>
          <a:prstGeom prst="line">
            <a:avLst/>
          </a:prstGeom>
          <a:ln w="507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Rectangle 8"/>
          <p:cNvSpPr/>
          <p:nvPr/>
        </p:nvSpPr>
        <p:spPr>
          <a:xfrm>
            <a:off x="7920000" y="4719600"/>
            <a:ext cx="562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Line 12"/>
          <p:cNvSpPr/>
          <p:nvPr/>
        </p:nvSpPr>
        <p:spPr>
          <a:xfrm>
            <a:off x="3151080" y="2008080"/>
            <a:ext cx="2538360" cy="3986280"/>
          </a:xfrm>
          <a:prstGeom prst="line">
            <a:avLst/>
          </a:prstGeom>
          <a:ln w="507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Rectangle 13"/>
          <p:cNvSpPr/>
          <p:nvPr/>
        </p:nvSpPr>
        <p:spPr>
          <a:xfrm>
            <a:off x="2680920" y="1689120"/>
            <a:ext cx="43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Freeform 9"/>
          <p:cNvSpPr/>
          <p:nvPr/>
        </p:nvSpPr>
        <p:spPr>
          <a:xfrm>
            <a:off x="4687920" y="2595600"/>
            <a:ext cx="2097000" cy="2867040"/>
          </a:xfrm>
          <a:custGeom>
            <a:avLst/>
            <a:gdLst>
              <a:gd name="textAreaLeft" fmla="*/ 0 w 2097000"/>
              <a:gd name="textAreaRight" fmla="*/ 2097360 w 2097000"/>
              <a:gd name="textAreaTop" fmla="*/ 0 h 2867040"/>
              <a:gd name="textAreaBottom" fmla="*/ 2867400 h 2867040"/>
            </a:gdLst>
            <a:ahLst/>
            <a:rect l="textAreaLeft" t="textAreaTop" r="textAreaRight" b="textAreaBottom"/>
            <a:pathLst>
              <a:path w="1321" h="1806">
                <a:moveTo>
                  <a:pt x="0" y="1805"/>
                </a:moveTo>
                <a:lnTo>
                  <a:pt x="48" y="1755"/>
                </a:lnTo>
                <a:lnTo>
                  <a:pt x="117" y="1695"/>
                </a:lnTo>
                <a:lnTo>
                  <a:pt x="192" y="1623"/>
                </a:lnTo>
                <a:lnTo>
                  <a:pt x="281" y="1541"/>
                </a:lnTo>
                <a:lnTo>
                  <a:pt x="465" y="1365"/>
                </a:lnTo>
                <a:lnTo>
                  <a:pt x="547" y="1277"/>
                </a:lnTo>
                <a:lnTo>
                  <a:pt x="623" y="1194"/>
                </a:lnTo>
                <a:lnTo>
                  <a:pt x="759" y="1029"/>
                </a:lnTo>
                <a:lnTo>
                  <a:pt x="882" y="864"/>
                </a:lnTo>
                <a:lnTo>
                  <a:pt x="992" y="699"/>
                </a:lnTo>
                <a:lnTo>
                  <a:pt x="1088" y="539"/>
                </a:lnTo>
                <a:lnTo>
                  <a:pt x="1170" y="385"/>
                </a:lnTo>
                <a:lnTo>
                  <a:pt x="1231" y="236"/>
                </a:lnTo>
                <a:lnTo>
                  <a:pt x="1258" y="165"/>
                </a:lnTo>
                <a:lnTo>
                  <a:pt x="1279" y="104"/>
                </a:lnTo>
                <a:lnTo>
                  <a:pt x="1299" y="49"/>
                </a:lnTo>
                <a:lnTo>
                  <a:pt x="1320" y="0"/>
                </a:lnTo>
              </a:path>
            </a:pathLst>
          </a:custGeom>
          <a:noFill/>
          <a:ln cap="rnd" w="507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Rectangle 10"/>
          <p:cNvSpPr/>
          <p:nvPr/>
        </p:nvSpPr>
        <p:spPr>
          <a:xfrm>
            <a:off x="6472080" y="2128680"/>
            <a:ext cx="536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Oval 14"/>
          <p:cNvSpPr/>
          <p:nvPr/>
        </p:nvSpPr>
        <p:spPr>
          <a:xfrm>
            <a:off x="5029200" y="50292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Line 15"/>
          <p:cNvSpPr/>
          <p:nvPr/>
        </p:nvSpPr>
        <p:spPr>
          <a:xfrm>
            <a:off x="5105520" y="2452680"/>
            <a:ext cx="0" cy="35542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Oval 16"/>
          <p:cNvSpPr/>
          <p:nvPr/>
        </p:nvSpPr>
        <p:spPr>
          <a:xfrm>
            <a:off x="5029200" y="22860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Line 17"/>
          <p:cNvSpPr/>
          <p:nvPr/>
        </p:nvSpPr>
        <p:spPr>
          <a:xfrm flipH="1">
            <a:off x="2198520" y="2362320"/>
            <a:ext cx="29196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Rectangle 18"/>
          <p:cNvSpPr/>
          <p:nvPr/>
        </p:nvSpPr>
        <p:spPr>
          <a:xfrm>
            <a:off x="1757160" y="2178000"/>
            <a:ext cx="42084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Rectangle 19"/>
          <p:cNvSpPr/>
          <p:nvPr/>
        </p:nvSpPr>
        <p:spPr>
          <a:xfrm>
            <a:off x="4882680" y="5952960"/>
            <a:ext cx="4420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Freeform 26"/>
          <p:cNvSpPr/>
          <p:nvPr/>
        </p:nvSpPr>
        <p:spPr>
          <a:xfrm>
            <a:off x="2743200" y="3960720"/>
            <a:ext cx="5305320" cy="949320"/>
          </a:xfrm>
          <a:custGeom>
            <a:avLst/>
            <a:gdLst>
              <a:gd name="textAreaLeft" fmla="*/ 0 w 5305320"/>
              <a:gd name="textAreaRight" fmla="*/ 5305320 w 5305320"/>
              <a:gd name="textAreaTop" fmla="*/ 0 h 949320"/>
              <a:gd name="textAreaBottom" fmla="*/ 949680 h 949320"/>
            </a:gdLst>
            <a:ahLst/>
            <a:rect l="textAreaLeft" t="textAreaTop" r="textAreaRight" b="textAreaBottom"/>
            <a:pathLst>
              <a:path w="3342" h="598">
                <a:moveTo>
                  <a:pt x="0" y="129"/>
                </a:moveTo>
                <a:lnTo>
                  <a:pt x="64" y="159"/>
                </a:lnTo>
                <a:lnTo>
                  <a:pt x="154" y="199"/>
                </a:lnTo>
                <a:lnTo>
                  <a:pt x="251" y="244"/>
                </a:lnTo>
                <a:lnTo>
                  <a:pt x="364" y="293"/>
                </a:lnTo>
                <a:lnTo>
                  <a:pt x="486" y="343"/>
                </a:lnTo>
                <a:lnTo>
                  <a:pt x="608" y="393"/>
                </a:lnTo>
                <a:lnTo>
                  <a:pt x="729" y="438"/>
                </a:lnTo>
                <a:lnTo>
                  <a:pt x="843" y="473"/>
                </a:lnTo>
                <a:lnTo>
                  <a:pt x="1054" y="527"/>
                </a:lnTo>
                <a:lnTo>
                  <a:pt x="1265" y="572"/>
                </a:lnTo>
                <a:lnTo>
                  <a:pt x="1370" y="587"/>
                </a:lnTo>
                <a:lnTo>
                  <a:pt x="1484" y="597"/>
                </a:lnTo>
                <a:lnTo>
                  <a:pt x="1589" y="597"/>
                </a:lnTo>
                <a:lnTo>
                  <a:pt x="1703" y="592"/>
                </a:lnTo>
                <a:lnTo>
                  <a:pt x="1816" y="582"/>
                </a:lnTo>
                <a:lnTo>
                  <a:pt x="1938" y="557"/>
                </a:lnTo>
                <a:lnTo>
                  <a:pt x="2060" y="532"/>
                </a:lnTo>
                <a:lnTo>
                  <a:pt x="2181" y="497"/>
                </a:lnTo>
                <a:lnTo>
                  <a:pt x="2425" y="423"/>
                </a:lnTo>
                <a:lnTo>
                  <a:pt x="2538" y="383"/>
                </a:lnTo>
                <a:lnTo>
                  <a:pt x="2644" y="343"/>
                </a:lnTo>
                <a:lnTo>
                  <a:pt x="2749" y="303"/>
                </a:lnTo>
                <a:lnTo>
                  <a:pt x="2846" y="258"/>
                </a:lnTo>
                <a:lnTo>
                  <a:pt x="3041" y="164"/>
                </a:lnTo>
                <a:lnTo>
                  <a:pt x="3130" y="114"/>
                </a:lnTo>
                <a:lnTo>
                  <a:pt x="3211" y="69"/>
                </a:lnTo>
                <a:lnTo>
                  <a:pt x="3284" y="29"/>
                </a:lnTo>
                <a:lnTo>
                  <a:pt x="3341" y="0"/>
                </a:lnTo>
              </a:path>
            </a:pathLst>
          </a:custGeom>
          <a:noFill/>
          <a:ln cap="rnd" w="507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Rectangle 27"/>
          <p:cNvSpPr/>
          <p:nvPr/>
        </p:nvSpPr>
        <p:spPr>
          <a:xfrm>
            <a:off x="7920000" y="3500280"/>
            <a:ext cx="758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Line 20"/>
          <p:cNvSpPr/>
          <p:nvPr/>
        </p:nvSpPr>
        <p:spPr>
          <a:xfrm flipH="1">
            <a:off x="2198160" y="2666880"/>
            <a:ext cx="3224520" cy="0"/>
          </a:xfrm>
          <a:prstGeom prst="line">
            <a:avLst/>
          </a:prstGeom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Rectangle 21"/>
          <p:cNvSpPr/>
          <p:nvPr/>
        </p:nvSpPr>
        <p:spPr>
          <a:xfrm>
            <a:off x="1753200" y="2558880"/>
            <a:ext cx="3826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Oval 22"/>
          <p:cNvSpPr/>
          <p:nvPr/>
        </p:nvSpPr>
        <p:spPr>
          <a:xfrm>
            <a:off x="5410080" y="2590920"/>
            <a:ext cx="15264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Line 23"/>
          <p:cNvSpPr/>
          <p:nvPr/>
        </p:nvSpPr>
        <p:spPr>
          <a:xfrm>
            <a:off x="5486400" y="2757600"/>
            <a:ext cx="0" cy="3249360"/>
          </a:xfrm>
          <a:prstGeom prst="line">
            <a:avLst/>
          </a:prstGeom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Rectangle 24"/>
          <p:cNvSpPr/>
          <p:nvPr/>
        </p:nvSpPr>
        <p:spPr>
          <a:xfrm>
            <a:off x="5259960" y="5952960"/>
            <a:ext cx="4039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Rectangle 48"/>
          <p:cNvSpPr/>
          <p:nvPr/>
        </p:nvSpPr>
        <p:spPr>
          <a:xfrm>
            <a:off x="5779080" y="860400"/>
            <a:ext cx="2737080" cy="10958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va de ingreso margin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ando el precio se regul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 precio para que no se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erior a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Freeform 49"/>
          <p:cNvSpPr/>
          <p:nvPr/>
        </p:nvSpPr>
        <p:spPr>
          <a:xfrm>
            <a:off x="4575240" y="1601640"/>
            <a:ext cx="1066680" cy="99216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992160"/>
              <a:gd name="textAreaBottom" fmla="*/ 992520 h 992160"/>
            </a:gdLst>
            <a:ahLst/>
            <a:rect l="textAreaLeft" t="textAreaTop" r="textAreaRight" b="textAreaBottom"/>
            <a:pathLst>
              <a:path w="672" h="625">
                <a:moveTo>
                  <a:pt x="671" y="0"/>
                </a:moveTo>
                <a:lnTo>
                  <a:pt x="563" y="34"/>
                </a:lnTo>
                <a:lnTo>
                  <a:pt x="512" y="52"/>
                </a:lnTo>
                <a:lnTo>
                  <a:pt x="461" y="73"/>
                </a:lnTo>
                <a:lnTo>
                  <a:pt x="409" y="96"/>
                </a:lnTo>
                <a:lnTo>
                  <a:pt x="364" y="122"/>
                </a:lnTo>
                <a:lnTo>
                  <a:pt x="319" y="154"/>
                </a:lnTo>
                <a:lnTo>
                  <a:pt x="273" y="190"/>
                </a:lnTo>
                <a:lnTo>
                  <a:pt x="233" y="232"/>
                </a:lnTo>
                <a:lnTo>
                  <a:pt x="193" y="279"/>
                </a:lnTo>
                <a:lnTo>
                  <a:pt x="159" y="331"/>
                </a:lnTo>
                <a:lnTo>
                  <a:pt x="125" y="384"/>
                </a:lnTo>
                <a:lnTo>
                  <a:pt x="91" y="441"/>
                </a:lnTo>
                <a:lnTo>
                  <a:pt x="63" y="501"/>
                </a:lnTo>
                <a:lnTo>
                  <a:pt x="0" y="624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Freeform 50"/>
          <p:cNvSpPr/>
          <p:nvPr/>
        </p:nvSpPr>
        <p:spPr>
          <a:xfrm>
            <a:off x="5560920" y="2135160"/>
            <a:ext cx="614520" cy="1144440"/>
          </a:xfrm>
          <a:custGeom>
            <a:avLst/>
            <a:gdLst>
              <a:gd name="textAreaLeft" fmla="*/ 0 w 614520"/>
              <a:gd name="textAreaRight" fmla="*/ 614880 w 614520"/>
              <a:gd name="textAreaTop" fmla="*/ 0 h 1144440"/>
              <a:gd name="textAreaBottom" fmla="*/ 1144800 h 1144440"/>
            </a:gdLst>
            <a:ahLst/>
            <a:rect l="textAreaLeft" t="textAreaTop" r="textAreaRight" b="textAreaBottom"/>
            <a:pathLst>
              <a:path w="387" h="721">
                <a:moveTo>
                  <a:pt x="324" y="0"/>
                </a:moveTo>
                <a:lnTo>
                  <a:pt x="349" y="43"/>
                </a:lnTo>
                <a:lnTo>
                  <a:pt x="367" y="86"/>
                </a:lnTo>
                <a:lnTo>
                  <a:pt x="380" y="135"/>
                </a:lnTo>
                <a:lnTo>
                  <a:pt x="386" y="188"/>
                </a:lnTo>
                <a:lnTo>
                  <a:pt x="386" y="251"/>
                </a:lnTo>
                <a:lnTo>
                  <a:pt x="380" y="317"/>
                </a:lnTo>
                <a:lnTo>
                  <a:pt x="361" y="386"/>
                </a:lnTo>
                <a:lnTo>
                  <a:pt x="324" y="452"/>
                </a:lnTo>
                <a:lnTo>
                  <a:pt x="262" y="518"/>
                </a:lnTo>
                <a:lnTo>
                  <a:pt x="187" y="588"/>
                </a:lnTo>
                <a:lnTo>
                  <a:pt x="94" y="654"/>
                </a:lnTo>
                <a:lnTo>
                  <a:pt x="0" y="72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Oval 47"/>
          <p:cNvSpPr/>
          <p:nvPr/>
        </p:nvSpPr>
        <p:spPr>
          <a:xfrm>
            <a:off x="5425920" y="4619520"/>
            <a:ext cx="15264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Line 5"/>
          <p:cNvSpPr/>
          <p:nvPr/>
        </p:nvSpPr>
        <p:spPr>
          <a:xfrm>
            <a:off x="2203560" y="6006960"/>
            <a:ext cx="6054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Line 4"/>
          <p:cNvSpPr/>
          <p:nvPr/>
        </p:nvSpPr>
        <p:spPr>
          <a:xfrm>
            <a:off x="2209680" y="1751040"/>
            <a:ext cx="0" cy="426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Rectangle 46"/>
          <p:cNvSpPr/>
          <p:nvPr/>
        </p:nvSpPr>
        <p:spPr>
          <a:xfrm>
            <a:off x="682560" y="5172120"/>
            <a:ext cx="3241800" cy="6091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 el monopolio no es regulado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e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y cobra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Rectangle 51"/>
          <p:cNvSpPr/>
          <p:nvPr/>
        </p:nvSpPr>
        <p:spPr>
          <a:xfrm>
            <a:off x="7067520" y="2368440"/>
            <a:ext cx="2076480" cy="15357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7200" bIns="72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 los niveles de producción superiores a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, las curvas de ingreso medio y marginal y correspondientes son las originales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Arial"/>
              </a:rPr>
              <a:t>La regulación de los precios</a:t>
            </a: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620" name="Rectangle 3"/>
          <p:cNvSpPr/>
          <p:nvPr/>
        </p:nvSpPr>
        <p:spPr>
          <a:xfrm>
            <a:off x="3124080" y="6235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Rectangle 6"/>
          <p:cNvSpPr/>
          <p:nvPr/>
        </p:nvSpPr>
        <p:spPr>
          <a:xfrm>
            <a:off x="1520280" y="1593720"/>
            <a:ext cx="507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/Q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Rectangle 11"/>
          <p:cNvSpPr/>
          <p:nvPr/>
        </p:nvSpPr>
        <p:spPr>
          <a:xfrm>
            <a:off x="7862400" y="5985000"/>
            <a:ext cx="1047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tida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3" name="Group 58"/>
          <p:cNvGrpSpPr/>
          <p:nvPr/>
        </p:nvGrpSpPr>
        <p:grpSpPr>
          <a:xfrm>
            <a:off x="1307160" y="3198960"/>
            <a:ext cx="5271120" cy="3122640"/>
            <a:chOff x="1307160" y="3198960"/>
            <a:chExt cx="5271120" cy="3122640"/>
          </a:xfrm>
        </p:grpSpPr>
        <p:sp>
          <p:nvSpPr>
            <p:cNvPr id="1624" name="Oval 29"/>
            <p:cNvSpPr/>
            <p:nvPr/>
          </p:nvSpPr>
          <p:spPr>
            <a:xfrm>
              <a:off x="6324480" y="335556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Rectangle 30"/>
            <p:cNvSpPr/>
            <p:nvPr/>
          </p:nvSpPr>
          <p:spPr>
            <a:xfrm>
              <a:off x="1307160" y="3198960"/>
              <a:ext cx="81108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= P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Line 31"/>
            <p:cNvSpPr/>
            <p:nvPr/>
          </p:nvSpPr>
          <p:spPr>
            <a:xfrm>
              <a:off x="6400800" y="3446280"/>
              <a:ext cx="0" cy="25632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Rectangle 32"/>
            <p:cNvSpPr/>
            <p:nvPr/>
          </p:nvSpPr>
          <p:spPr>
            <a:xfrm>
              <a:off x="6174360" y="5955840"/>
              <a:ext cx="40392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Line 33"/>
            <p:cNvSpPr/>
            <p:nvPr/>
          </p:nvSpPr>
          <p:spPr>
            <a:xfrm flipH="1">
              <a:off x="2198160" y="3431880"/>
              <a:ext cx="40626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9" name="Group 59"/>
          <p:cNvGrpSpPr/>
          <p:nvPr/>
        </p:nvGrpSpPr>
        <p:grpSpPr>
          <a:xfrm>
            <a:off x="1829520" y="3443400"/>
            <a:ext cx="5643720" cy="2875320"/>
            <a:chOff x="1829520" y="3443400"/>
            <a:chExt cx="5643720" cy="2875320"/>
          </a:xfrm>
        </p:grpSpPr>
        <p:sp>
          <p:nvSpPr>
            <p:cNvPr id="1630" name="Rectangle 34"/>
            <p:cNvSpPr/>
            <p:nvPr/>
          </p:nvSpPr>
          <p:spPr>
            <a:xfrm>
              <a:off x="1829520" y="3881520"/>
              <a:ext cx="38268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Line 35"/>
            <p:cNvSpPr/>
            <p:nvPr/>
          </p:nvSpPr>
          <p:spPr>
            <a:xfrm flipH="1">
              <a:off x="2198160" y="4114800"/>
              <a:ext cx="49834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Oval 37"/>
            <p:cNvSpPr/>
            <p:nvPr/>
          </p:nvSpPr>
          <p:spPr>
            <a:xfrm>
              <a:off x="7162920" y="4038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Line 39"/>
            <p:cNvSpPr/>
            <p:nvPr/>
          </p:nvSpPr>
          <p:spPr>
            <a:xfrm>
              <a:off x="7238880" y="4129200"/>
              <a:ext cx="0" cy="18777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Oval 36"/>
            <p:cNvSpPr/>
            <p:nvPr/>
          </p:nvSpPr>
          <p:spPr>
            <a:xfrm>
              <a:off x="5867280" y="4038480"/>
              <a:ext cx="15264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Line 38"/>
            <p:cNvSpPr/>
            <p:nvPr/>
          </p:nvSpPr>
          <p:spPr>
            <a:xfrm>
              <a:off x="5943600" y="3443400"/>
              <a:ext cx="0" cy="25635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Rectangle 40"/>
            <p:cNvSpPr/>
            <p:nvPr/>
          </p:nvSpPr>
          <p:spPr>
            <a:xfrm>
              <a:off x="5717160" y="5952960"/>
              <a:ext cx="40392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Rectangle 41"/>
            <p:cNvSpPr/>
            <p:nvPr/>
          </p:nvSpPr>
          <p:spPr>
            <a:xfrm>
              <a:off x="7012800" y="5952960"/>
              <a:ext cx="46044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Q’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8" name="Group 60"/>
          <p:cNvGrpSpPr/>
          <p:nvPr/>
        </p:nvGrpSpPr>
        <p:grpSpPr>
          <a:xfrm>
            <a:off x="1829520" y="4567320"/>
            <a:ext cx="3745800" cy="365760"/>
            <a:chOff x="1829520" y="4567320"/>
            <a:chExt cx="3745800" cy="365760"/>
          </a:xfrm>
        </p:grpSpPr>
        <p:sp>
          <p:nvSpPr>
            <p:cNvPr id="1639" name="Line 42"/>
            <p:cNvSpPr/>
            <p:nvPr/>
          </p:nvSpPr>
          <p:spPr>
            <a:xfrm flipH="1">
              <a:off x="2198520" y="4876920"/>
              <a:ext cx="3376800" cy="0"/>
            </a:xfrm>
            <a:prstGeom prst="line">
              <a:avLst/>
            </a:prstGeom>
            <a:ln w="255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Rectangle 43"/>
            <p:cNvSpPr/>
            <p:nvPr/>
          </p:nvSpPr>
          <p:spPr>
            <a:xfrm>
              <a:off x="1829520" y="4567320"/>
              <a:ext cx="38268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3300"/>
                  </a:solidFill>
                  <a:latin typeface="Arial"/>
                </a:rPr>
                <a:t>P</a:t>
              </a:r>
              <a:r>
                <a:rPr b="1" i="1" lang="en-US" sz="1600" spc="-1" strike="noStrike" baseline="-25000">
                  <a:solidFill>
                    <a:srgbClr val="ff3300"/>
                  </a:solidFill>
                  <a:latin typeface="Arial"/>
                </a:rPr>
                <a:t>4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1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1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1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1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1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2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2 – El mon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Line 2"/>
          <p:cNvSpPr/>
          <p:nvPr/>
        </p:nvSpPr>
        <p:spPr>
          <a:xfrm>
            <a:off x="4446720" y="1855800"/>
            <a:ext cx="3605040" cy="2919240"/>
          </a:xfrm>
          <a:prstGeom prst="line">
            <a:avLst/>
          </a:prstGeom>
          <a:ln w="507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Rectangle 3"/>
          <p:cNvSpPr/>
          <p:nvPr/>
        </p:nvSpPr>
        <p:spPr>
          <a:xfrm>
            <a:off x="7920000" y="4719600"/>
            <a:ext cx="562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Line 4"/>
          <p:cNvSpPr/>
          <p:nvPr/>
        </p:nvSpPr>
        <p:spPr>
          <a:xfrm>
            <a:off x="3151080" y="2008080"/>
            <a:ext cx="2538360" cy="3986280"/>
          </a:xfrm>
          <a:prstGeom prst="line">
            <a:avLst/>
          </a:prstGeom>
          <a:ln w="507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Rectangle 5"/>
          <p:cNvSpPr/>
          <p:nvPr/>
        </p:nvSpPr>
        <p:spPr>
          <a:xfrm>
            <a:off x="2680920" y="1689120"/>
            <a:ext cx="43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Freeform 6"/>
          <p:cNvSpPr/>
          <p:nvPr/>
        </p:nvSpPr>
        <p:spPr>
          <a:xfrm>
            <a:off x="4687920" y="2595600"/>
            <a:ext cx="2097000" cy="2867040"/>
          </a:xfrm>
          <a:custGeom>
            <a:avLst/>
            <a:gdLst>
              <a:gd name="textAreaLeft" fmla="*/ 0 w 2097000"/>
              <a:gd name="textAreaRight" fmla="*/ 2097360 w 2097000"/>
              <a:gd name="textAreaTop" fmla="*/ 0 h 2867040"/>
              <a:gd name="textAreaBottom" fmla="*/ 2867400 h 2867040"/>
            </a:gdLst>
            <a:ahLst/>
            <a:rect l="textAreaLeft" t="textAreaTop" r="textAreaRight" b="textAreaBottom"/>
            <a:pathLst>
              <a:path w="1321" h="1806">
                <a:moveTo>
                  <a:pt x="0" y="1805"/>
                </a:moveTo>
                <a:lnTo>
                  <a:pt x="48" y="1755"/>
                </a:lnTo>
                <a:lnTo>
                  <a:pt x="117" y="1695"/>
                </a:lnTo>
                <a:lnTo>
                  <a:pt x="192" y="1623"/>
                </a:lnTo>
                <a:lnTo>
                  <a:pt x="281" y="1541"/>
                </a:lnTo>
                <a:lnTo>
                  <a:pt x="465" y="1365"/>
                </a:lnTo>
                <a:lnTo>
                  <a:pt x="547" y="1277"/>
                </a:lnTo>
                <a:lnTo>
                  <a:pt x="623" y="1194"/>
                </a:lnTo>
                <a:lnTo>
                  <a:pt x="759" y="1029"/>
                </a:lnTo>
                <a:lnTo>
                  <a:pt x="882" y="864"/>
                </a:lnTo>
                <a:lnTo>
                  <a:pt x="992" y="699"/>
                </a:lnTo>
                <a:lnTo>
                  <a:pt x="1088" y="539"/>
                </a:lnTo>
                <a:lnTo>
                  <a:pt x="1170" y="385"/>
                </a:lnTo>
                <a:lnTo>
                  <a:pt x="1231" y="236"/>
                </a:lnTo>
                <a:lnTo>
                  <a:pt x="1258" y="165"/>
                </a:lnTo>
                <a:lnTo>
                  <a:pt x="1279" y="104"/>
                </a:lnTo>
                <a:lnTo>
                  <a:pt x="1299" y="49"/>
                </a:lnTo>
                <a:lnTo>
                  <a:pt x="1320" y="0"/>
                </a:lnTo>
              </a:path>
            </a:pathLst>
          </a:custGeom>
          <a:noFill/>
          <a:ln cap="rnd" w="507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Rectangle 7"/>
          <p:cNvSpPr/>
          <p:nvPr/>
        </p:nvSpPr>
        <p:spPr>
          <a:xfrm>
            <a:off x="6472080" y="2128680"/>
            <a:ext cx="536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Oval 8"/>
          <p:cNvSpPr/>
          <p:nvPr/>
        </p:nvSpPr>
        <p:spPr>
          <a:xfrm>
            <a:off x="5029200" y="50292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Line 9"/>
          <p:cNvSpPr/>
          <p:nvPr/>
        </p:nvSpPr>
        <p:spPr>
          <a:xfrm>
            <a:off x="5105520" y="2452680"/>
            <a:ext cx="0" cy="35542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Oval 10"/>
          <p:cNvSpPr/>
          <p:nvPr/>
        </p:nvSpPr>
        <p:spPr>
          <a:xfrm>
            <a:off x="5029200" y="22860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Line 11"/>
          <p:cNvSpPr/>
          <p:nvPr/>
        </p:nvSpPr>
        <p:spPr>
          <a:xfrm flipH="1">
            <a:off x="2198520" y="2362320"/>
            <a:ext cx="29196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Rectangle 12"/>
          <p:cNvSpPr/>
          <p:nvPr/>
        </p:nvSpPr>
        <p:spPr>
          <a:xfrm>
            <a:off x="1757160" y="2178000"/>
            <a:ext cx="42084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Rectangle 13"/>
          <p:cNvSpPr/>
          <p:nvPr/>
        </p:nvSpPr>
        <p:spPr>
          <a:xfrm>
            <a:off x="4882680" y="5952960"/>
            <a:ext cx="4420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Freeform 14"/>
          <p:cNvSpPr/>
          <p:nvPr/>
        </p:nvSpPr>
        <p:spPr>
          <a:xfrm>
            <a:off x="2743200" y="3960720"/>
            <a:ext cx="5305320" cy="949320"/>
          </a:xfrm>
          <a:custGeom>
            <a:avLst/>
            <a:gdLst>
              <a:gd name="textAreaLeft" fmla="*/ 0 w 5305320"/>
              <a:gd name="textAreaRight" fmla="*/ 5305320 w 5305320"/>
              <a:gd name="textAreaTop" fmla="*/ 0 h 949320"/>
              <a:gd name="textAreaBottom" fmla="*/ 949680 h 949320"/>
            </a:gdLst>
            <a:ahLst/>
            <a:rect l="textAreaLeft" t="textAreaTop" r="textAreaRight" b="textAreaBottom"/>
            <a:pathLst>
              <a:path w="3342" h="598">
                <a:moveTo>
                  <a:pt x="0" y="129"/>
                </a:moveTo>
                <a:lnTo>
                  <a:pt x="64" y="159"/>
                </a:lnTo>
                <a:lnTo>
                  <a:pt x="154" y="199"/>
                </a:lnTo>
                <a:lnTo>
                  <a:pt x="251" y="244"/>
                </a:lnTo>
                <a:lnTo>
                  <a:pt x="364" y="293"/>
                </a:lnTo>
                <a:lnTo>
                  <a:pt x="486" y="343"/>
                </a:lnTo>
                <a:lnTo>
                  <a:pt x="608" y="393"/>
                </a:lnTo>
                <a:lnTo>
                  <a:pt x="729" y="438"/>
                </a:lnTo>
                <a:lnTo>
                  <a:pt x="843" y="473"/>
                </a:lnTo>
                <a:lnTo>
                  <a:pt x="1054" y="527"/>
                </a:lnTo>
                <a:lnTo>
                  <a:pt x="1265" y="572"/>
                </a:lnTo>
                <a:lnTo>
                  <a:pt x="1370" y="587"/>
                </a:lnTo>
                <a:lnTo>
                  <a:pt x="1484" y="597"/>
                </a:lnTo>
                <a:lnTo>
                  <a:pt x="1589" y="597"/>
                </a:lnTo>
                <a:lnTo>
                  <a:pt x="1703" y="592"/>
                </a:lnTo>
                <a:lnTo>
                  <a:pt x="1816" y="582"/>
                </a:lnTo>
                <a:lnTo>
                  <a:pt x="1938" y="557"/>
                </a:lnTo>
                <a:lnTo>
                  <a:pt x="2060" y="532"/>
                </a:lnTo>
                <a:lnTo>
                  <a:pt x="2181" y="497"/>
                </a:lnTo>
                <a:lnTo>
                  <a:pt x="2425" y="423"/>
                </a:lnTo>
                <a:lnTo>
                  <a:pt x="2538" y="383"/>
                </a:lnTo>
                <a:lnTo>
                  <a:pt x="2644" y="343"/>
                </a:lnTo>
                <a:lnTo>
                  <a:pt x="2749" y="303"/>
                </a:lnTo>
                <a:lnTo>
                  <a:pt x="2846" y="258"/>
                </a:lnTo>
                <a:lnTo>
                  <a:pt x="3041" y="164"/>
                </a:lnTo>
                <a:lnTo>
                  <a:pt x="3130" y="114"/>
                </a:lnTo>
                <a:lnTo>
                  <a:pt x="3211" y="69"/>
                </a:lnTo>
                <a:lnTo>
                  <a:pt x="3284" y="29"/>
                </a:lnTo>
                <a:lnTo>
                  <a:pt x="3341" y="0"/>
                </a:lnTo>
              </a:path>
            </a:pathLst>
          </a:custGeom>
          <a:noFill/>
          <a:ln cap="rnd" w="507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Rectangle 15"/>
          <p:cNvSpPr/>
          <p:nvPr/>
        </p:nvSpPr>
        <p:spPr>
          <a:xfrm>
            <a:off x="7920000" y="3500280"/>
            <a:ext cx="758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Line 16"/>
          <p:cNvSpPr/>
          <p:nvPr/>
        </p:nvSpPr>
        <p:spPr>
          <a:xfrm flipH="1">
            <a:off x="2198160" y="2666880"/>
            <a:ext cx="3224520" cy="0"/>
          </a:xfrm>
          <a:prstGeom prst="line">
            <a:avLst/>
          </a:prstGeom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Rectangle 17"/>
          <p:cNvSpPr/>
          <p:nvPr/>
        </p:nvSpPr>
        <p:spPr>
          <a:xfrm>
            <a:off x="1753200" y="2558880"/>
            <a:ext cx="3826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Oval 18"/>
          <p:cNvSpPr/>
          <p:nvPr/>
        </p:nvSpPr>
        <p:spPr>
          <a:xfrm>
            <a:off x="5410080" y="2590920"/>
            <a:ext cx="15264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Line 19"/>
          <p:cNvSpPr/>
          <p:nvPr/>
        </p:nvSpPr>
        <p:spPr>
          <a:xfrm>
            <a:off x="5486400" y="2757600"/>
            <a:ext cx="0" cy="3249360"/>
          </a:xfrm>
          <a:prstGeom prst="line">
            <a:avLst/>
          </a:prstGeom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Rectangle 20"/>
          <p:cNvSpPr/>
          <p:nvPr/>
        </p:nvSpPr>
        <p:spPr>
          <a:xfrm>
            <a:off x="5259960" y="5952960"/>
            <a:ext cx="4039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Rectangle 21"/>
          <p:cNvSpPr/>
          <p:nvPr/>
        </p:nvSpPr>
        <p:spPr>
          <a:xfrm>
            <a:off x="5779080" y="860400"/>
            <a:ext cx="2737080" cy="10958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va de ingreso margin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ando el precio se regul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 precio para que no se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erior a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Freeform 22"/>
          <p:cNvSpPr/>
          <p:nvPr/>
        </p:nvSpPr>
        <p:spPr>
          <a:xfrm>
            <a:off x="4575240" y="1601640"/>
            <a:ext cx="1066680" cy="99216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992160"/>
              <a:gd name="textAreaBottom" fmla="*/ 992520 h 992160"/>
            </a:gdLst>
            <a:ahLst/>
            <a:rect l="textAreaLeft" t="textAreaTop" r="textAreaRight" b="textAreaBottom"/>
            <a:pathLst>
              <a:path w="672" h="625">
                <a:moveTo>
                  <a:pt x="671" y="0"/>
                </a:moveTo>
                <a:lnTo>
                  <a:pt x="563" y="34"/>
                </a:lnTo>
                <a:lnTo>
                  <a:pt x="512" y="52"/>
                </a:lnTo>
                <a:lnTo>
                  <a:pt x="461" y="73"/>
                </a:lnTo>
                <a:lnTo>
                  <a:pt x="409" y="96"/>
                </a:lnTo>
                <a:lnTo>
                  <a:pt x="364" y="122"/>
                </a:lnTo>
                <a:lnTo>
                  <a:pt x="319" y="154"/>
                </a:lnTo>
                <a:lnTo>
                  <a:pt x="273" y="190"/>
                </a:lnTo>
                <a:lnTo>
                  <a:pt x="233" y="232"/>
                </a:lnTo>
                <a:lnTo>
                  <a:pt x="193" y="279"/>
                </a:lnTo>
                <a:lnTo>
                  <a:pt x="159" y="331"/>
                </a:lnTo>
                <a:lnTo>
                  <a:pt x="125" y="384"/>
                </a:lnTo>
                <a:lnTo>
                  <a:pt x="91" y="441"/>
                </a:lnTo>
                <a:lnTo>
                  <a:pt x="63" y="501"/>
                </a:lnTo>
                <a:lnTo>
                  <a:pt x="0" y="624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Freeform 23"/>
          <p:cNvSpPr/>
          <p:nvPr/>
        </p:nvSpPr>
        <p:spPr>
          <a:xfrm>
            <a:off x="5560920" y="2135160"/>
            <a:ext cx="614520" cy="1144440"/>
          </a:xfrm>
          <a:custGeom>
            <a:avLst/>
            <a:gdLst>
              <a:gd name="textAreaLeft" fmla="*/ 0 w 614520"/>
              <a:gd name="textAreaRight" fmla="*/ 614880 w 614520"/>
              <a:gd name="textAreaTop" fmla="*/ 0 h 1144440"/>
              <a:gd name="textAreaBottom" fmla="*/ 1144800 h 1144440"/>
            </a:gdLst>
            <a:ahLst/>
            <a:rect l="textAreaLeft" t="textAreaTop" r="textAreaRight" b="textAreaBottom"/>
            <a:pathLst>
              <a:path w="387" h="721">
                <a:moveTo>
                  <a:pt x="324" y="0"/>
                </a:moveTo>
                <a:lnTo>
                  <a:pt x="349" y="43"/>
                </a:lnTo>
                <a:lnTo>
                  <a:pt x="367" y="86"/>
                </a:lnTo>
                <a:lnTo>
                  <a:pt x="380" y="135"/>
                </a:lnTo>
                <a:lnTo>
                  <a:pt x="386" y="188"/>
                </a:lnTo>
                <a:lnTo>
                  <a:pt x="386" y="251"/>
                </a:lnTo>
                <a:lnTo>
                  <a:pt x="380" y="317"/>
                </a:lnTo>
                <a:lnTo>
                  <a:pt x="361" y="386"/>
                </a:lnTo>
                <a:lnTo>
                  <a:pt x="324" y="452"/>
                </a:lnTo>
                <a:lnTo>
                  <a:pt x="262" y="518"/>
                </a:lnTo>
                <a:lnTo>
                  <a:pt x="187" y="588"/>
                </a:lnTo>
                <a:lnTo>
                  <a:pt x="94" y="654"/>
                </a:lnTo>
                <a:lnTo>
                  <a:pt x="0" y="72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Oval 24"/>
          <p:cNvSpPr/>
          <p:nvPr/>
        </p:nvSpPr>
        <p:spPr>
          <a:xfrm>
            <a:off x="5425920" y="4619520"/>
            <a:ext cx="15264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Line 25"/>
          <p:cNvSpPr/>
          <p:nvPr/>
        </p:nvSpPr>
        <p:spPr>
          <a:xfrm>
            <a:off x="2203560" y="6006960"/>
            <a:ext cx="6054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Line 26"/>
          <p:cNvSpPr/>
          <p:nvPr/>
        </p:nvSpPr>
        <p:spPr>
          <a:xfrm>
            <a:off x="2209680" y="1751040"/>
            <a:ext cx="0" cy="426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Rectangle 29"/>
          <p:cNvSpPr/>
          <p:nvPr/>
        </p:nvSpPr>
        <p:spPr>
          <a:xfrm>
            <a:off x="0" y="5078520"/>
            <a:ext cx="4610160" cy="13320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7200" bIns="72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 se reduce el precio a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C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la producción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menta hasta su nivel máximo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y n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 produce una pérdida irrecuperable 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ficiencia. Si se reduce el precio a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l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ción disminuye, provocando escasez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Arial"/>
              </a:rPr>
              <a:t>La regulación de los precios</a:t>
            </a: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669" name="Rectangle 31"/>
          <p:cNvSpPr/>
          <p:nvPr/>
        </p:nvSpPr>
        <p:spPr>
          <a:xfrm>
            <a:off x="3124080" y="6235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Rectangle 32"/>
          <p:cNvSpPr/>
          <p:nvPr/>
        </p:nvSpPr>
        <p:spPr>
          <a:xfrm>
            <a:off x="1520280" y="1593720"/>
            <a:ext cx="507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/Q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Rectangle 33"/>
          <p:cNvSpPr/>
          <p:nvPr/>
        </p:nvSpPr>
        <p:spPr>
          <a:xfrm>
            <a:off x="7862400" y="5985000"/>
            <a:ext cx="1047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tida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2" name="Group 34"/>
          <p:cNvGrpSpPr/>
          <p:nvPr/>
        </p:nvGrpSpPr>
        <p:grpSpPr>
          <a:xfrm>
            <a:off x="1307160" y="3198960"/>
            <a:ext cx="5271120" cy="3122640"/>
            <a:chOff x="1307160" y="3198960"/>
            <a:chExt cx="5271120" cy="3122640"/>
          </a:xfrm>
        </p:grpSpPr>
        <p:sp>
          <p:nvSpPr>
            <p:cNvPr id="1673" name="Oval 35"/>
            <p:cNvSpPr/>
            <p:nvPr/>
          </p:nvSpPr>
          <p:spPr>
            <a:xfrm>
              <a:off x="6324480" y="335556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Rectangle 36"/>
            <p:cNvSpPr/>
            <p:nvPr/>
          </p:nvSpPr>
          <p:spPr>
            <a:xfrm>
              <a:off x="1307160" y="3198960"/>
              <a:ext cx="81108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= P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Line 37"/>
            <p:cNvSpPr/>
            <p:nvPr/>
          </p:nvSpPr>
          <p:spPr>
            <a:xfrm>
              <a:off x="6400800" y="3446280"/>
              <a:ext cx="0" cy="25632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Rectangle 38"/>
            <p:cNvSpPr/>
            <p:nvPr/>
          </p:nvSpPr>
          <p:spPr>
            <a:xfrm>
              <a:off x="6174360" y="5955840"/>
              <a:ext cx="40392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Line 39"/>
            <p:cNvSpPr/>
            <p:nvPr/>
          </p:nvSpPr>
          <p:spPr>
            <a:xfrm flipH="1">
              <a:off x="2198160" y="3431880"/>
              <a:ext cx="40626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8" name="Group 40"/>
          <p:cNvGrpSpPr/>
          <p:nvPr/>
        </p:nvGrpSpPr>
        <p:grpSpPr>
          <a:xfrm>
            <a:off x="1829520" y="3443400"/>
            <a:ext cx="5643720" cy="2875320"/>
            <a:chOff x="1829520" y="3443400"/>
            <a:chExt cx="5643720" cy="2875320"/>
          </a:xfrm>
        </p:grpSpPr>
        <p:sp>
          <p:nvSpPr>
            <p:cNvPr id="1679" name="Rectangle 41"/>
            <p:cNvSpPr/>
            <p:nvPr/>
          </p:nvSpPr>
          <p:spPr>
            <a:xfrm>
              <a:off x="1829520" y="3881520"/>
              <a:ext cx="38268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Line 42"/>
            <p:cNvSpPr/>
            <p:nvPr/>
          </p:nvSpPr>
          <p:spPr>
            <a:xfrm flipH="1">
              <a:off x="2198160" y="4114800"/>
              <a:ext cx="49834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Oval 43"/>
            <p:cNvSpPr/>
            <p:nvPr/>
          </p:nvSpPr>
          <p:spPr>
            <a:xfrm>
              <a:off x="7162920" y="4038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Line 44"/>
            <p:cNvSpPr/>
            <p:nvPr/>
          </p:nvSpPr>
          <p:spPr>
            <a:xfrm>
              <a:off x="7238880" y="4129200"/>
              <a:ext cx="0" cy="18777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Oval 45"/>
            <p:cNvSpPr/>
            <p:nvPr/>
          </p:nvSpPr>
          <p:spPr>
            <a:xfrm>
              <a:off x="5867280" y="4038480"/>
              <a:ext cx="15264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Line 46"/>
            <p:cNvSpPr/>
            <p:nvPr/>
          </p:nvSpPr>
          <p:spPr>
            <a:xfrm>
              <a:off x="5943600" y="3443400"/>
              <a:ext cx="0" cy="25635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Rectangle 47"/>
            <p:cNvSpPr/>
            <p:nvPr/>
          </p:nvSpPr>
          <p:spPr>
            <a:xfrm>
              <a:off x="5717160" y="5952960"/>
              <a:ext cx="40392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Rectangle 48"/>
            <p:cNvSpPr/>
            <p:nvPr/>
          </p:nvSpPr>
          <p:spPr>
            <a:xfrm>
              <a:off x="7012800" y="5952960"/>
              <a:ext cx="46044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Q’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7" name="Rectangle 49"/>
          <p:cNvSpPr/>
          <p:nvPr/>
        </p:nvSpPr>
        <p:spPr>
          <a:xfrm>
            <a:off x="447840" y="960480"/>
            <a:ext cx="3863520" cy="6091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alquier precio por debajo de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gnifica una pérdida para la empresa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8" name="Group 50"/>
          <p:cNvGrpSpPr/>
          <p:nvPr/>
        </p:nvGrpSpPr>
        <p:grpSpPr>
          <a:xfrm>
            <a:off x="1829520" y="4567320"/>
            <a:ext cx="3745800" cy="365760"/>
            <a:chOff x="1829520" y="4567320"/>
            <a:chExt cx="3745800" cy="365760"/>
          </a:xfrm>
        </p:grpSpPr>
        <p:sp>
          <p:nvSpPr>
            <p:cNvPr id="1689" name="Line 51"/>
            <p:cNvSpPr/>
            <p:nvPr/>
          </p:nvSpPr>
          <p:spPr>
            <a:xfrm flipH="1">
              <a:off x="2198520" y="4876920"/>
              <a:ext cx="3376800" cy="0"/>
            </a:xfrm>
            <a:prstGeom prst="line">
              <a:avLst/>
            </a:prstGeom>
            <a:ln w="255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Rectangle 52"/>
            <p:cNvSpPr/>
            <p:nvPr/>
          </p:nvSpPr>
          <p:spPr>
            <a:xfrm>
              <a:off x="1829520" y="4567320"/>
              <a:ext cx="38268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3300"/>
                  </a:solidFill>
                  <a:latin typeface="Arial"/>
                </a:rPr>
                <a:t>P</a:t>
              </a:r>
              <a:r>
                <a:rPr b="1" i="1" lang="en-US" sz="1600" spc="-1" strike="noStrike" baseline="-25000">
                  <a:solidFill>
                    <a:srgbClr val="ff3300"/>
                  </a:solidFill>
                  <a:latin typeface="Arial"/>
                </a:rPr>
                <a:t>4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1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1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1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1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2 – El mon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PlaceHolder 1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El monopolio natural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Empresa que puede producir toda la producción de una industria con un coste menor que si hubiera varias empresas. 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Los costes sociales del poder de monopolio</a:t>
            </a:r>
            <a:endParaRPr b="1" lang="en-US" sz="29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2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2 – El mon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550440" y="277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Arial"/>
              </a:rPr>
              <a:t>La regulación del precio de un monopolio natural </a:t>
            </a:r>
            <a:endParaRPr b="1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696" name="Rectangle 3"/>
          <p:cNvSpPr/>
          <p:nvPr/>
        </p:nvSpPr>
        <p:spPr>
          <a:xfrm>
            <a:off x="3124080" y="6235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Line 4"/>
          <p:cNvSpPr/>
          <p:nvPr/>
        </p:nvSpPr>
        <p:spPr>
          <a:xfrm>
            <a:off x="2209680" y="1716120"/>
            <a:ext cx="0" cy="426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Rectangle 6"/>
          <p:cNvSpPr/>
          <p:nvPr/>
        </p:nvSpPr>
        <p:spPr>
          <a:xfrm>
            <a:off x="1446120" y="1593720"/>
            <a:ext cx="577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$/Q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Rectangle 7"/>
          <p:cNvSpPr/>
          <p:nvPr/>
        </p:nvSpPr>
        <p:spPr>
          <a:xfrm>
            <a:off x="2855160" y="3278160"/>
            <a:ext cx="4128480" cy="11862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 monopolio natural sur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ando hay grande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onomías de escal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Line 8"/>
          <p:cNvSpPr/>
          <p:nvPr/>
        </p:nvSpPr>
        <p:spPr>
          <a:xfrm>
            <a:off x="2203560" y="5989680"/>
            <a:ext cx="5749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7732080" y="5948280"/>
            <a:ext cx="1047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tida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2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2 – El mon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3" name="Group 39"/>
          <p:cNvGrpSpPr/>
          <p:nvPr/>
        </p:nvGrpSpPr>
        <p:grpSpPr>
          <a:xfrm>
            <a:off x="2673360" y="2746440"/>
            <a:ext cx="4944960" cy="2184120"/>
            <a:chOff x="2673360" y="2746440"/>
            <a:chExt cx="4944960" cy="2184120"/>
          </a:xfrm>
        </p:grpSpPr>
        <p:sp>
          <p:nvSpPr>
            <p:cNvPr id="1704" name="Freeform 2"/>
            <p:cNvSpPr/>
            <p:nvPr/>
          </p:nvSpPr>
          <p:spPr>
            <a:xfrm>
              <a:off x="2681280" y="3346560"/>
              <a:ext cx="4479840" cy="1579320"/>
            </a:xfrm>
            <a:custGeom>
              <a:avLst/>
              <a:gdLst>
                <a:gd name="textAreaLeft" fmla="*/ 0 w 4479840"/>
                <a:gd name="textAreaRight" fmla="*/ 4479840 w 4479840"/>
                <a:gd name="textAreaTop" fmla="*/ 0 h 1579320"/>
                <a:gd name="textAreaBottom" fmla="*/ 1579680 h 1579320"/>
              </a:gdLst>
              <a:ahLst/>
              <a:rect l="textAreaLeft" t="textAreaTop" r="textAreaRight" b="textAreaBottom"/>
              <a:pathLst>
                <a:path w="2822" h="995">
                  <a:moveTo>
                    <a:pt x="0" y="0"/>
                  </a:moveTo>
                  <a:lnTo>
                    <a:pt x="14" y="20"/>
                  </a:lnTo>
                  <a:lnTo>
                    <a:pt x="36" y="50"/>
                  </a:lnTo>
                  <a:lnTo>
                    <a:pt x="57" y="84"/>
                  </a:lnTo>
                  <a:lnTo>
                    <a:pt x="86" y="124"/>
                  </a:lnTo>
                  <a:lnTo>
                    <a:pt x="144" y="204"/>
                  </a:lnTo>
                  <a:lnTo>
                    <a:pt x="180" y="243"/>
                  </a:lnTo>
                  <a:lnTo>
                    <a:pt x="209" y="278"/>
                  </a:lnTo>
                  <a:lnTo>
                    <a:pt x="267" y="338"/>
                  </a:lnTo>
                  <a:lnTo>
                    <a:pt x="331" y="397"/>
                  </a:lnTo>
                  <a:lnTo>
                    <a:pt x="404" y="457"/>
                  </a:lnTo>
                  <a:lnTo>
                    <a:pt x="447" y="487"/>
                  </a:lnTo>
                  <a:lnTo>
                    <a:pt x="497" y="522"/>
                  </a:lnTo>
                  <a:lnTo>
                    <a:pt x="562" y="557"/>
                  </a:lnTo>
                  <a:lnTo>
                    <a:pt x="635" y="596"/>
                  </a:lnTo>
                  <a:lnTo>
                    <a:pt x="808" y="676"/>
                  </a:lnTo>
                  <a:lnTo>
                    <a:pt x="981" y="750"/>
                  </a:lnTo>
                  <a:lnTo>
                    <a:pt x="1068" y="780"/>
                  </a:lnTo>
                  <a:lnTo>
                    <a:pt x="1147" y="810"/>
                  </a:lnTo>
                  <a:lnTo>
                    <a:pt x="1298" y="855"/>
                  </a:lnTo>
                  <a:lnTo>
                    <a:pt x="1443" y="890"/>
                  </a:lnTo>
                  <a:lnTo>
                    <a:pt x="1587" y="914"/>
                  </a:lnTo>
                  <a:lnTo>
                    <a:pt x="1731" y="939"/>
                  </a:lnTo>
                  <a:lnTo>
                    <a:pt x="1883" y="959"/>
                  </a:lnTo>
                  <a:lnTo>
                    <a:pt x="2027" y="974"/>
                  </a:lnTo>
                  <a:lnTo>
                    <a:pt x="2179" y="984"/>
                  </a:lnTo>
                  <a:lnTo>
                    <a:pt x="2316" y="989"/>
                  </a:lnTo>
                  <a:lnTo>
                    <a:pt x="2453" y="994"/>
                  </a:lnTo>
                  <a:lnTo>
                    <a:pt x="2597" y="994"/>
                  </a:lnTo>
                  <a:lnTo>
                    <a:pt x="2720" y="989"/>
                  </a:lnTo>
                  <a:lnTo>
                    <a:pt x="2778" y="989"/>
                  </a:lnTo>
                  <a:lnTo>
                    <a:pt x="2821" y="989"/>
                  </a:lnTo>
                </a:path>
              </a:pathLst>
            </a:custGeom>
            <a:noFill/>
            <a:ln cap="rnd" w="50760">
              <a:solidFill>
                <a:srgbClr val="cc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Rectangle 14"/>
            <p:cNvSpPr/>
            <p:nvPr/>
          </p:nvSpPr>
          <p:spPr>
            <a:xfrm>
              <a:off x="7081920" y="4567320"/>
              <a:ext cx="5364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CM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Freeform 20"/>
            <p:cNvSpPr/>
            <p:nvPr/>
          </p:nvSpPr>
          <p:spPr>
            <a:xfrm>
              <a:off x="2673360" y="2746440"/>
              <a:ext cx="3730680" cy="1593720"/>
            </a:xfrm>
            <a:custGeom>
              <a:avLst/>
              <a:gdLst>
                <a:gd name="textAreaLeft" fmla="*/ 0 w 3730680"/>
                <a:gd name="textAreaRight" fmla="*/ 3730680 w 3730680"/>
                <a:gd name="textAreaTop" fmla="*/ 0 h 1593720"/>
                <a:gd name="textAreaBottom" fmla="*/ 1594080 h 1593720"/>
              </a:gdLst>
              <a:ahLst/>
              <a:rect l="textAreaLeft" t="textAreaTop" r="textAreaRight" b="textAreaBottom"/>
              <a:pathLst>
                <a:path w="2350" h="1004">
                  <a:moveTo>
                    <a:pt x="0" y="0"/>
                  </a:moveTo>
                  <a:lnTo>
                    <a:pt x="13" y="22"/>
                  </a:lnTo>
                  <a:lnTo>
                    <a:pt x="32" y="48"/>
                  </a:lnTo>
                  <a:lnTo>
                    <a:pt x="52" y="83"/>
                  </a:lnTo>
                  <a:lnTo>
                    <a:pt x="78" y="122"/>
                  </a:lnTo>
                  <a:lnTo>
                    <a:pt x="129" y="201"/>
                  </a:lnTo>
                  <a:lnTo>
                    <a:pt x="155" y="241"/>
                  </a:lnTo>
                  <a:lnTo>
                    <a:pt x="181" y="276"/>
                  </a:lnTo>
                  <a:lnTo>
                    <a:pt x="226" y="337"/>
                  </a:lnTo>
                  <a:lnTo>
                    <a:pt x="278" y="398"/>
                  </a:lnTo>
                  <a:lnTo>
                    <a:pt x="336" y="460"/>
                  </a:lnTo>
                  <a:lnTo>
                    <a:pt x="374" y="490"/>
                  </a:lnTo>
                  <a:lnTo>
                    <a:pt x="420" y="521"/>
                  </a:lnTo>
                  <a:lnTo>
                    <a:pt x="471" y="556"/>
                  </a:lnTo>
                  <a:lnTo>
                    <a:pt x="536" y="595"/>
                  </a:lnTo>
                  <a:lnTo>
                    <a:pt x="671" y="679"/>
                  </a:lnTo>
                  <a:lnTo>
                    <a:pt x="820" y="757"/>
                  </a:lnTo>
                  <a:lnTo>
                    <a:pt x="891" y="788"/>
                  </a:lnTo>
                  <a:lnTo>
                    <a:pt x="962" y="819"/>
                  </a:lnTo>
                  <a:lnTo>
                    <a:pt x="1084" y="862"/>
                  </a:lnTo>
                  <a:lnTo>
                    <a:pt x="1207" y="898"/>
                  </a:lnTo>
                  <a:lnTo>
                    <a:pt x="1323" y="928"/>
                  </a:lnTo>
                  <a:lnTo>
                    <a:pt x="1446" y="950"/>
                  </a:lnTo>
                  <a:lnTo>
                    <a:pt x="1568" y="968"/>
                  </a:lnTo>
                  <a:lnTo>
                    <a:pt x="1691" y="981"/>
                  </a:lnTo>
                  <a:lnTo>
                    <a:pt x="1813" y="989"/>
                  </a:lnTo>
                  <a:lnTo>
                    <a:pt x="1930" y="998"/>
                  </a:lnTo>
                  <a:lnTo>
                    <a:pt x="2046" y="1003"/>
                  </a:lnTo>
                  <a:lnTo>
                    <a:pt x="2162" y="1003"/>
                  </a:lnTo>
                  <a:lnTo>
                    <a:pt x="2265" y="998"/>
                  </a:lnTo>
                  <a:lnTo>
                    <a:pt x="2310" y="998"/>
                  </a:lnTo>
                  <a:lnTo>
                    <a:pt x="2349" y="998"/>
                  </a:lnTo>
                </a:path>
              </a:pathLst>
            </a:custGeom>
            <a:noFill/>
            <a:ln cap="rnd" w="507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Rectangle 21"/>
            <p:cNvSpPr/>
            <p:nvPr/>
          </p:nvSpPr>
          <p:spPr>
            <a:xfrm>
              <a:off x="6472440" y="3957480"/>
              <a:ext cx="663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CM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8" name="Rectangle 4"/>
          <p:cNvSpPr/>
          <p:nvPr/>
        </p:nvSpPr>
        <p:spPr>
          <a:xfrm>
            <a:off x="3124080" y="6235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Line 5"/>
          <p:cNvSpPr/>
          <p:nvPr/>
        </p:nvSpPr>
        <p:spPr>
          <a:xfrm>
            <a:off x="2209680" y="1751040"/>
            <a:ext cx="0" cy="426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Line 6"/>
          <p:cNvSpPr/>
          <p:nvPr/>
        </p:nvSpPr>
        <p:spPr>
          <a:xfrm>
            <a:off x="2203560" y="5989680"/>
            <a:ext cx="5749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1" name="Group 37"/>
          <p:cNvGrpSpPr/>
          <p:nvPr/>
        </p:nvGrpSpPr>
        <p:grpSpPr>
          <a:xfrm>
            <a:off x="2389320" y="2084400"/>
            <a:ext cx="5102280" cy="3684240"/>
            <a:chOff x="2389320" y="2084400"/>
            <a:chExt cx="5102280" cy="3684240"/>
          </a:xfrm>
        </p:grpSpPr>
        <p:sp>
          <p:nvSpPr>
            <p:cNvPr id="1712" name="Line 7"/>
            <p:cNvSpPr/>
            <p:nvPr/>
          </p:nvSpPr>
          <p:spPr>
            <a:xfrm>
              <a:off x="2389320" y="2084400"/>
              <a:ext cx="4671720" cy="291924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Rectangle 8"/>
            <p:cNvSpPr/>
            <p:nvPr/>
          </p:nvSpPr>
          <p:spPr>
            <a:xfrm>
              <a:off x="6929280" y="5100480"/>
              <a:ext cx="5623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IM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Line 9"/>
            <p:cNvSpPr/>
            <p:nvPr/>
          </p:nvSpPr>
          <p:spPr>
            <a:xfrm>
              <a:off x="2389320" y="2313000"/>
              <a:ext cx="2690640" cy="314784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Rectangle 10"/>
            <p:cNvSpPr/>
            <p:nvPr/>
          </p:nvSpPr>
          <p:spPr>
            <a:xfrm>
              <a:off x="5100120" y="5405400"/>
              <a:ext cx="43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IM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6" name="Rectangle 13"/>
          <p:cNvSpPr/>
          <p:nvPr/>
        </p:nvSpPr>
        <p:spPr>
          <a:xfrm>
            <a:off x="1520280" y="1593720"/>
            <a:ext cx="507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/Q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Rectangle 24"/>
          <p:cNvSpPr/>
          <p:nvPr/>
        </p:nvSpPr>
        <p:spPr>
          <a:xfrm>
            <a:off x="7732080" y="5948280"/>
            <a:ext cx="1047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tida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Rectangle 19"/>
          <p:cNvSpPr/>
          <p:nvPr/>
        </p:nvSpPr>
        <p:spPr>
          <a:xfrm>
            <a:off x="5753520" y="3181320"/>
            <a:ext cx="3359880" cy="7574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1800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 fijación del precio en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gener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l mayor nivel posible de producción;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l exceso de beneficios es nulo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Line 28"/>
          <p:cNvSpPr/>
          <p:nvPr/>
        </p:nvSpPr>
        <p:spPr>
          <a:xfrm flipH="1">
            <a:off x="2198520" y="4343400"/>
            <a:ext cx="375768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Line 29"/>
          <p:cNvSpPr/>
          <p:nvPr/>
        </p:nvSpPr>
        <p:spPr>
          <a:xfrm>
            <a:off x="5943600" y="4357800"/>
            <a:ext cx="0" cy="16491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Oval 30"/>
          <p:cNvSpPr/>
          <p:nvPr/>
        </p:nvSpPr>
        <p:spPr>
          <a:xfrm>
            <a:off x="5867280" y="4267080"/>
            <a:ext cx="15264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Rectangle 31"/>
          <p:cNvSpPr/>
          <p:nvPr/>
        </p:nvSpPr>
        <p:spPr>
          <a:xfrm>
            <a:off x="5715000" y="5921280"/>
            <a:ext cx="3841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Rectangle 32"/>
          <p:cNvSpPr/>
          <p:nvPr/>
        </p:nvSpPr>
        <p:spPr>
          <a:xfrm>
            <a:off x="1658880" y="4110120"/>
            <a:ext cx="3855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Line 22"/>
          <p:cNvSpPr/>
          <p:nvPr/>
        </p:nvSpPr>
        <p:spPr>
          <a:xfrm flipH="1">
            <a:off x="2198160" y="4952880"/>
            <a:ext cx="468324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Oval 23"/>
          <p:cNvSpPr/>
          <p:nvPr/>
        </p:nvSpPr>
        <p:spPr>
          <a:xfrm>
            <a:off x="6858000" y="487692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Rectangle 25"/>
          <p:cNvSpPr/>
          <p:nvPr/>
        </p:nvSpPr>
        <p:spPr>
          <a:xfrm>
            <a:off x="1662120" y="4719600"/>
            <a:ext cx="4298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Line 26"/>
          <p:cNvSpPr/>
          <p:nvPr/>
        </p:nvSpPr>
        <p:spPr>
          <a:xfrm>
            <a:off x="6934320" y="4967280"/>
            <a:ext cx="0" cy="10396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Rectangle 27"/>
          <p:cNvSpPr/>
          <p:nvPr/>
        </p:nvSpPr>
        <p:spPr>
          <a:xfrm>
            <a:off x="6633360" y="5921280"/>
            <a:ext cx="4237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Rectangle 33"/>
          <p:cNvSpPr/>
          <p:nvPr/>
        </p:nvSpPr>
        <p:spPr>
          <a:xfrm>
            <a:off x="4562640" y="2098800"/>
            <a:ext cx="3592080" cy="7574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 se regula el precio para que fuera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 empresa perdería diner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 quebraría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0" name="Group 42"/>
          <p:cNvGrpSpPr/>
          <p:nvPr/>
        </p:nvGrpSpPr>
        <p:grpSpPr>
          <a:xfrm>
            <a:off x="1664280" y="1314360"/>
            <a:ext cx="3737880" cy="4972680"/>
            <a:chOff x="1664280" y="1314360"/>
            <a:chExt cx="3737880" cy="4972680"/>
          </a:xfrm>
        </p:grpSpPr>
        <p:sp>
          <p:nvSpPr>
            <p:cNvPr id="1731" name="Oval 11"/>
            <p:cNvSpPr/>
            <p:nvPr/>
          </p:nvSpPr>
          <p:spPr>
            <a:xfrm>
              <a:off x="4267080" y="4495680"/>
              <a:ext cx="15264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Rectangle 12"/>
            <p:cNvSpPr/>
            <p:nvPr/>
          </p:nvSpPr>
          <p:spPr>
            <a:xfrm>
              <a:off x="1664280" y="3043080"/>
              <a:ext cx="45108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Line 15"/>
            <p:cNvSpPr/>
            <p:nvPr/>
          </p:nvSpPr>
          <p:spPr>
            <a:xfrm>
              <a:off x="4343400" y="3443400"/>
              <a:ext cx="0" cy="25635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Rectangle 16"/>
            <p:cNvSpPr/>
            <p:nvPr/>
          </p:nvSpPr>
          <p:spPr>
            <a:xfrm>
              <a:off x="4120560" y="5921280"/>
              <a:ext cx="44208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Line 17"/>
            <p:cNvSpPr/>
            <p:nvPr/>
          </p:nvSpPr>
          <p:spPr>
            <a:xfrm flipH="1">
              <a:off x="2198520" y="3352680"/>
              <a:ext cx="20815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Oval 18"/>
            <p:cNvSpPr/>
            <p:nvPr/>
          </p:nvSpPr>
          <p:spPr>
            <a:xfrm>
              <a:off x="4267080" y="327672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Rectangle 34"/>
            <p:cNvSpPr/>
            <p:nvPr/>
          </p:nvSpPr>
          <p:spPr>
            <a:xfrm>
              <a:off x="2526120" y="1314360"/>
              <a:ext cx="2876040" cy="54432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i el monopolio no es regulado,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duce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y cobra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550440" y="277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Arial"/>
              </a:rPr>
              <a:t>La regulación del precio de un monopolio natural </a:t>
            </a:r>
            <a:endParaRPr b="1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1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1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1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2 – El mon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PlaceHolder 1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La regulación en la práctica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A menudo resulta difícil averiguar el coste de la empresa y las funciones de demanda, ya que pueden variar dependiendo de la situación del mercado. 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Los costes sociales del poder de monopolio</a:t>
            </a:r>
            <a:endParaRPr b="1" lang="en-US" sz="29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2 – El mon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Cálculo del ingreso margina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Como único productor, el monopolista </a:t>
            </a:r>
            <a:r>
              <a:rPr b="0" lang="es-ES" sz="2800" spc="-1" strike="noStrike">
                <a:solidFill>
                  <a:srgbClr val="262626"/>
                </a:solidFill>
                <a:latin typeface="Arial"/>
              </a:rPr>
              <a:t>trabaja con la demanda de mercado para determinar la producción y el precio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Consideremos el caso de una empresa con una curva de demanda: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2" marL="1143000" indent="-228600">
              <a:spcBef>
                <a:spcPts val="1188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P = 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6 - 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El monopolio</a:t>
            </a:r>
            <a:endParaRPr b="1" lang="en-US" sz="34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2 – El mon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PlaceHolder 1"/>
          <p:cNvSpPr>
            <a:spLocks noGrp="1"/>
          </p:cNvSpPr>
          <p:nvPr>
            <p:ph/>
          </p:nvPr>
        </p:nvSpPr>
        <p:spPr>
          <a:xfrm>
            <a:off x="709200" y="1373040"/>
            <a:ext cx="8434440" cy="488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La regulación en la práctica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27920" indent="-28008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62626"/>
                </a:solidFill>
                <a:latin typeface="Arial"/>
              </a:rPr>
              <a:t>Una alternativa a la fijación de los precios es  la 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regulación basada en la tasa de rendimiento, 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que permite a las empresas fijar un precio máximo, basándose en la tasa de rendimiento (esperada) que obtendrá una empresa. 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1188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P = CVMe + (D + T + sK)/Q, 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donde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3" marL="1530720" indent="-22392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P = precio, CVMe = coste variable medio.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3" marL="1530720" indent="-22392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D = depreciación, T = impuestos.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3" marL="1530720" indent="-22392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 = Tasa de rendimiento permitida, K = stock de capital que tiene la empresa.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Los costes sociales del poder de monopolio</a:t>
            </a:r>
            <a:endParaRPr b="1" lang="en-US" sz="29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2 – El mon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PlaceHolder 1"/>
          <p:cNvSpPr>
            <a:spLocks noGrp="1"/>
          </p:cNvSpPr>
          <p:nvPr>
            <p:ph/>
          </p:nvPr>
        </p:nvSpPr>
        <p:spPr>
          <a:xfrm>
            <a:off x="480600" y="1228320"/>
            <a:ext cx="8434440" cy="562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874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2626"/>
                </a:solidFill>
                <a:latin typeface="Arial"/>
              </a:rPr>
              <a:t>La regulación en la práctica:</a:t>
            </a:r>
            <a:endParaRPr b="0" lang="en-US" sz="30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3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Arial"/>
              </a:rPr>
              <a:t>La utilización de esta técnica requiere una serie de comparecencias para ponerse de acuerdo en el conjunto de las cifras. </a:t>
            </a:r>
            <a:endParaRPr b="0" lang="en-US" sz="26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3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Arial"/>
              </a:rPr>
              <a:t>Este proceso provoca un retardo regulador que puede beneficiar a los productores (en las décadas de los cincuenta y sesenta) o a los consumidores (décadas de los setenta y ochenta).</a:t>
            </a:r>
            <a:endParaRPr b="0" lang="en-US" sz="26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1874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Pregunta:</a:t>
            </a:r>
            <a:endParaRPr b="0" lang="en-US" sz="30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3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Arial"/>
              </a:rPr>
              <a:t>¿Quién se ha beneficiado en la década de los noventa?</a:t>
            </a:r>
            <a:endParaRPr b="0" lang="en-US" sz="2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Los costes sociales del poder de monopolio</a:t>
            </a:r>
            <a:endParaRPr b="1" lang="en-US" sz="29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1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1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17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17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17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2 – El mon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El monopsonio</a:t>
            </a:r>
            <a:endParaRPr b="1" lang="en-US" sz="3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882360" y="1719360"/>
            <a:ext cx="803268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Un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monopsonio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 es el mercado en el que hay un único comprador. 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18960" indent="-31896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Un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oligopsonio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 es el mercado en el que sólo hay unos pocos compradores.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18960" indent="-31896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El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poder de monopsonio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 es la capacidad del comprador para influir en el precio del bien a un precio inferior al que estaría vigente en un mercado competitivo. 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1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17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17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2 – El mon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El monopsonio</a:t>
            </a:r>
            <a:endParaRPr b="1" lang="en-US" sz="3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Comprador competitivo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Precio-aceptante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P = Gasto marginal = gasto medio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D = Valor marginal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550440" y="260280"/>
            <a:ext cx="798372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Arial"/>
              </a:rPr>
              <a:t>Comparación entre el comprador y el vendedor competitivo</a:t>
            </a:r>
            <a:endParaRPr b="1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755" name="Line 3"/>
          <p:cNvSpPr/>
          <p:nvPr/>
        </p:nvSpPr>
        <p:spPr>
          <a:xfrm>
            <a:off x="762120" y="1862280"/>
            <a:ext cx="0" cy="3935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Line 4"/>
          <p:cNvSpPr/>
          <p:nvPr/>
        </p:nvSpPr>
        <p:spPr>
          <a:xfrm>
            <a:off x="5029200" y="1862280"/>
            <a:ext cx="0" cy="3935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Line 5"/>
          <p:cNvSpPr/>
          <p:nvPr/>
        </p:nvSpPr>
        <p:spPr>
          <a:xfrm>
            <a:off x="776160" y="5810400"/>
            <a:ext cx="3935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Line 6"/>
          <p:cNvSpPr/>
          <p:nvPr/>
        </p:nvSpPr>
        <p:spPr>
          <a:xfrm>
            <a:off x="5043600" y="5810400"/>
            <a:ext cx="3935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Rectangle 7"/>
          <p:cNvSpPr/>
          <p:nvPr/>
        </p:nvSpPr>
        <p:spPr>
          <a:xfrm>
            <a:off x="3561840" y="5843520"/>
            <a:ext cx="1047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tida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Rectangle 8"/>
          <p:cNvSpPr/>
          <p:nvPr/>
        </p:nvSpPr>
        <p:spPr>
          <a:xfrm>
            <a:off x="7927560" y="5805360"/>
            <a:ext cx="1047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tida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-3960" y="1690560"/>
            <a:ext cx="507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/Q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Rectangle 10"/>
          <p:cNvSpPr/>
          <p:nvPr/>
        </p:nvSpPr>
        <p:spPr>
          <a:xfrm>
            <a:off x="4415760" y="1690560"/>
            <a:ext cx="507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/Q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3" name="Group 35"/>
          <p:cNvGrpSpPr/>
          <p:nvPr/>
        </p:nvGrpSpPr>
        <p:grpSpPr>
          <a:xfrm>
            <a:off x="5056200" y="2986200"/>
            <a:ext cx="3842640" cy="461880"/>
            <a:chOff x="5056200" y="2986200"/>
            <a:chExt cx="3842640" cy="461880"/>
          </a:xfrm>
        </p:grpSpPr>
        <p:sp>
          <p:nvSpPr>
            <p:cNvPr id="1764" name="Line 14"/>
            <p:cNvSpPr/>
            <p:nvPr/>
          </p:nvSpPr>
          <p:spPr>
            <a:xfrm>
              <a:off x="5056200" y="3448080"/>
              <a:ext cx="3605040" cy="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Rectangle 15"/>
            <p:cNvSpPr/>
            <p:nvPr/>
          </p:nvSpPr>
          <p:spPr>
            <a:xfrm>
              <a:off x="7921800" y="2986200"/>
              <a:ext cx="9770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Me = IM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6" name="Group 33"/>
          <p:cNvGrpSpPr/>
          <p:nvPr/>
        </p:nvGrpSpPr>
        <p:grpSpPr>
          <a:xfrm>
            <a:off x="1170000" y="2484360"/>
            <a:ext cx="3499920" cy="2510280"/>
            <a:chOff x="1170000" y="2484360"/>
            <a:chExt cx="3499920" cy="2510280"/>
          </a:xfrm>
        </p:grpSpPr>
        <p:sp>
          <p:nvSpPr>
            <p:cNvPr id="1767" name="Line 16"/>
            <p:cNvSpPr/>
            <p:nvPr/>
          </p:nvSpPr>
          <p:spPr>
            <a:xfrm>
              <a:off x="1170000" y="2484360"/>
              <a:ext cx="3224160" cy="208116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Rectangle 17"/>
            <p:cNvSpPr/>
            <p:nvPr/>
          </p:nvSpPr>
          <p:spPr>
            <a:xfrm>
              <a:off x="3805560" y="4662360"/>
              <a:ext cx="864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 = VM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9" name="Group 38"/>
          <p:cNvGrpSpPr/>
          <p:nvPr/>
        </p:nvGrpSpPr>
        <p:grpSpPr>
          <a:xfrm>
            <a:off x="299880" y="2986200"/>
            <a:ext cx="4152960" cy="3330720"/>
            <a:chOff x="299880" y="2986200"/>
            <a:chExt cx="4152960" cy="3330720"/>
          </a:xfrm>
        </p:grpSpPr>
        <p:sp>
          <p:nvSpPr>
            <p:cNvPr id="1770" name="Line 11"/>
            <p:cNvSpPr/>
            <p:nvPr/>
          </p:nvSpPr>
          <p:spPr>
            <a:xfrm>
              <a:off x="789120" y="3448080"/>
              <a:ext cx="3605040" cy="0"/>
            </a:xfrm>
            <a:prstGeom prst="line">
              <a:avLst/>
            </a:prstGeom>
            <a:ln w="507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Rectangle 12"/>
            <p:cNvSpPr/>
            <p:nvPr/>
          </p:nvSpPr>
          <p:spPr>
            <a:xfrm>
              <a:off x="3274560" y="2986200"/>
              <a:ext cx="11782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M = GMe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Rectangle 13"/>
            <p:cNvSpPr/>
            <p:nvPr/>
          </p:nvSpPr>
          <p:spPr>
            <a:xfrm>
              <a:off x="299880" y="3218040"/>
              <a:ext cx="449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P*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Oval 18"/>
            <p:cNvSpPr/>
            <p:nvPr/>
          </p:nvSpPr>
          <p:spPr>
            <a:xfrm>
              <a:off x="2590920" y="337176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Line 19"/>
            <p:cNvSpPr/>
            <p:nvPr/>
          </p:nvSpPr>
          <p:spPr>
            <a:xfrm>
              <a:off x="2666880" y="3462480"/>
              <a:ext cx="0" cy="23349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Rectangle 20"/>
            <p:cNvSpPr/>
            <p:nvPr/>
          </p:nvSpPr>
          <p:spPr>
            <a:xfrm>
              <a:off x="2493000" y="5923080"/>
              <a:ext cx="478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Q*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Rectangle 27"/>
            <p:cNvSpPr/>
            <p:nvPr/>
          </p:nvSpPr>
          <p:spPr>
            <a:xfrm>
              <a:off x="770400" y="4245120"/>
              <a:ext cx="1821240" cy="81900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M = VM para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Q*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M = P*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* = VM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7" name="Group 37"/>
          <p:cNvGrpSpPr/>
          <p:nvPr/>
        </p:nvGrpSpPr>
        <p:grpSpPr>
          <a:xfrm>
            <a:off x="4491000" y="1766880"/>
            <a:ext cx="4158360" cy="4550040"/>
            <a:chOff x="4491000" y="1766880"/>
            <a:chExt cx="4158360" cy="4550040"/>
          </a:xfrm>
        </p:grpSpPr>
        <p:sp>
          <p:nvSpPr>
            <p:cNvPr id="1778" name="Rectangle 21"/>
            <p:cNvSpPr/>
            <p:nvPr/>
          </p:nvSpPr>
          <p:spPr>
            <a:xfrm>
              <a:off x="4491000" y="3218040"/>
              <a:ext cx="449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P*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Line 22"/>
            <p:cNvSpPr/>
            <p:nvPr/>
          </p:nvSpPr>
          <p:spPr>
            <a:xfrm flipV="1">
              <a:off x="5589720" y="2204640"/>
              <a:ext cx="2690640" cy="2335320"/>
            </a:xfrm>
            <a:prstGeom prst="line">
              <a:avLst/>
            </a:prstGeom>
            <a:ln w="507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Oval 23"/>
            <p:cNvSpPr/>
            <p:nvPr/>
          </p:nvSpPr>
          <p:spPr>
            <a:xfrm>
              <a:off x="6781680" y="3371760"/>
              <a:ext cx="15264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Line 24"/>
            <p:cNvSpPr/>
            <p:nvPr/>
          </p:nvSpPr>
          <p:spPr>
            <a:xfrm>
              <a:off x="6858000" y="3462480"/>
              <a:ext cx="0" cy="23349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Rectangle 25"/>
            <p:cNvSpPr/>
            <p:nvPr/>
          </p:nvSpPr>
          <p:spPr>
            <a:xfrm>
              <a:off x="6607800" y="5923080"/>
              <a:ext cx="478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Q*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Rectangle 26"/>
            <p:cNvSpPr/>
            <p:nvPr/>
          </p:nvSpPr>
          <p:spPr>
            <a:xfrm>
              <a:off x="8071560" y="1766880"/>
              <a:ext cx="577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M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Rectangle 28"/>
            <p:cNvSpPr/>
            <p:nvPr/>
          </p:nvSpPr>
          <p:spPr>
            <a:xfrm>
              <a:off x="7350120" y="3962520"/>
              <a:ext cx="954000" cy="81900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M = CM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* = IM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* = CM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5" name="Line 29"/>
          <p:cNvSpPr/>
          <p:nvPr/>
        </p:nvSpPr>
        <p:spPr>
          <a:xfrm>
            <a:off x="349200" y="1047600"/>
            <a:ext cx="8358120" cy="0"/>
          </a:xfrm>
          <a:prstGeom prst="line">
            <a:avLst/>
          </a:prstGeom>
          <a:ln w="38160">
            <a:solidFill>
              <a:srgbClr val="3765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Line 30"/>
          <p:cNvSpPr/>
          <p:nvPr/>
        </p:nvSpPr>
        <p:spPr>
          <a:xfrm>
            <a:off x="519120" y="1206360"/>
            <a:ext cx="8356680" cy="0"/>
          </a:xfrm>
          <a:prstGeom prst="line">
            <a:avLst/>
          </a:prstGeom>
          <a:ln w="38160">
            <a:solidFill>
              <a:srgbClr val="3765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Line 31"/>
          <p:cNvSpPr/>
          <p:nvPr/>
        </p:nvSpPr>
        <p:spPr>
          <a:xfrm>
            <a:off x="349200" y="6281640"/>
            <a:ext cx="8358120" cy="0"/>
          </a:xfrm>
          <a:prstGeom prst="line">
            <a:avLst/>
          </a:prstGeom>
          <a:ln w="38160">
            <a:solidFill>
              <a:srgbClr val="3765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Line 32"/>
          <p:cNvSpPr/>
          <p:nvPr/>
        </p:nvSpPr>
        <p:spPr>
          <a:xfrm>
            <a:off x="519120" y="6440400"/>
            <a:ext cx="8356680" cy="0"/>
          </a:xfrm>
          <a:prstGeom prst="line">
            <a:avLst/>
          </a:prstGeom>
          <a:ln w="38160">
            <a:solidFill>
              <a:srgbClr val="3765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Text Box 39"/>
          <p:cNvSpPr/>
          <p:nvPr/>
        </p:nvSpPr>
        <p:spPr>
          <a:xfrm>
            <a:off x="1601280" y="1616040"/>
            <a:ext cx="18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rad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Text Box 40"/>
          <p:cNvSpPr/>
          <p:nvPr/>
        </p:nvSpPr>
        <p:spPr>
          <a:xfrm>
            <a:off x="5831640" y="161604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nded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1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1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1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2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2 – El mon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2" name="Group 26"/>
          <p:cNvGrpSpPr/>
          <p:nvPr/>
        </p:nvGrpSpPr>
        <p:grpSpPr>
          <a:xfrm>
            <a:off x="2236680" y="1158840"/>
            <a:ext cx="5882400" cy="3866760"/>
            <a:chOff x="2236680" y="1158840"/>
            <a:chExt cx="5882400" cy="3866760"/>
          </a:xfrm>
        </p:grpSpPr>
        <p:sp>
          <p:nvSpPr>
            <p:cNvPr id="1793" name="Line 10"/>
            <p:cNvSpPr/>
            <p:nvPr/>
          </p:nvSpPr>
          <p:spPr>
            <a:xfrm flipV="1">
              <a:off x="2236680" y="1928520"/>
              <a:ext cx="3376800" cy="3097080"/>
            </a:xfrm>
            <a:prstGeom prst="line">
              <a:avLst/>
            </a:prstGeom>
            <a:ln w="507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Line 11"/>
            <p:cNvSpPr/>
            <p:nvPr/>
          </p:nvSpPr>
          <p:spPr>
            <a:xfrm flipV="1">
              <a:off x="2236680" y="3147480"/>
              <a:ext cx="4672080" cy="1878120"/>
            </a:xfrm>
            <a:prstGeom prst="line">
              <a:avLst/>
            </a:prstGeom>
            <a:ln w="507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Rectangle 12"/>
            <p:cNvSpPr/>
            <p:nvPr/>
          </p:nvSpPr>
          <p:spPr>
            <a:xfrm>
              <a:off x="5575680" y="1995480"/>
              <a:ext cx="59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GM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Rectangle 13"/>
            <p:cNvSpPr/>
            <p:nvPr/>
          </p:nvSpPr>
          <p:spPr>
            <a:xfrm>
              <a:off x="6927120" y="2938320"/>
              <a:ext cx="1191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S = GMe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Rectangle 25"/>
            <p:cNvSpPr/>
            <p:nvPr/>
          </p:nvSpPr>
          <p:spPr>
            <a:xfrm>
              <a:off x="2719800" y="1158840"/>
              <a:ext cx="4866120" cy="63756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a curva de oferta del mercado es la curva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 gasto medio del monopsonist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Arial"/>
              </a:rPr>
              <a:t>El comprador monopsonista</a:t>
            </a: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799" name="Rectangle 3"/>
          <p:cNvSpPr/>
          <p:nvPr/>
        </p:nvSpPr>
        <p:spPr>
          <a:xfrm>
            <a:off x="3124080" y="6235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Line 4"/>
          <p:cNvSpPr/>
          <p:nvPr/>
        </p:nvSpPr>
        <p:spPr>
          <a:xfrm>
            <a:off x="2209680" y="1681200"/>
            <a:ext cx="0" cy="426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Rectangle 5"/>
          <p:cNvSpPr/>
          <p:nvPr/>
        </p:nvSpPr>
        <p:spPr>
          <a:xfrm>
            <a:off x="7522560" y="5931000"/>
            <a:ext cx="1047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tida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Rectangle 6"/>
          <p:cNvSpPr/>
          <p:nvPr/>
        </p:nvSpPr>
        <p:spPr>
          <a:xfrm>
            <a:off x="1479240" y="1523880"/>
            <a:ext cx="550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/Q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Line 7"/>
          <p:cNvSpPr/>
          <p:nvPr/>
        </p:nvSpPr>
        <p:spPr>
          <a:xfrm>
            <a:off x="2203560" y="5937120"/>
            <a:ext cx="5749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4" name="Group 27"/>
          <p:cNvGrpSpPr/>
          <p:nvPr/>
        </p:nvGrpSpPr>
        <p:grpSpPr>
          <a:xfrm>
            <a:off x="2752560" y="2238480"/>
            <a:ext cx="4827960" cy="2780280"/>
            <a:chOff x="2752560" y="2238480"/>
            <a:chExt cx="4827960" cy="2780280"/>
          </a:xfrm>
        </p:grpSpPr>
        <p:sp>
          <p:nvSpPr>
            <p:cNvPr id="1805" name="Line 8"/>
            <p:cNvSpPr/>
            <p:nvPr/>
          </p:nvSpPr>
          <p:spPr>
            <a:xfrm>
              <a:off x="2752560" y="2238480"/>
              <a:ext cx="4106880" cy="254376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Rectangle 9"/>
            <p:cNvSpPr/>
            <p:nvPr/>
          </p:nvSpPr>
          <p:spPr>
            <a:xfrm>
              <a:off x="7018200" y="4624920"/>
              <a:ext cx="5623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VM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7" name="Group 33"/>
          <p:cNvGrpSpPr/>
          <p:nvPr/>
        </p:nvGrpSpPr>
        <p:grpSpPr>
          <a:xfrm>
            <a:off x="117720" y="2382840"/>
            <a:ext cx="4592520" cy="3927960"/>
            <a:chOff x="117720" y="2382840"/>
            <a:chExt cx="4592520" cy="3927960"/>
          </a:xfrm>
        </p:grpSpPr>
        <p:sp>
          <p:nvSpPr>
            <p:cNvPr id="1808" name="Line 14"/>
            <p:cNvSpPr/>
            <p:nvPr/>
          </p:nvSpPr>
          <p:spPr>
            <a:xfrm>
              <a:off x="4267080" y="3220920"/>
              <a:ext cx="0" cy="27162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Oval 15"/>
            <p:cNvSpPr/>
            <p:nvPr/>
          </p:nvSpPr>
          <p:spPr>
            <a:xfrm>
              <a:off x="4191120" y="31305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Rectangle 16"/>
            <p:cNvSpPr/>
            <p:nvPr/>
          </p:nvSpPr>
          <p:spPr>
            <a:xfrm>
              <a:off x="4100400" y="5875200"/>
              <a:ext cx="60984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Q*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Line 17"/>
            <p:cNvSpPr/>
            <p:nvPr/>
          </p:nvSpPr>
          <p:spPr>
            <a:xfrm flipH="1">
              <a:off x="2198520" y="4197240"/>
              <a:ext cx="20815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Oval 18"/>
            <p:cNvSpPr/>
            <p:nvPr/>
          </p:nvSpPr>
          <p:spPr>
            <a:xfrm>
              <a:off x="4191120" y="412128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Rectangle 19"/>
            <p:cNvSpPr/>
            <p:nvPr/>
          </p:nvSpPr>
          <p:spPr>
            <a:xfrm>
              <a:off x="1526400" y="3963960"/>
              <a:ext cx="58068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P*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Text Box 30"/>
            <p:cNvSpPr/>
            <p:nvPr/>
          </p:nvSpPr>
          <p:spPr>
            <a:xfrm>
              <a:off x="117720" y="2382840"/>
              <a:ext cx="2736000" cy="58068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onopsonio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M &gt; P y por encima de S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5" name="Group 34"/>
          <p:cNvGrpSpPr/>
          <p:nvPr/>
        </p:nvGrpSpPr>
        <p:grpSpPr>
          <a:xfrm>
            <a:off x="150480" y="3583080"/>
            <a:ext cx="5441400" cy="2738880"/>
            <a:chOff x="150480" y="3583080"/>
            <a:chExt cx="5441400" cy="2738880"/>
          </a:xfrm>
        </p:grpSpPr>
        <p:sp>
          <p:nvSpPr>
            <p:cNvPr id="1816" name="Line 20"/>
            <p:cNvSpPr/>
            <p:nvPr/>
          </p:nvSpPr>
          <p:spPr>
            <a:xfrm flipH="1">
              <a:off x="2198160" y="3816360"/>
              <a:ext cx="30718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Oval 21"/>
            <p:cNvSpPr/>
            <p:nvPr/>
          </p:nvSpPr>
          <p:spPr>
            <a:xfrm>
              <a:off x="5257800" y="374004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Rectangle 22"/>
            <p:cNvSpPr/>
            <p:nvPr/>
          </p:nvSpPr>
          <p:spPr>
            <a:xfrm>
              <a:off x="1525320" y="3583080"/>
              <a:ext cx="45720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Line 23"/>
            <p:cNvSpPr/>
            <p:nvPr/>
          </p:nvSpPr>
          <p:spPr>
            <a:xfrm>
              <a:off x="5334120" y="3754440"/>
              <a:ext cx="0" cy="218268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Rectangle 24"/>
            <p:cNvSpPr/>
            <p:nvPr/>
          </p:nvSpPr>
          <p:spPr>
            <a:xfrm>
              <a:off x="5105880" y="5886360"/>
              <a:ext cx="48600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Text Box 32"/>
            <p:cNvSpPr/>
            <p:nvPr/>
          </p:nvSpPr>
          <p:spPr>
            <a:xfrm>
              <a:off x="150480" y="4076640"/>
              <a:ext cx="1349640" cy="85752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mpetitivo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 = P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 = Q+C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1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1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1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2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2 – El mon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380880" y="247680"/>
            <a:ext cx="876312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Arial"/>
              </a:rPr>
              <a:t>El monopolio y el monopsonio</a:t>
            </a: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824" name="Rectangle 3"/>
          <p:cNvSpPr/>
          <p:nvPr/>
        </p:nvSpPr>
        <p:spPr>
          <a:xfrm>
            <a:off x="3124080" y="6235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Line 4"/>
          <p:cNvSpPr/>
          <p:nvPr/>
        </p:nvSpPr>
        <p:spPr>
          <a:xfrm>
            <a:off x="2209680" y="1716120"/>
            <a:ext cx="0" cy="426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Line 5"/>
          <p:cNvSpPr/>
          <p:nvPr/>
        </p:nvSpPr>
        <p:spPr>
          <a:xfrm>
            <a:off x="2203560" y="5972040"/>
            <a:ext cx="4276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Rectangle 6"/>
          <p:cNvSpPr/>
          <p:nvPr/>
        </p:nvSpPr>
        <p:spPr>
          <a:xfrm>
            <a:off x="6436800" y="5967360"/>
            <a:ext cx="1047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tida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8" name="Group 26"/>
          <p:cNvGrpSpPr/>
          <p:nvPr/>
        </p:nvGrpSpPr>
        <p:grpSpPr>
          <a:xfrm>
            <a:off x="2541600" y="1855800"/>
            <a:ext cx="4492800" cy="3971520"/>
            <a:chOff x="2541600" y="1855800"/>
            <a:chExt cx="4492800" cy="3971520"/>
          </a:xfrm>
        </p:grpSpPr>
        <p:sp>
          <p:nvSpPr>
            <p:cNvPr id="1829" name="Line 7"/>
            <p:cNvSpPr/>
            <p:nvPr/>
          </p:nvSpPr>
          <p:spPr>
            <a:xfrm>
              <a:off x="2846520" y="1855800"/>
              <a:ext cx="3452760" cy="284328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Rectangle 8"/>
            <p:cNvSpPr/>
            <p:nvPr/>
          </p:nvSpPr>
          <p:spPr>
            <a:xfrm>
              <a:off x="6472080" y="4643280"/>
              <a:ext cx="5623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IM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Line 9"/>
            <p:cNvSpPr/>
            <p:nvPr/>
          </p:nvSpPr>
          <p:spPr>
            <a:xfrm>
              <a:off x="2541600" y="2236680"/>
              <a:ext cx="2462040" cy="337680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Rectangle 10"/>
            <p:cNvSpPr/>
            <p:nvPr/>
          </p:nvSpPr>
          <p:spPr>
            <a:xfrm>
              <a:off x="4982760" y="5464080"/>
              <a:ext cx="43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IM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3" name="Group 27"/>
          <p:cNvGrpSpPr/>
          <p:nvPr/>
        </p:nvGrpSpPr>
        <p:grpSpPr>
          <a:xfrm>
            <a:off x="3352680" y="2585880"/>
            <a:ext cx="3732120" cy="2751120"/>
            <a:chOff x="3352680" y="2585880"/>
            <a:chExt cx="3732120" cy="2751120"/>
          </a:xfrm>
        </p:grpSpPr>
        <p:sp>
          <p:nvSpPr>
            <p:cNvPr id="1834" name="Freeform 11"/>
            <p:cNvSpPr/>
            <p:nvPr/>
          </p:nvSpPr>
          <p:spPr>
            <a:xfrm>
              <a:off x="3352680" y="3116160"/>
              <a:ext cx="3473640" cy="2220840"/>
            </a:xfrm>
            <a:custGeom>
              <a:avLst/>
              <a:gdLst>
                <a:gd name="textAreaLeft" fmla="*/ 0 w 3473640"/>
                <a:gd name="textAreaRight" fmla="*/ 3474000 w 3473640"/>
                <a:gd name="textAreaTop" fmla="*/ 0 h 2220840"/>
                <a:gd name="textAreaBottom" fmla="*/ 2221200 h 2220840"/>
              </a:gdLst>
              <a:ahLst/>
              <a:rect l="textAreaLeft" t="textAreaTop" r="textAreaRight" b="textAreaBottom"/>
              <a:pathLst>
                <a:path w="2188" h="1399">
                  <a:moveTo>
                    <a:pt x="0" y="1398"/>
                  </a:moveTo>
                  <a:lnTo>
                    <a:pt x="295" y="1280"/>
                  </a:lnTo>
                  <a:lnTo>
                    <a:pt x="584" y="1161"/>
                  </a:lnTo>
                  <a:lnTo>
                    <a:pt x="853" y="1043"/>
                  </a:lnTo>
                  <a:lnTo>
                    <a:pt x="976" y="984"/>
                  </a:lnTo>
                  <a:lnTo>
                    <a:pt x="1093" y="919"/>
                  </a:lnTo>
                  <a:lnTo>
                    <a:pt x="1307" y="785"/>
                  </a:lnTo>
                  <a:lnTo>
                    <a:pt x="1499" y="645"/>
                  </a:lnTo>
                  <a:lnTo>
                    <a:pt x="1664" y="511"/>
                  </a:lnTo>
                  <a:lnTo>
                    <a:pt x="1816" y="387"/>
                  </a:lnTo>
                  <a:lnTo>
                    <a:pt x="1939" y="274"/>
                  </a:lnTo>
                  <a:lnTo>
                    <a:pt x="2043" y="167"/>
                  </a:lnTo>
                  <a:lnTo>
                    <a:pt x="2125" y="75"/>
                  </a:lnTo>
                  <a:lnTo>
                    <a:pt x="2159" y="32"/>
                  </a:lnTo>
                  <a:lnTo>
                    <a:pt x="2187" y="0"/>
                  </a:lnTo>
                </a:path>
              </a:pathLst>
            </a:custGeom>
            <a:noFill/>
            <a:ln cap="rnd" w="507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Rectangle 12"/>
            <p:cNvSpPr/>
            <p:nvPr/>
          </p:nvSpPr>
          <p:spPr>
            <a:xfrm>
              <a:off x="6548400" y="2585880"/>
              <a:ext cx="5364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CM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6" name="Rectangle 19"/>
          <p:cNvSpPr/>
          <p:nvPr/>
        </p:nvSpPr>
        <p:spPr>
          <a:xfrm>
            <a:off x="1520280" y="1593720"/>
            <a:ext cx="507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/Q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7" name="Group 29"/>
          <p:cNvGrpSpPr/>
          <p:nvPr/>
        </p:nvGrpSpPr>
        <p:grpSpPr>
          <a:xfrm>
            <a:off x="1662120" y="1639800"/>
            <a:ext cx="5650920" cy="4664880"/>
            <a:chOff x="1662120" y="1639800"/>
            <a:chExt cx="5650920" cy="4664880"/>
          </a:xfrm>
        </p:grpSpPr>
        <p:sp>
          <p:nvSpPr>
            <p:cNvPr id="1838" name="Rectangle 14"/>
            <p:cNvSpPr/>
            <p:nvPr/>
          </p:nvSpPr>
          <p:spPr>
            <a:xfrm>
              <a:off x="5376600" y="5904000"/>
              <a:ext cx="4557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Line 15"/>
            <p:cNvSpPr/>
            <p:nvPr/>
          </p:nvSpPr>
          <p:spPr>
            <a:xfrm>
              <a:off x="5715000" y="4287960"/>
              <a:ext cx="0" cy="170172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Oval 16"/>
            <p:cNvSpPr/>
            <p:nvPr/>
          </p:nvSpPr>
          <p:spPr>
            <a:xfrm>
              <a:off x="5638680" y="41148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Line 17"/>
            <p:cNvSpPr/>
            <p:nvPr/>
          </p:nvSpPr>
          <p:spPr>
            <a:xfrm flipH="1">
              <a:off x="2198520" y="4191120"/>
              <a:ext cx="34531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Rectangle 18"/>
            <p:cNvSpPr/>
            <p:nvPr/>
          </p:nvSpPr>
          <p:spPr>
            <a:xfrm>
              <a:off x="1662120" y="4033800"/>
              <a:ext cx="4298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Rectangle 24"/>
            <p:cNvSpPr/>
            <p:nvPr/>
          </p:nvSpPr>
          <p:spPr>
            <a:xfrm>
              <a:off x="5383440" y="1639800"/>
              <a:ext cx="1929600" cy="81900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Monopolio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ota: IM = CM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Me &gt; CM; P &gt; CM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4" name="Group 30"/>
          <p:cNvGrpSpPr/>
          <p:nvPr/>
        </p:nvGrpSpPr>
        <p:grpSpPr>
          <a:xfrm>
            <a:off x="1655640" y="2967120"/>
            <a:ext cx="3020040" cy="3358800"/>
            <a:chOff x="1655640" y="2967120"/>
            <a:chExt cx="3020040" cy="3358800"/>
          </a:xfrm>
        </p:grpSpPr>
        <p:sp>
          <p:nvSpPr>
            <p:cNvPr id="1845" name="Oval 13"/>
            <p:cNvSpPr/>
            <p:nvPr/>
          </p:nvSpPr>
          <p:spPr>
            <a:xfrm>
              <a:off x="4419720" y="48006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Line 20"/>
            <p:cNvSpPr/>
            <p:nvPr/>
          </p:nvSpPr>
          <p:spPr>
            <a:xfrm>
              <a:off x="4495680" y="3255840"/>
              <a:ext cx="0" cy="2716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Line 21"/>
            <p:cNvSpPr/>
            <p:nvPr/>
          </p:nvSpPr>
          <p:spPr>
            <a:xfrm flipH="1">
              <a:off x="2198160" y="3200400"/>
              <a:ext cx="2310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Rectangle 22"/>
            <p:cNvSpPr/>
            <p:nvPr/>
          </p:nvSpPr>
          <p:spPr>
            <a:xfrm>
              <a:off x="1655640" y="2967120"/>
              <a:ext cx="422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P*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Rectangle 23"/>
            <p:cNvSpPr/>
            <p:nvPr/>
          </p:nvSpPr>
          <p:spPr>
            <a:xfrm>
              <a:off x="4227480" y="5962680"/>
              <a:ext cx="4482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Q*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Oval 25"/>
            <p:cNvSpPr/>
            <p:nvPr/>
          </p:nvSpPr>
          <p:spPr>
            <a:xfrm>
              <a:off x="4419720" y="31240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1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1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1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1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2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2 – El mon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Rectangle 3"/>
          <p:cNvSpPr/>
          <p:nvPr/>
        </p:nvSpPr>
        <p:spPr>
          <a:xfrm>
            <a:off x="3124080" y="6183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Line 5"/>
          <p:cNvSpPr/>
          <p:nvPr/>
        </p:nvSpPr>
        <p:spPr>
          <a:xfrm>
            <a:off x="2209680" y="1698480"/>
            <a:ext cx="0" cy="426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Rectangle 6"/>
          <p:cNvSpPr/>
          <p:nvPr/>
        </p:nvSpPr>
        <p:spPr>
          <a:xfrm>
            <a:off x="7448040" y="5915160"/>
            <a:ext cx="1159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tida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Rectangle 7"/>
          <p:cNvSpPr/>
          <p:nvPr/>
        </p:nvSpPr>
        <p:spPr>
          <a:xfrm>
            <a:off x="1479240" y="1541520"/>
            <a:ext cx="550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/Q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Line 8"/>
          <p:cNvSpPr/>
          <p:nvPr/>
        </p:nvSpPr>
        <p:spPr>
          <a:xfrm>
            <a:off x="2203560" y="5954760"/>
            <a:ext cx="5749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7" name="Group 28"/>
          <p:cNvGrpSpPr/>
          <p:nvPr/>
        </p:nvGrpSpPr>
        <p:grpSpPr>
          <a:xfrm>
            <a:off x="2770200" y="2184480"/>
            <a:ext cx="4781880" cy="2917800"/>
            <a:chOff x="2770200" y="2184480"/>
            <a:chExt cx="4781880" cy="2917800"/>
          </a:xfrm>
        </p:grpSpPr>
        <p:sp>
          <p:nvSpPr>
            <p:cNvPr id="1858" name="Line 9"/>
            <p:cNvSpPr/>
            <p:nvPr/>
          </p:nvSpPr>
          <p:spPr>
            <a:xfrm>
              <a:off x="2770200" y="2184480"/>
              <a:ext cx="4062240" cy="269064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Rectangle 10"/>
            <p:cNvSpPr/>
            <p:nvPr/>
          </p:nvSpPr>
          <p:spPr>
            <a:xfrm>
              <a:off x="6989760" y="4708440"/>
              <a:ext cx="5623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VM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0" name="Group 27"/>
          <p:cNvGrpSpPr/>
          <p:nvPr/>
        </p:nvGrpSpPr>
        <p:grpSpPr>
          <a:xfrm>
            <a:off x="3075120" y="1771560"/>
            <a:ext cx="4739400" cy="3076200"/>
            <a:chOff x="3075120" y="1771560"/>
            <a:chExt cx="4739400" cy="3076200"/>
          </a:xfrm>
        </p:grpSpPr>
        <p:sp>
          <p:nvSpPr>
            <p:cNvPr id="1861" name="Line 11"/>
            <p:cNvSpPr/>
            <p:nvPr/>
          </p:nvSpPr>
          <p:spPr>
            <a:xfrm flipV="1">
              <a:off x="3075120" y="1828440"/>
              <a:ext cx="2385720" cy="2716200"/>
            </a:xfrm>
            <a:prstGeom prst="line">
              <a:avLst/>
            </a:prstGeom>
            <a:ln w="507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Line 12"/>
            <p:cNvSpPr/>
            <p:nvPr/>
          </p:nvSpPr>
          <p:spPr>
            <a:xfrm flipV="1">
              <a:off x="3151080" y="2943000"/>
              <a:ext cx="3452760" cy="1904760"/>
            </a:xfrm>
            <a:prstGeom prst="line">
              <a:avLst/>
            </a:prstGeom>
            <a:ln w="507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Rectangle 13"/>
            <p:cNvSpPr/>
            <p:nvPr/>
          </p:nvSpPr>
          <p:spPr>
            <a:xfrm>
              <a:off x="5481720" y="1771560"/>
              <a:ext cx="6332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GM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Rectangle 14"/>
            <p:cNvSpPr/>
            <p:nvPr/>
          </p:nvSpPr>
          <p:spPr>
            <a:xfrm>
              <a:off x="6622560" y="2838600"/>
              <a:ext cx="1191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S = GMe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5" name="Group 33"/>
          <p:cNvGrpSpPr/>
          <p:nvPr/>
        </p:nvGrpSpPr>
        <p:grpSpPr>
          <a:xfrm>
            <a:off x="1519200" y="3147840"/>
            <a:ext cx="3141720" cy="3138840"/>
            <a:chOff x="1519200" y="3147840"/>
            <a:chExt cx="3141720" cy="3138840"/>
          </a:xfrm>
        </p:grpSpPr>
        <p:sp>
          <p:nvSpPr>
            <p:cNvPr id="1866" name="Oval 16"/>
            <p:cNvSpPr/>
            <p:nvPr/>
          </p:nvSpPr>
          <p:spPr>
            <a:xfrm>
              <a:off x="4191120" y="314784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Line 15"/>
            <p:cNvSpPr/>
            <p:nvPr/>
          </p:nvSpPr>
          <p:spPr>
            <a:xfrm>
              <a:off x="4267080" y="3238560"/>
              <a:ext cx="0" cy="2716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Rectangle 17"/>
            <p:cNvSpPr/>
            <p:nvPr/>
          </p:nvSpPr>
          <p:spPr>
            <a:xfrm>
              <a:off x="4094280" y="5892840"/>
              <a:ext cx="566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Q*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Line 18"/>
            <p:cNvSpPr/>
            <p:nvPr/>
          </p:nvSpPr>
          <p:spPr>
            <a:xfrm flipH="1">
              <a:off x="2198520" y="4214880"/>
              <a:ext cx="2081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Oval 19"/>
            <p:cNvSpPr/>
            <p:nvPr/>
          </p:nvSpPr>
          <p:spPr>
            <a:xfrm>
              <a:off x="4191120" y="41385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Rectangle 20"/>
            <p:cNvSpPr/>
            <p:nvPr/>
          </p:nvSpPr>
          <p:spPr>
            <a:xfrm>
              <a:off x="1519200" y="3981600"/>
              <a:ext cx="449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P*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2" name="Group 34"/>
          <p:cNvGrpSpPr/>
          <p:nvPr/>
        </p:nvGrpSpPr>
        <p:grpSpPr>
          <a:xfrm>
            <a:off x="1525320" y="1816200"/>
            <a:ext cx="6982200" cy="4512240"/>
            <a:chOff x="1525320" y="1816200"/>
            <a:chExt cx="6982200" cy="4512240"/>
          </a:xfrm>
        </p:grpSpPr>
        <p:sp>
          <p:nvSpPr>
            <p:cNvPr id="1873" name="Line 21"/>
            <p:cNvSpPr/>
            <p:nvPr/>
          </p:nvSpPr>
          <p:spPr>
            <a:xfrm flipH="1">
              <a:off x="2198520" y="3757680"/>
              <a:ext cx="29196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Rectangle 22"/>
            <p:cNvSpPr/>
            <p:nvPr/>
          </p:nvSpPr>
          <p:spPr>
            <a:xfrm>
              <a:off x="1525320" y="3524400"/>
              <a:ext cx="45720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Oval 23"/>
            <p:cNvSpPr/>
            <p:nvPr/>
          </p:nvSpPr>
          <p:spPr>
            <a:xfrm>
              <a:off x="5029200" y="36813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Line 24"/>
            <p:cNvSpPr/>
            <p:nvPr/>
          </p:nvSpPr>
          <p:spPr>
            <a:xfrm>
              <a:off x="5105520" y="3772080"/>
              <a:ext cx="0" cy="218268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Rectangle 25"/>
            <p:cNvSpPr/>
            <p:nvPr/>
          </p:nvSpPr>
          <p:spPr>
            <a:xfrm>
              <a:off x="4871880" y="5892840"/>
              <a:ext cx="56700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Rectangle 26"/>
            <p:cNvSpPr/>
            <p:nvPr/>
          </p:nvSpPr>
          <p:spPr>
            <a:xfrm>
              <a:off x="6534000" y="1816200"/>
              <a:ext cx="1973520" cy="81900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Monopsonio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ota: GM = VM;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M &gt; GMe; VM &gt; P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380880" y="247680"/>
            <a:ext cx="876312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Arial"/>
              </a:rPr>
              <a:t>El monopolio y el monopsonio</a:t>
            </a: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1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1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1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4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2 – El mon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PlaceHolder 1"/>
          <p:cNvSpPr>
            <a:spLocks noGrp="1"/>
          </p:cNvSpPr>
          <p:nvPr>
            <p:ph/>
          </p:nvPr>
        </p:nvSpPr>
        <p:spPr>
          <a:xfrm>
            <a:off x="1142640" y="1719000"/>
            <a:ext cx="3809880" cy="449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Monopolio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IM &lt; P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P &gt; CM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Q</a:t>
            </a:r>
            <a:r>
              <a:rPr b="0" i="1" lang="en-US" sz="2800" spc="-1" strike="noStrike" baseline="-25000">
                <a:solidFill>
                  <a:srgbClr val="262626"/>
                </a:solidFill>
                <a:latin typeface="Arial"/>
              </a:rPr>
              <a:t>m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 &lt; Q</a:t>
            </a:r>
            <a:r>
              <a:rPr b="0" i="1" lang="en-US" sz="2800" spc="-1" strike="noStrike" baseline="-25000">
                <a:solidFill>
                  <a:srgbClr val="262626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P</a:t>
            </a:r>
            <a:r>
              <a:rPr b="0" i="1" lang="en-US" sz="2800" spc="-1" strike="noStrike" baseline="-25000">
                <a:solidFill>
                  <a:srgbClr val="262626"/>
                </a:solidFill>
                <a:latin typeface="Arial"/>
              </a:rPr>
              <a:t>m 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&gt; P</a:t>
            </a:r>
            <a:r>
              <a:rPr b="0" i="1" lang="en-US" sz="2800" spc="-1" strike="noStrike" baseline="-25000">
                <a:solidFill>
                  <a:srgbClr val="262626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2" name="PlaceHolder 2"/>
          <p:cNvSpPr>
            <a:spLocks noGrp="1"/>
          </p:cNvSpPr>
          <p:nvPr>
            <p:ph/>
          </p:nvPr>
        </p:nvSpPr>
        <p:spPr>
          <a:xfrm>
            <a:off x="5105160" y="1719360"/>
            <a:ext cx="3809880" cy="4395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Monopsonio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GM &gt; P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P &lt; VM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Q</a:t>
            </a:r>
            <a:r>
              <a:rPr b="0" i="1" lang="en-US" sz="2800" spc="-1" strike="noStrike" baseline="-25000">
                <a:solidFill>
                  <a:srgbClr val="262626"/>
                </a:solidFill>
                <a:latin typeface="Arial"/>
              </a:rPr>
              <a:t>m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 &lt; Q</a:t>
            </a:r>
            <a:r>
              <a:rPr b="0" i="1" lang="en-US" sz="2800" spc="-1" strike="noStrike" baseline="-25000">
                <a:solidFill>
                  <a:srgbClr val="262626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P</a:t>
            </a:r>
            <a:r>
              <a:rPr b="0" i="1" lang="en-US" sz="2800" spc="-1" strike="noStrike" baseline="-25000">
                <a:solidFill>
                  <a:srgbClr val="262626"/>
                </a:solidFill>
                <a:latin typeface="Arial"/>
              </a:rPr>
              <a:t>m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 &lt; P</a:t>
            </a:r>
            <a:r>
              <a:rPr b="0" i="1" lang="en-US" sz="2800" spc="-1" strike="noStrike" baseline="-25000">
                <a:solidFill>
                  <a:srgbClr val="262626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3" name="PlaceHolder 3"/>
          <p:cNvSpPr>
            <a:spLocks noGrp="1"/>
          </p:cNvSpPr>
          <p:nvPr>
            <p:ph type="title"/>
          </p:nvPr>
        </p:nvSpPr>
        <p:spPr>
          <a:xfrm>
            <a:off x="380880" y="247680"/>
            <a:ext cx="876312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Arial"/>
              </a:rPr>
              <a:t>El monopolio y el monopsonio</a:t>
            </a: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1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18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18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18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500"/>
                                        <p:tgtEl>
                                          <p:spTgt spid="18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500"/>
                                        <p:tgtEl>
                                          <p:spTgt spid="1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500"/>
                                        <p:tgtEl>
                                          <p:spTgt spid="1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500"/>
                                        <p:tgtEl>
                                          <p:spTgt spid="18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18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500"/>
                                        <p:tgtEl>
                                          <p:spTgt spid="18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2 – El mon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El poder de monopsonio</a:t>
            </a:r>
            <a:endParaRPr b="1" lang="en-US" sz="3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ólo unos pocos compradores pueden influir en el precio (por ejemplo: la industria automovilística).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El comprador que tiene poder de monopsonio puede comprar un bien a un precio inferior al valor marginal. 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1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1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2 – El mon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Ingreso total, marginal y medio</a:t>
            </a:r>
            <a:endParaRPr b="1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914040" y="245880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r" pos="395280"/>
                <a:tab algn="r" pos="2000160"/>
                <a:tab algn="r" pos="4000680"/>
                <a:tab algn="r" pos="5600880"/>
                <a:tab algn="r" pos="737244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6$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      0$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---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---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r" pos="395280"/>
                <a:tab algn="r" pos="2000160"/>
                <a:tab algn="r" pos="4000680"/>
                <a:tab algn="r" pos="5600880"/>
                <a:tab algn="r" pos="737244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  5$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5$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r" pos="395280"/>
                <a:tab algn="r" pos="2000160"/>
                <a:tab algn="r" pos="4000680"/>
                <a:tab algn="r" pos="5600880"/>
                <a:tab algn="r" pos="737244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r" pos="395280"/>
                <a:tab algn="r" pos="2000160"/>
                <a:tab algn="r" pos="4000680"/>
                <a:tab algn="r" pos="5600880"/>
                <a:tab algn="r" pos="737244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r" pos="395280"/>
                <a:tab algn="r" pos="2000160"/>
                <a:tab algn="r" pos="4000680"/>
                <a:tab algn="r" pos="5600880"/>
                <a:tab algn="r" pos="737244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r" pos="395280"/>
                <a:tab algn="r" pos="2000160"/>
                <a:tab algn="r" pos="4000680"/>
                <a:tab algn="r" pos="5600880"/>
                <a:tab algn="r" pos="737244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-3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223920" y="1189080"/>
            <a:ext cx="86961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ctr" pos="976320"/>
                <a:tab algn="ctr" pos="2508120"/>
                <a:tab algn="ctr" pos="4390920"/>
                <a:tab algn="ctr" pos="5994360"/>
                <a:tab algn="ctr" pos="77817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gres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gres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gres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976320"/>
                <a:tab algn="ctr" pos="2508120"/>
                <a:tab algn="ctr" pos="4390920"/>
                <a:tab algn="ctr" pos="5994360"/>
                <a:tab algn="ctr" pos="77817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ci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tida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gin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976320"/>
                <a:tab algn="ctr" pos="2508120"/>
                <a:tab algn="ctr" pos="4390920"/>
                <a:tab algn="ctr" pos="5994360"/>
                <a:tab algn="ctr" pos="778176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M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6"/>
          <p:cNvSpPr/>
          <p:nvPr/>
        </p:nvSpPr>
        <p:spPr>
          <a:xfrm>
            <a:off x="744480" y="2438280"/>
            <a:ext cx="8266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2 – El mon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PlaceHolder 1"/>
          <p:cNvSpPr>
            <a:spLocks noGrp="1"/>
          </p:cNvSpPr>
          <p:nvPr>
            <p:ph/>
          </p:nvPr>
        </p:nvSpPr>
        <p:spPr>
          <a:xfrm>
            <a:off x="1142640" y="18288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El grado del poder de monopolio depende de tres factores similares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1)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Elasticidad de la oferta del mercado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2" marL="1143000" indent="-228600">
              <a:spcBef>
                <a:spcPts val="1188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Cuanto menos elástica es la oferta de mercado, mayor es el poder de monopsonio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El poder de monopsonio</a:t>
            </a:r>
            <a:endParaRPr b="1" lang="en-US" sz="34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2 – El mon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PlaceHolder 1"/>
          <p:cNvSpPr>
            <a:spLocks noGrp="1"/>
          </p:cNvSpPr>
          <p:nvPr>
            <p:ph/>
          </p:nvPr>
        </p:nvSpPr>
        <p:spPr>
          <a:xfrm>
            <a:off x="1142640" y="18288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El grado del poder de monopolio depende de tres factores similares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2)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Número de compradores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2" marL="1143000" indent="-228600">
              <a:spcBef>
                <a:spcPts val="1188"/>
              </a:spcBef>
              <a:buClr>
                <a:srgbClr val="666699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62626"/>
                </a:solidFill>
                <a:latin typeface="Arial"/>
              </a:rPr>
              <a:t>Cuanto menor sea el número de compradores, la elasticidad de la oferta será menor y el poder de monopsonio será mayor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El poder de monopsonio</a:t>
            </a:r>
            <a:endParaRPr b="1" lang="en-US" sz="34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2 – El mon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PlaceHolder 1"/>
          <p:cNvSpPr>
            <a:spLocks noGrp="1"/>
          </p:cNvSpPr>
          <p:nvPr>
            <p:ph/>
          </p:nvPr>
        </p:nvSpPr>
        <p:spPr>
          <a:xfrm>
            <a:off x="1142640" y="18288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El grado del poder de monopolio depende de tres factores similares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3)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Relación entre los compradores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2" marL="1143000" indent="-228600">
              <a:spcBef>
                <a:spcPts val="1188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Cuanto menos compitan los compradores entre sí, mayor será el poder de monopsonio. 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El poder de monopsonio</a:t>
            </a:r>
            <a:endParaRPr b="1" lang="en-US" sz="34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Line 15"/>
          <p:cNvSpPr/>
          <p:nvPr/>
        </p:nvSpPr>
        <p:spPr>
          <a:xfrm flipV="1">
            <a:off x="1093680" y="2995200"/>
            <a:ext cx="2919600" cy="615960"/>
          </a:xfrm>
          <a:prstGeom prst="line">
            <a:avLst/>
          </a:prstGeom>
          <a:ln w="507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Line 16"/>
          <p:cNvSpPr/>
          <p:nvPr/>
        </p:nvSpPr>
        <p:spPr>
          <a:xfrm flipV="1">
            <a:off x="1093680" y="3382560"/>
            <a:ext cx="3224160" cy="459000"/>
          </a:xfrm>
          <a:prstGeom prst="line">
            <a:avLst/>
          </a:prstGeom>
          <a:ln w="507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Rectangle 17"/>
          <p:cNvSpPr/>
          <p:nvPr/>
        </p:nvSpPr>
        <p:spPr>
          <a:xfrm>
            <a:off x="4033440" y="2744640"/>
            <a:ext cx="550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Rectangle 18"/>
          <p:cNvSpPr/>
          <p:nvPr/>
        </p:nvSpPr>
        <p:spPr>
          <a:xfrm>
            <a:off x="3958920" y="3430440"/>
            <a:ext cx="987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 = GM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Line 27"/>
          <p:cNvSpPr/>
          <p:nvPr/>
        </p:nvSpPr>
        <p:spPr>
          <a:xfrm flipV="1">
            <a:off x="5894280" y="2597040"/>
            <a:ext cx="2766960" cy="2440080"/>
          </a:xfrm>
          <a:prstGeom prst="line">
            <a:avLst/>
          </a:prstGeom>
          <a:ln w="507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Line 28"/>
          <p:cNvSpPr/>
          <p:nvPr/>
        </p:nvSpPr>
        <p:spPr>
          <a:xfrm flipV="1">
            <a:off x="5589720" y="1809360"/>
            <a:ext cx="1699920" cy="2825640"/>
          </a:xfrm>
          <a:prstGeom prst="line">
            <a:avLst/>
          </a:prstGeom>
          <a:ln w="507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Rectangle 29"/>
          <p:cNvSpPr/>
          <p:nvPr/>
        </p:nvSpPr>
        <p:spPr>
          <a:xfrm>
            <a:off x="7157520" y="1525680"/>
            <a:ext cx="550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Rectangle 30"/>
          <p:cNvSpPr/>
          <p:nvPr/>
        </p:nvSpPr>
        <p:spPr>
          <a:xfrm>
            <a:off x="7900920" y="2211480"/>
            <a:ext cx="987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 = GM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550440" y="277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Arial"/>
              </a:rPr>
              <a:t>El poder de monopsonio:</a:t>
            </a:r>
            <a:br>
              <a:rPr sz="3200"/>
            </a:br>
            <a:r>
              <a:rPr b="1" lang="en-US" sz="3200" spc="-1" strike="noStrike">
                <a:solidFill>
                  <a:srgbClr val="7f7f7f"/>
                </a:solidFill>
                <a:latin typeface="Arial"/>
              </a:rPr>
              <a:t>oferta elástica e inelástica</a:t>
            </a:r>
            <a:endParaRPr b="1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905" name="Line 3"/>
          <p:cNvSpPr/>
          <p:nvPr/>
        </p:nvSpPr>
        <p:spPr>
          <a:xfrm>
            <a:off x="762120" y="2019240"/>
            <a:ext cx="0" cy="3935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Line 4"/>
          <p:cNvSpPr/>
          <p:nvPr/>
        </p:nvSpPr>
        <p:spPr>
          <a:xfrm>
            <a:off x="5029200" y="2019240"/>
            <a:ext cx="0" cy="3935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Line 5"/>
          <p:cNvSpPr/>
          <p:nvPr/>
        </p:nvSpPr>
        <p:spPr>
          <a:xfrm>
            <a:off x="776160" y="5967360"/>
            <a:ext cx="3935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Line 6"/>
          <p:cNvSpPr/>
          <p:nvPr/>
        </p:nvSpPr>
        <p:spPr>
          <a:xfrm>
            <a:off x="5043600" y="5950080"/>
            <a:ext cx="3935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Rectangle 7"/>
          <p:cNvSpPr/>
          <p:nvPr/>
        </p:nvSpPr>
        <p:spPr>
          <a:xfrm>
            <a:off x="3563280" y="5948280"/>
            <a:ext cx="1001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Rectangle 8"/>
          <p:cNvSpPr/>
          <p:nvPr/>
        </p:nvSpPr>
        <p:spPr>
          <a:xfrm>
            <a:off x="7927560" y="5910120"/>
            <a:ext cx="1047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tida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300960" y="1924200"/>
            <a:ext cx="507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/Q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Rectangle 10"/>
          <p:cNvSpPr/>
          <p:nvPr/>
        </p:nvSpPr>
        <p:spPr>
          <a:xfrm>
            <a:off x="4492080" y="1924200"/>
            <a:ext cx="507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/Q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3" name="Group 49"/>
          <p:cNvGrpSpPr/>
          <p:nvPr/>
        </p:nvGrpSpPr>
        <p:grpSpPr>
          <a:xfrm>
            <a:off x="1017720" y="2108160"/>
            <a:ext cx="7639200" cy="3165120"/>
            <a:chOff x="1017720" y="2108160"/>
            <a:chExt cx="7639200" cy="3165120"/>
          </a:xfrm>
        </p:grpSpPr>
        <p:sp>
          <p:nvSpPr>
            <p:cNvPr id="1914" name="Line 11"/>
            <p:cNvSpPr/>
            <p:nvPr/>
          </p:nvSpPr>
          <p:spPr>
            <a:xfrm>
              <a:off x="1017720" y="2108160"/>
              <a:ext cx="2690640" cy="284328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Rectangle 12"/>
            <p:cNvSpPr/>
            <p:nvPr/>
          </p:nvSpPr>
          <p:spPr>
            <a:xfrm>
              <a:off x="3652560" y="4896000"/>
              <a:ext cx="52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M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Line 13"/>
            <p:cNvSpPr/>
            <p:nvPr/>
          </p:nvSpPr>
          <p:spPr>
            <a:xfrm>
              <a:off x="5284800" y="2108160"/>
              <a:ext cx="2843280" cy="291960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Rectangle 14"/>
            <p:cNvSpPr/>
            <p:nvPr/>
          </p:nvSpPr>
          <p:spPr>
            <a:xfrm>
              <a:off x="8132400" y="4910040"/>
              <a:ext cx="52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M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8" name="Group 54"/>
          <p:cNvGrpSpPr/>
          <p:nvPr/>
        </p:nvGrpSpPr>
        <p:grpSpPr>
          <a:xfrm>
            <a:off x="376200" y="2266920"/>
            <a:ext cx="2085120" cy="4012920"/>
            <a:chOff x="376200" y="2266920"/>
            <a:chExt cx="2085120" cy="4012920"/>
          </a:xfrm>
        </p:grpSpPr>
        <p:sp>
          <p:nvSpPr>
            <p:cNvPr id="1919" name="Line 39"/>
            <p:cNvSpPr/>
            <p:nvPr/>
          </p:nvSpPr>
          <p:spPr>
            <a:xfrm>
              <a:off x="914400" y="3390840"/>
              <a:ext cx="0" cy="277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Line 21"/>
            <p:cNvSpPr/>
            <p:nvPr/>
          </p:nvSpPr>
          <p:spPr>
            <a:xfrm flipV="1">
              <a:off x="2209680" y="3371760"/>
              <a:ext cx="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Line 19"/>
            <p:cNvSpPr/>
            <p:nvPr/>
          </p:nvSpPr>
          <p:spPr>
            <a:xfrm>
              <a:off x="2209680" y="3695760"/>
              <a:ext cx="0" cy="2259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Rectangle 20"/>
            <p:cNvSpPr/>
            <p:nvPr/>
          </p:nvSpPr>
          <p:spPr>
            <a:xfrm>
              <a:off x="1900080" y="5916600"/>
              <a:ext cx="4482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*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Oval 22"/>
            <p:cNvSpPr/>
            <p:nvPr/>
          </p:nvSpPr>
          <p:spPr>
            <a:xfrm>
              <a:off x="2133720" y="360504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Oval 23"/>
            <p:cNvSpPr/>
            <p:nvPr/>
          </p:nvSpPr>
          <p:spPr>
            <a:xfrm>
              <a:off x="2133720" y="330048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Line 24"/>
            <p:cNvSpPr/>
            <p:nvPr/>
          </p:nvSpPr>
          <p:spPr>
            <a:xfrm flipH="1">
              <a:off x="750960" y="3376440"/>
              <a:ext cx="139536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Line 25"/>
            <p:cNvSpPr/>
            <p:nvPr/>
          </p:nvSpPr>
          <p:spPr>
            <a:xfrm flipH="1">
              <a:off x="750960" y="3681360"/>
              <a:ext cx="139536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Rectangle 26"/>
            <p:cNvSpPr/>
            <p:nvPr/>
          </p:nvSpPr>
          <p:spPr>
            <a:xfrm>
              <a:off x="376200" y="3524400"/>
              <a:ext cx="422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*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Rectangle 38"/>
            <p:cNvSpPr/>
            <p:nvPr/>
          </p:nvSpPr>
          <p:spPr>
            <a:xfrm>
              <a:off x="1580400" y="2266920"/>
              <a:ext cx="8809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M - P*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Line 40"/>
            <p:cNvSpPr/>
            <p:nvPr/>
          </p:nvSpPr>
          <p:spPr>
            <a:xfrm flipH="1">
              <a:off x="1055160" y="2629080"/>
              <a:ext cx="862200" cy="81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0" name="Group 55"/>
          <p:cNvGrpSpPr/>
          <p:nvPr/>
        </p:nvGrpSpPr>
        <p:grpSpPr>
          <a:xfrm>
            <a:off x="4567320" y="1924200"/>
            <a:ext cx="2048040" cy="4355640"/>
            <a:chOff x="4567320" y="1924200"/>
            <a:chExt cx="2048040" cy="4355640"/>
          </a:xfrm>
        </p:grpSpPr>
        <p:sp>
          <p:nvSpPr>
            <p:cNvPr id="1931" name="Oval 31"/>
            <p:cNvSpPr/>
            <p:nvPr/>
          </p:nvSpPr>
          <p:spPr>
            <a:xfrm>
              <a:off x="6324480" y="322416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Oval 32"/>
            <p:cNvSpPr/>
            <p:nvPr/>
          </p:nvSpPr>
          <p:spPr>
            <a:xfrm>
              <a:off x="6324480" y="4519440"/>
              <a:ext cx="15264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Rectangle 33"/>
            <p:cNvSpPr/>
            <p:nvPr/>
          </p:nvSpPr>
          <p:spPr>
            <a:xfrm>
              <a:off x="4567320" y="4362480"/>
              <a:ext cx="422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*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Line 34"/>
            <p:cNvSpPr/>
            <p:nvPr/>
          </p:nvSpPr>
          <p:spPr>
            <a:xfrm flipH="1">
              <a:off x="5094360" y="3300480"/>
              <a:ext cx="13190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Line 35"/>
            <p:cNvSpPr/>
            <p:nvPr/>
          </p:nvSpPr>
          <p:spPr>
            <a:xfrm>
              <a:off x="6400800" y="3390840"/>
              <a:ext cx="0" cy="2563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Rectangle 36"/>
            <p:cNvSpPr/>
            <p:nvPr/>
          </p:nvSpPr>
          <p:spPr>
            <a:xfrm>
              <a:off x="6167160" y="5916600"/>
              <a:ext cx="4482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*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Line 37"/>
            <p:cNvSpPr/>
            <p:nvPr/>
          </p:nvSpPr>
          <p:spPr>
            <a:xfrm flipH="1">
              <a:off x="5017680" y="4595760"/>
              <a:ext cx="13194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Line 41"/>
            <p:cNvSpPr/>
            <p:nvPr/>
          </p:nvSpPr>
          <p:spPr>
            <a:xfrm>
              <a:off x="5334120" y="3308400"/>
              <a:ext cx="0" cy="12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Rectangle 42"/>
            <p:cNvSpPr/>
            <p:nvPr/>
          </p:nvSpPr>
          <p:spPr>
            <a:xfrm>
              <a:off x="5711040" y="1924200"/>
              <a:ext cx="8809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M - P*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Line 43"/>
            <p:cNvSpPr/>
            <p:nvPr/>
          </p:nvSpPr>
          <p:spPr>
            <a:xfrm flipH="1">
              <a:off x="5398560" y="2324160"/>
              <a:ext cx="862200" cy="1192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1" name="Line 44"/>
          <p:cNvSpPr/>
          <p:nvPr/>
        </p:nvSpPr>
        <p:spPr>
          <a:xfrm>
            <a:off x="349200" y="1047600"/>
            <a:ext cx="8358120" cy="0"/>
          </a:xfrm>
          <a:prstGeom prst="line">
            <a:avLst/>
          </a:prstGeom>
          <a:ln w="38160">
            <a:solidFill>
              <a:srgbClr val="3765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Line 45"/>
          <p:cNvSpPr/>
          <p:nvPr/>
        </p:nvSpPr>
        <p:spPr>
          <a:xfrm>
            <a:off x="519120" y="1154160"/>
            <a:ext cx="8356680" cy="0"/>
          </a:xfrm>
          <a:prstGeom prst="line">
            <a:avLst/>
          </a:prstGeom>
          <a:ln w="38160">
            <a:solidFill>
              <a:srgbClr val="3765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Line 46"/>
          <p:cNvSpPr/>
          <p:nvPr/>
        </p:nvSpPr>
        <p:spPr>
          <a:xfrm>
            <a:off x="349200" y="6281640"/>
            <a:ext cx="8358120" cy="0"/>
          </a:xfrm>
          <a:prstGeom prst="line">
            <a:avLst/>
          </a:prstGeom>
          <a:ln w="38160">
            <a:solidFill>
              <a:srgbClr val="3765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Line 47"/>
          <p:cNvSpPr/>
          <p:nvPr/>
        </p:nvSpPr>
        <p:spPr>
          <a:xfrm>
            <a:off x="519120" y="6440400"/>
            <a:ext cx="8356680" cy="0"/>
          </a:xfrm>
          <a:prstGeom prst="line">
            <a:avLst/>
          </a:prstGeom>
          <a:ln w="38160">
            <a:solidFill>
              <a:srgbClr val="3765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9" dur="500"/>
                                        <p:tgtEl>
                                          <p:spTgt spid="1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500"/>
                                        <p:tgtEl>
                                          <p:spTgt spid="1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1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4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2 – El mon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Rectangle 2"/>
          <p:cNvSpPr/>
          <p:nvPr/>
        </p:nvSpPr>
        <p:spPr>
          <a:xfrm>
            <a:off x="5064120" y="4122720"/>
            <a:ext cx="1488960" cy="3319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AutoShape 3"/>
          <p:cNvSpPr/>
          <p:nvPr/>
        </p:nvSpPr>
        <p:spPr>
          <a:xfrm rot="5400000">
            <a:off x="6590880" y="3948120"/>
            <a:ext cx="381240" cy="609480"/>
          </a:xfrm>
          <a:prstGeom prst="rtTriangl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AutoShape 4"/>
          <p:cNvSpPr/>
          <p:nvPr/>
        </p:nvSpPr>
        <p:spPr>
          <a:xfrm>
            <a:off x="6477120" y="3681360"/>
            <a:ext cx="609480" cy="434880"/>
          </a:xfrm>
          <a:prstGeom prst="rtTriangle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550440" y="277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Arial"/>
              </a:rPr>
              <a:t>La pérdida irrecuperable de eficiencia provocada por el poder de monopsonio</a:t>
            </a:r>
            <a:endParaRPr b="1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495000" y="1424160"/>
            <a:ext cx="3949560" cy="474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74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La pérdida irrecuperable de eficiencia en el monopsonio: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10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Variación del excedente del productor =  </a:t>
            </a:r>
            <a:r>
              <a:rPr b="0" i="1" lang="en-US" sz="2000" spc="-1" strike="noStrike">
                <a:solidFill>
                  <a:srgbClr val="262626"/>
                </a:solidFill>
                <a:latin typeface="Arial"/>
              </a:rPr>
              <a:t>-A-C.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10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Variación del excedente del consumidor = </a:t>
            </a:r>
            <a:r>
              <a:rPr b="0" i="1" lang="en-US" sz="2000" spc="-1" strike="noStrike">
                <a:solidFill>
                  <a:srgbClr val="262626"/>
                </a:solidFill>
                <a:latin typeface="Arial"/>
              </a:rPr>
              <a:t>A - B.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10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Variación del bienestar =              -</a:t>
            </a:r>
            <a:r>
              <a:rPr b="0" i="1" lang="en-US" sz="2000" spc="-1" strike="noStrike">
                <a:solidFill>
                  <a:srgbClr val="262626"/>
                </a:solidFill>
                <a:latin typeface="Arial"/>
              </a:rPr>
              <a:t>A - C + A - B = -C - B.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10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Hay una pérdida irrecuperable de eficiencia porque se produce menos. 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1" name="Line 7"/>
          <p:cNvSpPr/>
          <p:nvPr/>
        </p:nvSpPr>
        <p:spPr>
          <a:xfrm flipH="1">
            <a:off x="5052960" y="4433760"/>
            <a:ext cx="1427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Line 8"/>
          <p:cNvSpPr/>
          <p:nvPr/>
        </p:nvSpPr>
        <p:spPr>
          <a:xfrm>
            <a:off x="5064120" y="2629080"/>
            <a:ext cx="1440" cy="2992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Rectangle 9"/>
          <p:cNvSpPr/>
          <p:nvPr/>
        </p:nvSpPr>
        <p:spPr>
          <a:xfrm>
            <a:off x="7585920" y="5675400"/>
            <a:ext cx="1047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tida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Rectangle 10"/>
          <p:cNvSpPr/>
          <p:nvPr/>
        </p:nvSpPr>
        <p:spPr>
          <a:xfrm>
            <a:off x="4437720" y="2660760"/>
            <a:ext cx="496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$/Q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Line 11"/>
          <p:cNvSpPr/>
          <p:nvPr/>
        </p:nvSpPr>
        <p:spPr>
          <a:xfrm>
            <a:off x="5087880" y="5621400"/>
            <a:ext cx="3176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Line 12"/>
          <p:cNvSpPr/>
          <p:nvPr/>
        </p:nvSpPr>
        <p:spPr>
          <a:xfrm>
            <a:off x="5454720" y="3057480"/>
            <a:ext cx="2754360" cy="1819440"/>
          </a:xfrm>
          <a:prstGeom prst="line">
            <a:avLst/>
          </a:prstGeom>
          <a:ln w="507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Rectangle 13"/>
          <p:cNvSpPr/>
          <p:nvPr/>
        </p:nvSpPr>
        <p:spPr>
          <a:xfrm>
            <a:off x="8321760" y="4842000"/>
            <a:ext cx="822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Line 14"/>
          <p:cNvSpPr/>
          <p:nvPr/>
        </p:nvSpPr>
        <p:spPr>
          <a:xfrm flipV="1">
            <a:off x="5662440" y="2798280"/>
            <a:ext cx="1611360" cy="1868760"/>
          </a:xfrm>
          <a:prstGeom prst="line">
            <a:avLst/>
          </a:prstGeom>
          <a:ln w="507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Line 15"/>
          <p:cNvSpPr/>
          <p:nvPr/>
        </p:nvSpPr>
        <p:spPr>
          <a:xfrm flipV="1">
            <a:off x="5715000" y="3558960"/>
            <a:ext cx="2338560" cy="1314360"/>
          </a:xfrm>
          <a:prstGeom prst="line">
            <a:avLst/>
          </a:prstGeom>
          <a:ln w="507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Rectangle 16"/>
          <p:cNvSpPr/>
          <p:nvPr/>
        </p:nvSpPr>
        <p:spPr>
          <a:xfrm>
            <a:off x="7292880" y="2765520"/>
            <a:ext cx="73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Rectangle 17"/>
          <p:cNvSpPr/>
          <p:nvPr/>
        </p:nvSpPr>
        <p:spPr>
          <a:xfrm>
            <a:off x="8053920" y="3624120"/>
            <a:ext cx="1091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 = G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Line 18"/>
          <p:cNvSpPr/>
          <p:nvPr/>
        </p:nvSpPr>
        <p:spPr>
          <a:xfrm>
            <a:off x="6467400" y="3772080"/>
            <a:ext cx="0" cy="1844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Oval 19"/>
          <p:cNvSpPr/>
          <p:nvPr/>
        </p:nvSpPr>
        <p:spPr>
          <a:xfrm>
            <a:off x="6415200" y="3706920"/>
            <a:ext cx="102960" cy="102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Rectangle 20"/>
          <p:cNvSpPr/>
          <p:nvPr/>
        </p:nvSpPr>
        <p:spPr>
          <a:xfrm>
            <a:off x="6346800" y="5576760"/>
            <a:ext cx="515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Oval 21"/>
          <p:cNvSpPr/>
          <p:nvPr/>
        </p:nvSpPr>
        <p:spPr>
          <a:xfrm>
            <a:off x="6415200" y="4381560"/>
            <a:ext cx="102960" cy="104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Rectangle 22"/>
          <p:cNvSpPr/>
          <p:nvPr/>
        </p:nvSpPr>
        <p:spPr>
          <a:xfrm>
            <a:off x="4591080" y="4346640"/>
            <a:ext cx="422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*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Line 23"/>
          <p:cNvSpPr/>
          <p:nvPr/>
        </p:nvSpPr>
        <p:spPr>
          <a:xfrm flipH="1">
            <a:off x="5052960" y="4122720"/>
            <a:ext cx="2036880" cy="14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Rectangle 24"/>
          <p:cNvSpPr/>
          <p:nvPr/>
        </p:nvSpPr>
        <p:spPr>
          <a:xfrm>
            <a:off x="4597560" y="4033800"/>
            <a:ext cx="4298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Oval 25"/>
          <p:cNvSpPr/>
          <p:nvPr/>
        </p:nvSpPr>
        <p:spPr>
          <a:xfrm>
            <a:off x="6986520" y="4070520"/>
            <a:ext cx="104760" cy="102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Line 26"/>
          <p:cNvSpPr/>
          <p:nvPr/>
        </p:nvSpPr>
        <p:spPr>
          <a:xfrm>
            <a:off x="7039080" y="4137120"/>
            <a:ext cx="0" cy="14796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Rectangle 27"/>
          <p:cNvSpPr/>
          <p:nvPr/>
        </p:nvSpPr>
        <p:spPr>
          <a:xfrm>
            <a:off x="6877080" y="5576760"/>
            <a:ext cx="5191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Rectangle 28"/>
          <p:cNvSpPr/>
          <p:nvPr/>
        </p:nvSpPr>
        <p:spPr>
          <a:xfrm>
            <a:off x="6472080" y="3828960"/>
            <a:ext cx="327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Rectangle 29"/>
          <p:cNvSpPr/>
          <p:nvPr/>
        </p:nvSpPr>
        <p:spPr>
          <a:xfrm>
            <a:off x="6472080" y="4057560"/>
            <a:ext cx="327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Line 30"/>
          <p:cNvSpPr/>
          <p:nvPr/>
        </p:nvSpPr>
        <p:spPr>
          <a:xfrm flipV="1">
            <a:off x="6643800" y="3441600"/>
            <a:ext cx="506160" cy="4809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Line 31"/>
          <p:cNvSpPr/>
          <p:nvPr/>
        </p:nvSpPr>
        <p:spPr>
          <a:xfrm flipH="1">
            <a:off x="6770160" y="3467160"/>
            <a:ext cx="481320" cy="735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Rectangle 32"/>
          <p:cNvSpPr/>
          <p:nvPr/>
        </p:nvSpPr>
        <p:spPr>
          <a:xfrm>
            <a:off x="7081920" y="3090960"/>
            <a:ext cx="20620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érdida irrecuperable de eficienc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2 – El mon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PlaceHolder 1"/>
          <p:cNvSpPr>
            <a:spLocks noGrp="1"/>
          </p:cNvSpPr>
          <p:nvPr>
            <p:ph/>
          </p:nvPr>
        </p:nvSpPr>
        <p:spPr>
          <a:xfrm>
            <a:off x="1143000" y="2160720"/>
            <a:ext cx="7772400" cy="378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El monopolio bilateral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El monopolio bilateral es un caso raro, sin embargo, los mercados en los que unos pocos productores tienen poder de monopolio y venden a unos pocos compradores que tienen poder de monopsonio son más frecuentes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9" name="Text Box 4"/>
          <p:cNvSpPr/>
          <p:nvPr/>
        </p:nvSpPr>
        <p:spPr>
          <a:xfrm>
            <a:off x="306360" y="1407960"/>
            <a:ext cx="7980480" cy="520560"/>
          </a:xfrm>
          <a:prstGeom prst="rect">
            <a:avLst/>
          </a:prstGeom>
          <a:solidFill>
            <a:srgbClr val="d8c0cb"/>
          </a:solidFill>
          <a:ln w="12600">
            <a:solidFill>
              <a:srgbClr val="37654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s costes sociales del poder de monopsoni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PlaceHolder 2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El poder de monopsonio</a:t>
            </a:r>
            <a:endParaRPr b="1" lang="en-US" sz="34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2 – El mon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/>
          </p:nvPr>
        </p:nvSpPr>
        <p:spPr>
          <a:xfrm>
            <a:off x="1143000" y="2160720"/>
            <a:ext cx="7772400" cy="378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0128"/>
                </a:solidFill>
                <a:latin typeface="Arial"/>
              </a:rPr>
              <a:t>Pregunta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En este caso, ¿qué le pasará posiblemente al precio?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El poder de monopsonio</a:t>
            </a:r>
            <a:endParaRPr b="1" lang="en-US" sz="3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984" name="Text Box 7"/>
          <p:cNvSpPr/>
          <p:nvPr/>
        </p:nvSpPr>
        <p:spPr>
          <a:xfrm>
            <a:off x="306360" y="1407960"/>
            <a:ext cx="7980480" cy="520560"/>
          </a:xfrm>
          <a:prstGeom prst="rect">
            <a:avLst/>
          </a:prstGeom>
          <a:solidFill>
            <a:srgbClr val="d8c0cb"/>
          </a:solidFill>
          <a:ln w="12600">
            <a:solidFill>
              <a:srgbClr val="37654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s costes sociales del poder de monopsoni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2 – El mon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550440" y="295200"/>
            <a:ext cx="798372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La limitación del poder de mercado: la legislación antimonopolio</a:t>
            </a:r>
            <a:endParaRPr b="1" lang="en-US" sz="29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971640" y="136368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Leyes antimonopolio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668520" indent="-2570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Fomentan la competencia en la economía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668520" indent="-2570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Conjunto de leyes y reglamentaciones destinadas a fomentar la competencia en la economía: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2" marL="1028520" indent="-205560">
              <a:spcBef>
                <a:spcPts val="1188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Prohibiendo todo lo que la restringe o es probable que la restrinja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2" marL="1028520" indent="-205560">
              <a:spcBef>
                <a:spcPts val="1188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Limitando los tipos de estructura del mercado permitidos. 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2 – El mon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PlaceHolder 1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Ley Sherman (1890)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Artículo 1: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2" marL="1143000" indent="-228600">
              <a:spcBef>
                <a:spcPts val="1188"/>
              </a:spcBef>
              <a:buClr>
                <a:srgbClr val="666699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Prohíbe los contratos, las confabulaciones y las conspiraciones que restrinjan el comercio. 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Un acuerdo explícito para restringir el nivel de producción o fijar un precio.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La colusión implícita en forma de conducta paralela.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0" name="PlaceHolder 2"/>
          <p:cNvSpPr>
            <a:spLocks noGrp="1"/>
          </p:cNvSpPr>
          <p:nvPr>
            <p:ph type="title"/>
          </p:nvPr>
        </p:nvSpPr>
        <p:spPr>
          <a:xfrm>
            <a:off x="550440" y="295200"/>
            <a:ext cx="798372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La limitación del poder de mercado: la legislación antimonopolio</a:t>
            </a:r>
            <a:endParaRPr b="1" lang="en-US" sz="29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2 – El monopol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PlaceHolder 1"/>
          <p:cNvSpPr>
            <a:spLocks noGrp="1"/>
          </p:cNvSpPr>
          <p:nvPr>
            <p:ph/>
          </p:nvPr>
        </p:nvSpPr>
        <p:spPr>
          <a:xfrm>
            <a:off x="1285920" y="2074680"/>
            <a:ext cx="7858080" cy="404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1983: 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1400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Seis empresas y seis ejecutivos fueron condenados por conspirar para fijar el precio de las tuberías de cobre. 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1996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1400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Archer Daniels Midland (ADM) fueron acusados por fijar el precio de lisina (tres ejecutivos fueron condenados a penas de cárcel en 1999)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3" name="Text Box 4"/>
          <p:cNvSpPr/>
          <p:nvPr/>
        </p:nvSpPr>
        <p:spPr>
          <a:xfrm>
            <a:off x="277920" y="1427040"/>
            <a:ext cx="6581520" cy="520560"/>
          </a:xfrm>
          <a:prstGeom prst="rect">
            <a:avLst/>
          </a:prstGeom>
          <a:solidFill>
            <a:srgbClr val="d8c0cb"/>
          </a:solidFill>
          <a:ln w="12600">
            <a:solidFill>
              <a:srgbClr val="37654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jemplos de confabulaciones ilega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 type="title"/>
          </p:nvPr>
        </p:nvSpPr>
        <p:spPr>
          <a:xfrm>
            <a:off x="550440" y="295200"/>
            <a:ext cx="798372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La limitación del poder de mercado: la legislación antimonopolio</a:t>
            </a:r>
            <a:endParaRPr b="1" lang="en-US" sz="29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500"/>
                                        <p:tgtEl>
                                          <p:spTgt spid="19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1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1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7" dur="500"/>
                                        <p:tgtEl>
                                          <p:spTgt spid="1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7-14T00:22:12Z</dcterms:created>
  <dc:creator>Jeff Caldwell</dc:creator>
  <dc:description/>
  <dc:language>en-US</dc:language>
  <cp:lastModifiedBy>AlCAMPO</cp:lastModifiedBy>
  <dcterms:modified xsi:type="dcterms:W3CDTF">2012-10-26T10:41:18Z</dcterms:modified>
  <cp:revision>412</cp:revision>
  <dc:subject/>
  <dc:title>Chapter 1</dc:title>
</cp:coreProperties>
</file>